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4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  <p:sldId id="300" r:id="rId81"/>
    <p:sldId id="301" r:id="rId82"/>
    <p:sldId id="302" r:id="rId83"/>
    <p:sldId id="303" r:id="rId84"/>
    <p:sldId id="304" r:id="rId85"/>
    <p:sldId id="305" r:id="rId86"/>
    <p:sldId id="306" r:id="rId87"/>
    <p:sldId id="307" r:id="rId88"/>
    <p:sldId id="308" r:id="rId89"/>
    <p:sldId id="309" r:id="rId9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slide" Target="slides/slide45.xml"/><Relationship Id="rId82" Type="http://schemas.openxmlformats.org/officeDocument/2006/relationships/slide" Target="slides/slide46.xml"/><Relationship Id="rId83" Type="http://schemas.openxmlformats.org/officeDocument/2006/relationships/slide" Target="slides/slide47.xml"/><Relationship Id="rId84" Type="http://schemas.openxmlformats.org/officeDocument/2006/relationships/slide" Target="slides/slide48.xml"/><Relationship Id="rId85" Type="http://schemas.openxmlformats.org/officeDocument/2006/relationships/slide" Target="slides/slide49.xml"/><Relationship Id="rId86" Type="http://schemas.openxmlformats.org/officeDocument/2006/relationships/slide" Target="slides/slide50.xml"/><Relationship Id="rId87" Type="http://schemas.openxmlformats.org/officeDocument/2006/relationships/slide" Target="slides/slide51.xml"/><Relationship Id="rId88" Type="http://schemas.openxmlformats.org/officeDocument/2006/relationships/slide" Target="slides/slide52.xml"/><Relationship Id="rId89" Type="http://schemas.openxmlformats.org/officeDocument/2006/relationships/slide" Target="slides/slide53.xml"/><Relationship Id="rId90" Type="http://schemas.openxmlformats.org/officeDocument/2006/relationships/slide" Target="slides/slide54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D2662-59FF-48B7-9BE1-DEFDB7BE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like gold, or a picnic bask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known problems, easy to under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147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ts val="11500"/>
              </a:lnSpc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 HHA costs $50.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Random challenge each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perates with a DES key in the HHA and on r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may give dk for redial or tcp! for rlo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No pw over the internet - eavesdropping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500"/>
              </a:lnSpc>
              <a:spcBef>
                <a:spcPts val="2500"/>
              </a:spcBef>
              <a:buClr>
                <a:srgbClr val="0041ff"/>
              </a:buClr>
              <a:buSzPct val="45000"/>
              <a:buFont typeface="Arial"/>
              <a:buChar char=""/>
              <a:tabLst>
                <a:tab algn="l" pos="485640"/>
                <a:tab algn="l" pos="971640"/>
                <a:tab algn="l" pos="145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s are stored on a security server elsew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onnection on the Inter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is usually a PC.  25% of web accesses come from Macintosh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serves one, the server usually serves ma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oints of att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’s right, mostl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ight to think of cryptography as a muni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highway is a vital infrastructure now, and the tools you use daily can be attacked, and defend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olks know that attacks on unclassified hosts can be a big probl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TW,, they can commit acts of w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tub legal advice was that I could too, but I’m not offici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R calls encryption a munition, and I think it is ap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litary kills people and breaks things.   It can now important when a computer gets brok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mostly a defensive mun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sh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attack on the core routing tables a strategic attac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amateurs have gotten the press to d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he Web for ‘rootkit’ to find the netdungeons and seedy byw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exportable is worth it:  real-time attacks defeated, if it takes a weekend for exhaustive search of the keysp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two use secret keys and DE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tage to update our external ftp directory. Could update a web serv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joint ventures problem - smb and I will collaborate this wa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relinquishes permissions, after chroo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publicly available - both companies say release will be easi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7000" y="1592280"/>
            <a:ext cx="6807240" cy="59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ll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ucent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469800" y="1104840"/>
            <a:ext cx="58816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30200" y="936720"/>
            <a:ext cx="5959440" cy="74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858960" y="2637000"/>
            <a:ext cx="497988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28760" y="3382920"/>
            <a:ext cx="600084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curities Research 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bson-United Bld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101 Prescott 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llesley Hills, 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02181-75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7000" y="2268360"/>
            <a:ext cx="6754680" cy="26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’s all the Fu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bout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6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 the Intern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1720" y="438120"/>
            <a:ext cx="5241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edicated sim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731960" y="3044880"/>
            <a:ext cx="2782800" cy="2104920"/>
            <a:chOff x="1731960" y="3044880"/>
            <a:chExt cx="2782800" cy="2104920"/>
          </a:xfrm>
        </p:grpSpPr>
        <p:sp>
          <p:nvSpPr>
            <p:cNvPr id="1340" name=""/>
            <p:cNvSpPr/>
            <p:nvPr/>
          </p:nvSpPr>
          <p:spPr>
            <a:xfrm>
              <a:off x="1731960" y="3044880"/>
              <a:ext cx="2782800" cy="2104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 txBox="1"/>
            <p:nvPr/>
          </p:nvSpPr>
          <p:spPr>
            <a:xfrm>
              <a:off x="2359080" y="3746520"/>
              <a:ext cx="162864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777960" y="438120"/>
            <a:ext cx="530208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 with network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347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4197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648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39625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6576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32004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297180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66688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362320" y="64008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2394000" y="1090440"/>
            <a:ext cx="20574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498600" y="2630520"/>
            <a:ext cx="511488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uns on Ethernet/ATM/FD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with every Unix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can defin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eloped in a nice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vate us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og da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371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 flipH="1" flipV="1">
            <a:off x="1066680" y="5638680"/>
            <a:ext cx="129564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1676520" y="5638680"/>
            <a:ext cx="121896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2286000" y="5638680"/>
            <a:ext cx="129528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2971800" y="5638680"/>
            <a:ext cx="1219320" cy="1600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54120" y="1090440"/>
            <a:ext cx="3736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orly lo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ndors sell flawe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rs don’t fix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ost-ba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ecurity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01680" y="263520"/>
            <a:ext cx="7846920" cy="83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-dgl stream  tcp     nowait  root/rcv        dg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uucp   stream  tcp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statd/1-3  dgram   rpc/udp wait    root    rpc.rstat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lld/1     dgram   rpc/udp wait    root    rpc.rwal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usersd/1   dgram   rpc/udp wait    root    rpc.ruser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quotad/1   dgram   rpc/udp wait    root    rpc.rquot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prayd/1    dgram   rpc/udp wait    root    rpc.spray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bootparam/1 dgram   rpc/udp wait    root    rpc.bootpara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videod/1 stream rpc/tcp wait    root    ?video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fam/1   stream  rpc/tcp wait    root    ?fam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snoopd/1 stream rpc/tcp wait    root    ?rpc.snoop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csd/1  dgram   rpc/udp wait    root    ?cvpcs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gi_pod/1   stream  rpc/tcp wait    root    ?pod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scanner stream tcp nowait root   ?scan/net/scanne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tcpmux/sgi_printer stream tcp nowait root   ?print/printe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  <a:ea typeface="Courier New"/>
              </a:rPr>
              <a:t>9fs           stream tcp   nowait root   /v/bin/u9fs u9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  <a:ea typeface="Courier New"/>
              </a:rPr>
              <a:t>webproxy        stream tcp nowait root /usr/local/etc/webse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1643040" y="1090440"/>
            <a:ext cx="355932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727200" y="2478240"/>
            <a:ext cx="54450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al millio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at rates (``free!’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nymity 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atio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rd to re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leg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h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ts of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anger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98600" y="247824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e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/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web serv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1554120" y="1090440"/>
            <a:ext cx="3736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a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50880" y="2401920"/>
            <a:ext cx="5114880" cy="61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get/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, stel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ercia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niffing 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02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9680" y="51814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1779480" y="1090440"/>
            <a:ext cx="32986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498600" y="2630520"/>
            <a:ext cx="590220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 1M captured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’t choose a good p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ill in wid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en for sysadmin acce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DNS or rout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tt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1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"/>
          <p:cNvSpPr/>
          <p:nvPr/>
        </p:nvSpPr>
        <p:spPr>
          <a:xfrm flipV="1">
            <a:off x="3429000" y="373392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3429000" y="5791320"/>
            <a:ext cx="1905120" cy="60948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P spoof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29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 flipH="1" flipV="1">
            <a:off x="1523880" y="4419720"/>
            <a:ext cx="2057400" cy="27432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CP hij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1439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1523880" y="4419720"/>
            <a:ext cx="1905120" cy="13716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Web Servi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25480" y="251460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1349280" y="2770200"/>
            <a:ext cx="159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825480" y="556272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1461960" y="5818320"/>
            <a:ext cx="137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209680" y="3733920"/>
            <a:ext cx="0" cy="18288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82880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90920" y="3733920"/>
            <a:ext cx="0" cy="18288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901800" y="7238880"/>
            <a:ext cx="2768760" cy="1216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1003320" y="7494480"/>
            <a:ext cx="2443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209680" y="67816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160880" y="7116840"/>
            <a:ext cx="2498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657600" y="7696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300560" y="5592600"/>
            <a:ext cx="1763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657600" y="624852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677880" y="4273560"/>
            <a:ext cx="550548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1717560" y="334800"/>
            <a:ext cx="31194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always a question of 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 is usually inconvenient and isn’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ense in depth is good - 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st be designed in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al security truisms are still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1177920" y="1090440"/>
            <a:ext cx="45021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574560" y="2630520"/>
            <a:ext cx="512748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nential since early 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wth will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a bad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people, more bad g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nets with unsafe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point of control and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layer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dmission that hosts may not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Do you control the whole peri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727200" y="1090440"/>
            <a:ext cx="540396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 Firewall Shiel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st-base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677880" y="2330280"/>
            <a:ext cx="4889520" cy="6237360"/>
            <a:chOff x="677880" y="2330280"/>
            <a:chExt cx="4889520" cy="6237360"/>
          </a:xfrm>
        </p:grpSpPr>
        <p:grpSp>
          <p:nvGrpSpPr>
            <p:cNvPr id="1476" name=""/>
            <p:cNvGrpSpPr/>
            <p:nvPr/>
          </p:nvGrpSpPr>
          <p:grpSpPr>
            <a:xfrm>
              <a:off x="4087800" y="2330280"/>
              <a:ext cx="1479600" cy="5561280"/>
              <a:chOff x="4087800" y="2330280"/>
              <a:chExt cx="1479600" cy="556128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4087800" y="5773680"/>
                <a:ext cx="1479600" cy="978120"/>
                <a:chOff x="4087800" y="5773680"/>
                <a:chExt cx="1479600" cy="978120"/>
              </a:xfrm>
            </p:grpSpPr>
            <p:grpSp>
              <p:nvGrpSpPr>
                <p:cNvPr id="1478" name=""/>
                <p:cNvGrpSpPr/>
                <p:nvPr/>
              </p:nvGrpSpPr>
              <p:grpSpPr>
                <a:xfrm>
                  <a:off x="4487760" y="5773680"/>
                  <a:ext cx="301680" cy="463680"/>
                  <a:chOff x="4487760" y="5773680"/>
                  <a:chExt cx="301680" cy="463680"/>
                </a:xfrm>
              </p:grpSpPr>
              <p:sp>
                <p:nvSpPr>
                  <p:cNvPr id="1479" name=""/>
                  <p:cNvSpPr/>
                  <p:nvPr/>
                </p:nvSpPr>
                <p:spPr>
                  <a:xfrm>
                    <a:off x="4487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45640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 flipV="1">
                    <a:off x="4513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V="1">
                    <a:off x="45514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flipV="1">
                    <a:off x="4600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V="1">
                    <a:off x="4638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5" name=""/>
                <p:cNvGrpSpPr/>
                <p:nvPr/>
              </p:nvGrpSpPr>
              <p:grpSpPr>
                <a:xfrm>
                  <a:off x="4111560" y="5773680"/>
                  <a:ext cx="289080" cy="463680"/>
                  <a:chOff x="4111560" y="5773680"/>
                  <a:chExt cx="289080" cy="46368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4111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41878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V="1">
                    <a:off x="4137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V="1">
                    <a:off x="41752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4224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4262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4863960" y="5773680"/>
                  <a:ext cx="301680" cy="463680"/>
                  <a:chOff x="4863960" y="5773680"/>
                  <a:chExt cx="301680" cy="46368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>
                    <a:off x="4863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4940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 flipV="1">
                    <a:off x="490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V="1">
                    <a:off x="492768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 flipV="1">
                    <a:off x="4976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flipV="1">
                    <a:off x="50277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9" name=""/>
                <p:cNvGrpSpPr/>
                <p:nvPr/>
              </p:nvGrpSpPr>
              <p:grpSpPr>
                <a:xfrm>
                  <a:off x="5214960" y="5773680"/>
                  <a:ext cx="301680" cy="463680"/>
                  <a:chOff x="5214960" y="5773680"/>
                  <a:chExt cx="301680" cy="463680"/>
                </a:xfrm>
              </p:grpSpPr>
              <p:sp>
                <p:nvSpPr>
                  <p:cNvPr id="1500" name=""/>
                  <p:cNvSpPr/>
                  <p:nvPr/>
                </p:nvSpPr>
                <p:spPr>
                  <a:xfrm>
                    <a:off x="521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52912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 flipV="1">
                    <a:off x="5240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V="1">
                    <a:off x="527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flipV="1">
                    <a:off x="532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V="1">
                    <a:off x="5365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4111560" y="6275520"/>
                  <a:ext cx="289080" cy="476280"/>
                  <a:chOff x="4111560" y="6275520"/>
                  <a:chExt cx="289080" cy="47628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>
                    <a:off x="4111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41878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4137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41752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4224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4262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4487760" y="6275520"/>
                  <a:ext cx="301680" cy="476280"/>
                  <a:chOff x="4487760" y="6275520"/>
                  <a:chExt cx="301680" cy="47628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4487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45640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4513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45514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4600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4638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0" name=""/>
                <p:cNvGrpSpPr/>
                <p:nvPr/>
              </p:nvGrpSpPr>
              <p:grpSpPr>
                <a:xfrm>
                  <a:off x="4863960" y="6275520"/>
                  <a:ext cx="301680" cy="476280"/>
                  <a:chOff x="4863960" y="6275520"/>
                  <a:chExt cx="301680" cy="476280"/>
                </a:xfrm>
              </p:grpSpPr>
              <p:sp>
                <p:nvSpPr>
                  <p:cNvPr id="1521" name=""/>
                  <p:cNvSpPr/>
                  <p:nvPr/>
                </p:nvSpPr>
                <p:spPr>
                  <a:xfrm>
                    <a:off x="4863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4940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490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2768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976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502776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7" name=""/>
                <p:cNvGrpSpPr/>
                <p:nvPr/>
              </p:nvGrpSpPr>
              <p:grpSpPr>
                <a:xfrm>
                  <a:off x="5214960" y="6275520"/>
                  <a:ext cx="301680" cy="476280"/>
                  <a:chOff x="5214960" y="6275520"/>
                  <a:chExt cx="301680" cy="476280"/>
                </a:xfrm>
              </p:grpSpPr>
              <p:sp>
                <p:nvSpPr>
                  <p:cNvPr id="1528" name=""/>
                  <p:cNvSpPr/>
                  <p:nvPr/>
                </p:nvSpPr>
                <p:spPr>
                  <a:xfrm>
                    <a:off x="521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52912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240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527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32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5365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4" name=""/>
                <p:cNvSpPr/>
                <p:nvPr/>
              </p:nvSpPr>
              <p:spPr>
                <a:xfrm>
                  <a:off x="40878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4087800" y="2330280"/>
                <a:ext cx="1479600" cy="976320"/>
                <a:chOff x="4087800" y="2330280"/>
                <a:chExt cx="1479600" cy="976320"/>
              </a:xfrm>
            </p:grpSpPr>
            <p:grpSp>
              <p:nvGrpSpPr>
                <p:cNvPr id="1536" name=""/>
                <p:cNvGrpSpPr/>
                <p:nvPr/>
              </p:nvGrpSpPr>
              <p:grpSpPr>
                <a:xfrm>
                  <a:off x="4487760" y="2330280"/>
                  <a:ext cx="301680" cy="474840"/>
                  <a:chOff x="4487760" y="2330280"/>
                  <a:chExt cx="301680" cy="474840"/>
                </a:xfrm>
              </p:grpSpPr>
              <p:sp>
                <p:nvSpPr>
                  <p:cNvPr id="1537" name=""/>
                  <p:cNvSpPr/>
                  <p:nvPr/>
                </p:nvSpPr>
                <p:spPr>
                  <a:xfrm>
                    <a:off x="4487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45640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V="1">
                    <a:off x="4513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flipV="1">
                    <a:off x="45514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 flipV="1">
                    <a:off x="4600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V="1">
                    <a:off x="4638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3" name=""/>
                <p:cNvGrpSpPr/>
                <p:nvPr/>
              </p:nvGrpSpPr>
              <p:grpSpPr>
                <a:xfrm>
                  <a:off x="4111560" y="2330280"/>
                  <a:ext cx="289080" cy="474840"/>
                  <a:chOff x="4111560" y="2330280"/>
                  <a:chExt cx="289080" cy="474840"/>
                </a:xfrm>
              </p:grpSpPr>
              <p:sp>
                <p:nvSpPr>
                  <p:cNvPr id="1544" name=""/>
                  <p:cNvSpPr/>
                  <p:nvPr/>
                </p:nvSpPr>
                <p:spPr>
                  <a:xfrm>
                    <a:off x="4111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41878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V="1">
                    <a:off x="4137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V="1">
                    <a:off x="41752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V="1">
                    <a:off x="4224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V="1">
                    <a:off x="4262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4863960" y="2330280"/>
                  <a:ext cx="301680" cy="474840"/>
                  <a:chOff x="4863960" y="2330280"/>
                  <a:chExt cx="301680" cy="47484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4863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4940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 flipV="1">
                    <a:off x="490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V="1">
                    <a:off x="492768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V="1">
                    <a:off x="4976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V="1">
                    <a:off x="50277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7" name=""/>
                <p:cNvGrpSpPr/>
                <p:nvPr/>
              </p:nvGrpSpPr>
              <p:grpSpPr>
                <a:xfrm>
                  <a:off x="5214960" y="2330280"/>
                  <a:ext cx="301680" cy="474840"/>
                  <a:chOff x="5214960" y="2330280"/>
                  <a:chExt cx="301680" cy="47484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>
                    <a:off x="521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52912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 flipV="1">
                    <a:off x="5240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>
                    <a:off x="527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V="1">
                    <a:off x="532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V="1">
                    <a:off x="5365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4" name=""/>
                <p:cNvGrpSpPr/>
                <p:nvPr/>
              </p:nvGrpSpPr>
              <p:grpSpPr>
                <a:xfrm>
                  <a:off x="4111560" y="2843280"/>
                  <a:ext cx="289080" cy="463320"/>
                  <a:chOff x="4111560" y="2843280"/>
                  <a:chExt cx="289080" cy="46332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>
                    <a:off x="4111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41878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4137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41752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4224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262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1" name=""/>
                <p:cNvGrpSpPr/>
                <p:nvPr/>
              </p:nvGrpSpPr>
              <p:grpSpPr>
                <a:xfrm>
                  <a:off x="4487760" y="2843280"/>
                  <a:ext cx="301680" cy="463320"/>
                  <a:chOff x="4487760" y="2843280"/>
                  <a:chExt cx="301680" cy="46332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>
                    <a:off x="4487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45640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513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45514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4600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638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8" name=""/>
                <p:cNvGrpSpPr/>
                <p:nvPr/>
              </p:nvGrpSpPr>
              <p:grpSpPr>
                <a:xfrm>
                  <a:off x="4863960" y="2843280"/>
                  <a:ext cx="301680" cy="463320"/>
                  <a:chOff x="4863960" y="2843280"/>
                  <a:chExt cx="301680" cy="46332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4863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4940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490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492768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976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502776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5" name=""/>
                <p:cNvGrpSpPr/>
                <p:nvPr/>
              </p:nvGrpSpPr>
              <p:grpSpPr>
                <a:xfrm>
                  <a:off x="5214960" y="2843280"/>
                  <a:ext cx="301680" cy="463320"/>
                  <a:chOff x="5214960" y="2843280"/>
                  <a:chExt cx="301680" cy="46332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521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52912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5240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527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532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5365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2" name=""/>
                <p:cNvSpPr/>
                <p:nvPr/>
              </p:nvSpPr>
              <p:spPr>
                <a:xfrm>
                  <a:off x="40878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4087800" y="3483000"/>
                <a:ext cx="1479600" cy="976320"/>
                <a:chOff x="4087800" y="3483000"/>
                <a:chExt cx="1479600" cy="976320"/>
              </a:xfrm>
            </p:grpSpPr>
            <p:grpSp>
              <p:nvGrpSpPr>
                <p:cNvPr id="1594" name=""/>
                <p:cNvGrpSpPr/>
                <p:nvPr/>
              </p:nvGrpSpPr>
              <p:grpSpPr>
                <a:xfrm>
                  <a:off x="4487760" y="3483000"/>
                  <a:ext cx="301680" cy="461880"/>
                  <a:chOff x="4487760" y="3483000"/>
                  <a:chExt cx="301680" cy="46188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487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5640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V="1">
                    <a:off x="4513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>
                    <a:off x="45514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V="1">
                    <a:off x="4600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 flipV="1">
                    <a:off x="4638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"/>
                <p:cNvGrpSpPr/>
                <p:nvPr/>
              </p:nvGrpSpPr>
              <p:grpSpPr>
                <a:xfrm>
                  <a:off x="4111560" y="3483000"/>
                  <a:ext cx="289080" cy="461880"/>
                  <a:chOff x="4111560" y="3483000"/>
                  <a:chExt cx="289080" cy="461880"/>
                </a:xfrm>
              </p:grpSpPr>
              <p:sp>
                <p:nvSpPr>
                  <p:cNvPr id="1602" name=""/>
                  <p:cNvSpPr/>
                  <p:nvPr/>
                </p:nvSpPr>
                <p:spPr>
                  <a:xfrm>
                    <a:off x="4111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41878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>
                    <a:off x="4137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 flipV="1">
                    <a:off x="41752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 flipV="1">
                    <a:off x="4224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V="1">
                    <a:off x="4262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4863960" y="3483000"/>
                  <a:ext cx="301680" cy="461880"/>
                  <a:chOff x="4863960" y="3483000"/>
                  <a:chExt cx="301680" cy="46188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4863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4940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V="1">
                    <a:off x="490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 flipV="1">
                    <a:off x="492768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V="1">
                    <a:off x="4976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V="1">
                    <a:off x="50277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5" name=""/>
                <p:cNvGrpSpPr/>
                <p:nvPr/>
              </p:nvGrpSpPr>
              <p:grpSpPr>
                <a:xfrm>
                  <a:off x="5214960" y="3483000"/>
                  <a:ext cx="301680" cy="461880"/>
                  <a:chOff x="5214960" y="3483000"/>
                  <a:chExt cx="301680" cy="4618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521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52912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 flipV="1">
                    <a:off x="5240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V="1">
                    <a:off x="527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V="1">
                    <a:off x="532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5365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2" name=""/>
                <p:cNvGrpSpPr/>
                <p:nvPr/>
              </p:nvGrpSpPr>
              <p:grpSpPr>
                <a:xfrm>
                  <a:off x="4111560" y="3983040"/>
                  <a:ext cx="289080" cy="476280"/>
                  <a:chOff x="4111560" y="3983040"/>
                  <a:chExt cx="289080" cy="47628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>
                    <a:off x="4111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41878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4137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41752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4224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4262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4487760" y="3983040"/>
                  <a:ext cx="301680" cy="476280"/>
                  <a:chOff x="4487760" y="3983040"/>
                  <a:chExt cx="301680" cy="47628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>
                    <a:off x="4487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45640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4513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45514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4600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4638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4863960" y="3983040"/>
                  <a:ext cx="301680" cy="476280"/>
                  <a:chOff x="4863960" y="3983040"/>
                  <a:chExt cx="301680" cy="47628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>
                    <a:off x="4863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4940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90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92768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4976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02776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5214960" y="3983040"/>
                  <a:ext cx="301680" cy="476280"/>
                  <a:chOff x="5214960" y="3983040"/>
                  <a:chExt cx="301680" cy="47628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>
                    <a:off x="521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52912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5240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527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32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5365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0" name=""/>
                <p:cNvSpPr/>
                <p:nvPr/>
              </p:nvSpPr>
              <p:spPr>
                <a:xfrm>
                  <a:off x="40878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"/>
              <p:cNvGrpSpPr/>
              <p:nvPr/>
            </p:nvGrpSpPr>
            <p:grpSpPr>
              <a:xfrm>
                <a:off x="4087800" y="4622760"/>
                <a:ext cx="1479600" cy="976320"/>
                <a:chOff x="4087800" y="4622760"/>
                <a:chExt cx="1479600" cy="976320"/>
              </a:xfrm>
            </p:grpSpPr>
            <p:grpSp>
              <p:nvGrpSpPr>
                <p:cNvPr id="1652" name=""/>
                <p:cNvGrpSpPr/>
                <p:nvPr/>
              </p:nvGrpSpPr>
              <p:grpSpPr>
                <a:xfrm>
                  <a:off x="4487760" y="4622760"/>
                  <a:ext cx="301680" cy="474840"/>
                  <a:chOff x="4487760" y="4622760"/>
                  <a:chExt cx="301680" cy="474840"/>
                </a:xfrm>
              </p:grpSpPr>
              <p:sp>
                <p:nvSpPr>
                  <p:cNvPr id="1653" name=""/>
                  <p:cNvSpPr/>
                  <p:nvPr/>
                </p:nvSpPr>
                <p:spPr>
                  <a:xfrm>
                    <a:off x="4487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45640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V="1">
                    <a:off x="4513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V="1">
                    <a:off x="45514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V="1">
                    <a:off x="4600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V="1">
                    <a:off x="4638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4111560" y="4622760"/>
                  <a:ext cx="289080" cy="474840"/>
                  <a:chOff x="4111560" y="4622760"/>
                  <a:chExt cx="289080" cy="47484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>
                    <a:off x="4111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41878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V="1">
                    <a:off x="4137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V="1">
                    <a:off x="41752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V="1">
                    <a:off x="4224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V="1">
                    <a:off x="4262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"/>
                <p:cNvGrpSpPr/>
                <p:nvPr/>
              </p:nvGrpSpPr>
              <p:grpSpPr>
                <a:xfrm>
                  <a:off x="4863960" y="4622760"/>
                  <a:ext cx="301680" cy="474840"/>
                  <a:chOff x="4863960" y="4622760"/>
                  <a:chExt cx="301680" cy="474840"/>
                </a:xfrm>
              </p:grpSpPr>
              <p:sp>
                <p:nvSpPr>
                  <p:cNvPr id="1667" name=""/>
                  <p:cNvSpPr/>
                  <p:nvPr/>
                </p:nvSpPr>
                <p:spPr>
                  <a:xfrm>
                    <a:off x="4863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4940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490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V="1">
                    <a:off x="492768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V="1">
                    <a:off x="4976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V="1">
                    <a:off x="50277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3" name=""/>
                <p:cNvGrpSpPr/>
                <p:nvPr/>
              </p:nvGrpSpPr>
              <p:grpSpPr>
                <a:xfrm>
                  <a:off x="5214960" y="4622760"/>
                  <a:ext cx="301680" cy="474840"/>
                  <a:chOff x="5214960" y="4622760"/>
                  <a:chExt cx="301680" cy="47484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>
                    <a:off x="521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52912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V="1">
                    <a:off x="5240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V="1">
                    <a:off x="527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V="1">
                    <a:off x="532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V="1">
                    <a:off x="5365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0" name=""/>
                <p:cNvGrpSpPr/>
                <p:nvPr/>
              </p:nvGrpSpPr>
              <p:grpSpPr>
                <a:xfrm>
                  <a:off x="4111560" y="5135400"/>
                  <a:ext cx="289080" cy="463680"/>
                  <a:chOff x="4111560" y="5135400"/>
                  <a:chExt cx="289080" cy="46368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>
                    <a:off x="4111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41878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4137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41752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4224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4262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7" name=""/>
                <p:cNvGrpSpPr/>
                <p:nvPr/>
              </p:nvGrpSpPr>
              <p:grpSpPr>
                <a:xfrm>
                  <a:off x="4487760" y="5135400"/>
                  <a:ext cx="301680" cy="463680"/>
                  <a:chOff x="4487760" y="5135400"/>
                  <a:chExt cx="301680" cy="46368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>
                    <a:off x="4487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45640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4513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45514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4600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4638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4863960" y="5135400"/>
                  <a:ext cx="301680" cy="463680"/>
                  <a:chOff x="4863960" y="5135400"/>
                  <a:chExt cx="301680" cy="46368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4863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4940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490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492768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4976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502776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1" name=""/>
                <p:cNvGrpSpPr/>
                <p:nvPr/>
              </p:nvGrpSpPr>
              <p:grpSpPr>
                <a:xfrm>
                  <a:off x="5214960" y="5135400"/>
                  <a:ext cx="301680" cy="463680"/>
                  <a:chOff x="5214960" y="5135400"/>
                  <a:chExt cx="301680" cy="463680"/>
                </a:xfrm>
              </p:grpSpPr>
              <p:sp>
                <p:nvSpPr>
                  <p:cNvPr id="1702" name=""/>
                  <p:cNvSpPr/>
                  <p:nvPr/>
                </p:nvSpPr>
                <p:spPr>
                  <a:xfrm>
                    <a:off x="521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52912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240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527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532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5365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8" name=""/>
                <p:cNvSpPr/>
                <p:nvPr/>
              </p:nvSpPr>
              <p:spPr>
                <a:xfrm>
                  <a:off x="40878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9" name=""/>
              <p:cNvGrpSpPr/>
              <p:nvPr/>
            </p:nvGrpSpPr>
            <p:grpSpPr>
              <a:xfrm>
                <a:off x="4087800" y="6915240"/>
                <a:ext cx="1479600" cy="976320"/>
                <a:chOff x="4087800" y="6915240"/>
                <a:chExt cx="1479600" cy="976320"/>
              </a:xfrm>
            </p:grpSpPr>
            <p:grpSp>
              <p:nvGrpSpPr>
                <p:cNvPr id="1710" name=""/>
                <p:cNvGrpSpPr/>
                <p:nvPr/>
              </p:nvGrpSpPr>
              <p:grpSpPr>
                <a:xfrm>
                  <a:off x="4487760" y="6915240"/>
                  <a:ext cx="301680" cy="474480"/>
                  <a:chOff x="4487760" y="6915240"/>
                  <a:chExt cx="301680" cy="474480"/>
                </a:xfrm>
              </p:grpSpPr>
              <p:sp>
                <p:nvSpPr>
                  <p:cNvPr id="1711" name=""/>
                  <p:cNvSpPr/>
                  <p:nvPr/>
                </p:nvSpPr>
                <p:spPr>
                  <a:xfrm>
                    <a:off x="4487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45640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V="1">
                    <a:off x="4513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V="1">
                    <a:off x="45514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V="1">
                    <a:off x="4600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flipV="1">
                    <a:off x="4638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7" name=""/>
                <p:cNvGrpSpPr/>
                <p:nvPr/>
              </p:nvGrpSpPr>
              <p:grpSpPr>
                <a:xfrm>
                  <a:off x="4111560" y="6915240"/>
                  <a:ext cx="289080" cy="474480"/>
                  <a:chOff x="4111560" y="6915240"/>
                  <a:chExt cx="289080" cy="474480"/>
                </a:xfrm>
              </p:grpSpPr>
              <p:sp>
                <p:nvSpPr>
                  <p:cNvPr id="1718" name=""/>
                  <p:cNvSpPr/>
                  <p:nvPr/>
                </p:nvSpPr>
                <p:spPr>
                  <a:xfrm>
                    <a:off x="4111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1878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V="1">
                    <a:off x="4137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flipV="1">
                    <a:off x="41752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V="1">
                    <a:off x="4224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V="1">
                    <a:off x="4262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4863960" y="6915240"/>
                  <a:ext cx="301680" cy="474480"/>
                  <a:chOff x="4863960" y="6915240"/>
                  <a:chExt cx="301680" cy="47448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>
                    <a:off x="4863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940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490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V="1">
                    <a:off x="492768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4976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flipV="1">
                    <a:off x="50277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5214960" y="6915240"/>
                  <a:ext cx="301680" cy="474480"/>
                  <a:chOff x="5214960" y="6915240"/>
                  <a:chExt cx="301680" cy="47448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521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2912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flipV="1">
                    <a:off x="5240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V="1">
                    <a:off x="527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 flipV="1">
                    <a:off x="532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flipV="1">
                    <a:off x="5365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8" name=""/>
                <p:cNvGrpSpPr/>
                <p:nvPr/>
              </p:nvGrpSpPr>
              <p:grpSpPr>
                <a:xfrm>
                  <a:off x="4111560" y="7427880"/>
                  <a:ext cx="289080" cy="463680"/>
                  <a:chOff x="4111560" y="7427880"/>
                  <a:chExt cx="289080" cy="46368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>
                    <a:off x="4111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41878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4137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41752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4224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4262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4487760" y="7427880"/>
                  <a:ext cx="301680" cy="463680"/>
                  <a:chOff x="4487760" y="7427880"/>
                  <a:chExt cx="301680" cy="46368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>
                    <a:off x="4487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45640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4513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45514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600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638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2" name=""/>
                <p:cNvGrpSpPr/>
                <p:nvPr/>
              </p:nvGrpSpPr>
              <p:grpSpPr>
                <a:xfrm>
                  <a:off x="4863960" y="7427880"/>
                  <a:ext cx="301680" cy="463680"/>
                  <a:chOff x="4863960" y="7427880"/>
                  <a:chExt cx="301680" cy="46368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>
                    <a:off x="4863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4940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490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92768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976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02776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5214960" y="7427880"/>
                  <a:ext cx="301680" cy="463680"/>
                  <a:chOff x="5214960" y="7427880"/>
                  <a:chExt cx="301680" cy="46368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>
                    <a:off x="521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52912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5240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527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532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365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6" name=""/>
                <p:cNvSpPr/>
                <p:nvPr/>
              </p:nvSpPr>
              <p:spPr>
                <a:xfrm>
                  <a:off x="40878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2508120" y="2330280"/>
              <a:ext cx="1478160" cy="5561280"/>
              <a:chOff x="2508120" y="2330280"/>
              <a:chExt cx="1478160" cy="5561280"/>
            </a:xfrm>
          </p:grpSpPr>
          <p:grpSp>
            <p:nvGrpSpPr>
              <p:cNvPr id="1768" name=""/>
              <p:cNvGrpSpPr/>
              <p:nvPr/>
            </p:nvGrpSpPr>
            <p:grpSpPr>
              <a:xfrm>
                <a:off x="2508120" y="5773680"/>
                <a:ext cx="1478160" cy="978120"/>
                <a:chOff x="2508120" y="5773680"/>
                <a:chExt cx="1478160" cy="978120"/>
              </a:xfrm>
            </p:grpSpPr>
            <p:grpSp>
              <p:nvGrpSpPr>
                <p:cNvPr id="1769" name=""/>
                <p:cNvGrpSpPr/>
                <p:nvPr/>
              </p:nvGrpSpPr>
              <p:grpSpPr>
                <a:xfrm>
                  <a:off x="2908440" y="5773680"/>
                  <a:ext cx="301680" cy="463680"/>
                  <a:chOff x="2908440" y="5773680"/>
                  <a:chExt cx="301680" cy="46368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29084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29844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 flipV="1">
                    <a:off x="29336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 flipV="1">
                    <a:off x="2971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V="1">
                    <a:off x="3021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V="1">
                    <a:off x="30592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2532240" y="5773680"/>
                  <a:ext cx="289080" cy="463680"/>
                  <a:chOff x="2532240" y="5773680"/>
                  <a:chExt cx="289080" cy="46368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253224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26082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 flipV="1">
                    <a:off x="25574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V="1">
                    <a:off x="25956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26449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26827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3284640" y="5773680"/>
                  <a:ext cx="301680" cy="463680"/>
                  <a:chOff x="3284640" y="5773680"/>
                  <a:chExt cx="301680" cy="46368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>
                    <a:off x="328464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336060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V="1">
                    <a:off x="33228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 flipV="1">
                    <a:off x="3348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 flipV="1">
                    <a:off x="33973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V="1">
                    <a:off x="344808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3635280" y="5773680"/>
                  <a:ext cx="301680" cy="463680"/>
                  <a:chOff x="3635280" y="5773680"/>
                  <a:chExt cx="301680" cy="46368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>
                    <a:off x="363528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371160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flipV="1">
                    <a:off x="366084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flipV="1">
                    <a:off x="369900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flipV="1">
                    <a:off x="374796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378612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7" name=""/>
                <p:cNvGrpSpPr/>
                <p:nvPr/>
              </p:nvGrpSpPr>
              <p:grpSpPr>
                <a:xfrm>
                  <a:off x="2532240" y="6275520"/>
                  <a:ext cx="289080" cy="476280"/>
                  <a:chOff x="2532240" y="6275520"/>
                  <a:chExt cx="289080" cy="476280"/>
                </a:xfrm>
              </p:grpSpPr>
              <p:sp>
                <p:nvSpPr>
                  <p:cNvPr id="1798" name=""/>
                  <p:cNvSpPr/>
                  <p:nvPr/>
                </p:nvSpPr>
                <p:spPr>
                  <a:xfrm>
                    <a:off x="253224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26082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25574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25956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26449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26827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2908440" y="6275520"/>
                  <a:ext cx="301680" cy="476280"/>
                  <a:chOff x="2908440" y="6275520"/>
                  <a:chExt cx="301680" cy="47628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>
                    <a:off x="29084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29844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29336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2971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30211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30592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1" name=""/>
                <p:cNvGrpSpPr/>
                <p:nvPr/>
              </p:nvGrpSpPr>
              <p:grpSpPr>
                <a:xfrm>
                  <a:off x="3284640" y="6275520"/>
                  <a:ext cx="301680" cy="476280"/>
                  <a:chOff x="3284640" y="6275520"/>
                  <a:chExt cx="301680" cy="476280"/>
                </a:xfrm>
              </p:grpSpPr>
              <p:sp>
                <p:nvSpPr>
                  <p:cNvPr id="1812" name=""/>
                  <p:cNvSpPr/>
                  <p:nvPr/>
                </p:nvSpPr>
                <p:spPr>
                  <a:xfrm>
                    <a:off x="328464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336060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33228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3348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339732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344808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8" name=""/>
                <p:cNvGrpSpPr/>
                <p:nvPr/>
              </p:nvGrpSpPr>
              <p:grpSpPr>
                <a:xfrm>
                  <a:off x="3635280" y="6275520"/>
                  <a:ext cx="301680" cy="476280"/>
                  <a:chOff x="3635280" y="6275520"/>
                  <a:chExt cx="301680" cy="476280"/>
                </a:xfrm>
              </p:grpSpPr>
              <p:sp>
                <p:nvSpPr>
                  <p:cNvPr id="1819" name=""/>
                  <p:cNvSpPr/>
                  <p:nvPr/>
                </p:nvSpPr>
                <p:spPr>
                  <a:xfrm>
                    <a:off x="363528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371160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366084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369900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374796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378612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5" name=""/>
                <p:cNvSpPr/>
                <p:nvPr/>
              </p:nvSpPr>
              <p:spPr>
                <a:xfrm>
                  <a:off x="2508120" y="624996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2508120" y="2330280"/>
                <a:ext cx="1478160" cy="976320"/>
                <a:chOff x="2508120" y="2330280"/>
                <a:chExt cx="1478160" cy="976320"/>
              </a:xfrm>
            </p:grpSpPr>
            <p:grpSp>
              <p:nvGrpSpPr>
                <p:cNvPr id="1827" name=""/>
                <p:cNvGrpSpPr/>
                <p:nvPr/>
              </p:nvGrpSpPr>
              <p:grpSpPr>
                <a:xfrm>
                  <a:off x="2908440" y="2330280"/>
                  <a:ext cx="301680" cy="474840"/>
                  <a:chOff x="2908440" y="2330280"/>
                  <a:chExt cx="301680" cy="47484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29084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9844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V="1">
                    <a:off x="29336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V="1">
                    <a:off x="2971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3021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V="1">
                    <a:off x="30592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4" name=""/>
                <p:cNvGrpSpPr/>
                <p:nvPr/>
              </p:nvGrpSpPr>
              <p:grpSpPr>
                <a:xfrm>
                  <a:off x="2532240" y="2330280"/>
                  <a:ext cx="289080" cy="474840"/>
                  <a:chOff x="2532240" y="2330280"/>
                  <a:chExt cx="289080" cy="474840"/>
                </a:xfrm>
              </p:grpSpPr>
              <p:sp>
                <p:nvSpPr>
                  <p:cNvPr id="1835" name=""/>
                  <p:cNvSpPr/>
                  <p:nvPr/>
                </p:nvSpPr>
                <p:spPr>
                  <a:xfrm>
                    <a:off x="253224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6082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 flipV="1">
                    <a:off x="25574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 flipV="1">
                    <a:off x="25956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 flipV="1">
                    <a:off x="26449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26827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1" name=""/>
                <p:cNvGrpSpPr/>
                <p:nvPr/>
              </p:nvGrpSpPr>
              <p:grpSpPr>
                <a:xfrm>
                  <a:off x="3284640" y="2330280"/>
                  <a:ext cx="301680" cy="474840"/>
                  <a:chOff x="3284640" y="2330280"/>
                  <a:chExt cx="301680" cy="474840"/>
                </a:xfrm>
              </p:grpSpPr>
              <p:sp>
                <p:nvSpPr>
                  <p:cNvPr id="1842" name=""/>
                  <p:cNvSpPr/>
                  <p:nvPr/>
                </p:nvSpPr>
                <p:spPr>
                  <a:xfrm>
                    <a:off x="328464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336060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flipV="1">
                    <a:off x="33228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V="1">
                    <a:off x="3348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V="1">
                    <a:off x="33973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flipV="1">
                    <a:off x="344808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8" name=""/>
                <p:cNvGrpSpPr/>
                <p:nvPr/>
              </p:nvGrpSpPr>
              <p:grpSpPr>
                <a:xfrm>
                  <a:off x="3635280" y="2330280"/>
                  <a:ext cx="301680" cy="474840"/>
                  <a:chOff x="3635280" y="2330280"/>
                  <a:chExt cx="301680" cy="474840"/>
                </a:xfrm>
              </p:grpSpPr>
              <p:sp>
                <p:nvSpPr>
                  <p:cNvPr id="1849" name=""/>
                  <p:cNvSpPr/>
                  <p:nvPr/>
                </p:nvSpPr>
                <p:spPr>
                  <a:xfrm>
                    <a:off x="363528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371160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V="1">
                    <a:off x="366084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V="1">
                    <a:off x="369900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 flipV="1">
                    <a:off x="374796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V="1">
                    <a:off x="378612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2532240" y="2843280"/>
                  <a:ext cx="289080" cy="463320"/>
                  <a:chOff x="2532240" y="2843280"/>
                  <a:chExt cx="289080" cy="46332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>
                    <a:off x="253224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26082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25574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25956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26449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26827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2" name=""/>
                <p:cNvGrpSpPr/>
                <p:nvPr/>
              </p:nvGrpSpPr>
              <p:grpSpPr>
                <a:xfrm>
                  <a:off x="2908440" y="2843280"/>
                  <a:ext cx="301680" cy="463320"/>
                  <a:chOff x="2908440" y="2843280"/>
                  <a:chExt cx="301680" cy="46332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29084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29844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9336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2971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0211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0592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9" name=""/>
                <p:cNvGrpSpPr/>
                <p:nvPr/>
              </p:nvGrpSpPr>
              <p:grpSpPr>
                <a:xfrm>
                  <a:off x="3284640" y="2843280"/>
                  <a:ext cx="301680" cy="463320"/>
                  <a:chOff x="3284640" y="2843280"/>
                  <a:chExt cx="301680" cy="463320"/>
                </a:xfrm>
              </p:grpSpPr>
              <p:sp>
                <p:nvSpPr>
                  <p:cNvPr id="1870" name=""/>
                  <p:cNvSpPr/>
                  <p:nvPr/>
                </p:nvSpPr>
                <p:spPr>
                  <a:xfrm>
                    <a:off x="328464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336060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33228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348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339732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344808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6" name=""/>
                <p:cNvGrpSpPr/>
                <p:nvPr/>
              </p:nvGrpSpPr>
              <p:grpSpPr>
                <a:xfrm>
                  <a:off x="3635280" y="2843280"/>
                  <a:ext cx="301680" cy="463320"/>
                  <a:chOff x="3635280" y="2843280"/>
                  <a:chExt cx="301680" cy="463320"/>
                </a:xfrm>
              </p:grpSpPr>
              <p:sp>
                <p:nvSpPr>
                  <p:cNvPr id="1877" name=""/>
                  <p:cNvSpPr/>
                  <p:nvPr/>
                </p:nvSpPr>
                <p:spPr>
                  <a:xfrm>
                    <a:off x="363528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371160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366084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369900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374796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378612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3" name=""/>
                <p:cNvSpPr/>
                <p:nvPr/>
              </p:nvSpPr>
              <p:spPr>
                <a:xfrm>
                  <a:off x="2508120" y="281772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4" name=""/>
              <p:cNvGrpSpPr/>
              <p:nvPr/>
            </p:nvGrpSpPr>
            <p:grpSpPr>
              <a:xfrm>
                <a:off x="2508120" y="3483000"/>
                <a:ext cx="1478160" cy="976320"/>
                <a:chOff x="2508120" y="3483000"/>
                <a:chExt cx="1478160" cy="976320"/>
              </a:xfrm>
            </p:grpSpPr>
            <p:grpSp>
              <p:nvGrpSpPr>
                <p:cNvPr id="1885" name=""/>
                <p:cNvGrpSpPr/>
                <p:nvPr/>
              </p:nvGrpSpPr>
              <p:grpSpPr>
                <a:xfrm>
                  <a:off x="2908440" y="3483000"/>
                  <a:ext cx="301680" cy="461880"/>
                  <a:chOff x="2908440" y="3483000"/>
                  <a:chExt cx="301680" cy="46188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>
                    <a:off x="29084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29844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V="1">
                    <a:off x="29336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 flipV="1">
                    <a:off x="2971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 flipV="1">
                    <a:off x="3021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 flipV="1">
                    <a:off x="30592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2" name=""/>
                <p:cNvGrpSpPr/>
                <p:nvPr/>
              </p:nvGrpSpPr>
              <p:grpSpPr>
                <a:xfrm>
                  <a:off x="2532240" y="3483000"/>
                  <a:ext cx="289080" cy="461880"/>
                  <a:chOff x="2532240" y="3483000"/>
                  <a:chExt cx="289080" cy="461880"/>
                </a:xfrm>
              </p:grpSpPr>
              <p:sp>
                <p:nvSpPr>
                  <p:cNvPr id="1893" name=""/>
                  <p:cNvSpPr/>
                  <p:nvPr/>
                </p:nvSpPr>
                <p:spPr>
                  <a:xfrm>
                    <a:off x="253224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26082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25574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 flipV="1">
                    <a:off x="25956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flipV="1">
                    <a:off x="26449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flipV="1">
                    <a:off x="26827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9" name=""/>
                <p:cNvGrpSpPr/>
                <p:nvPr/>
              </p:nvGrpSpPr>
              <p:grpSpPr>
                <a:xfrm>
                  <a:off x="3284640" y="3483000"/>
                  <a:ext cx="301680" cy="461880"/>
                  <a:chOff x="3284640" y="3483000"/>
                  <a:chExt cx="301680" cy="46188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328464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336060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V="1">
                    <a:off x="33228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flipV="1">
                    <a:off x="3348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flipV="1">
                    <a:off x="33973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 flipV="1">
                    <a:off x="344808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3635280" y="3483000"/>
                  <a:ext cx="301680" cy="461880"/>
                  <a:chOff x="3635280" y="3483000"/>
                  <a:chExt cx="301680" cy="461880"/>
                </a:xfrm>
              </p:grpSpPr>
              <p:sp>
                <p:nvSpPr>
                  <p:cNvPr id="1907" name=""/>
                  <p:cNvSpPr/>
                  <p:nvPr/>
                </p:nvSpPr>
                <p:spPr>
                  <a:xfrm>
                    <a:off x="363528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371160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 flipV="1">
                    <a:off x="366084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 flipV="1">
                    <a:off x="369900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 flipV="1">
                    <a:off x="374796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V="1">
                    <a:off x="378612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3" name=""/>
                <p:cNvGrpSpPr/>
                <p:nvPr/>
              </p:nvGrpSpPr>
              <p:grpSpPr>
                <a:xfrm>
                  <a:off x="2532240" y="3983040"/>
                  <a:ext cx="289080" cy="476280"/>
                  <a:chOff x="2532240" y="3983040"/>
                  <a:chExt cx="289080" cy="476280"/>
                </a:xfrm>
              </p:grpSpPr>
              <p:sp>
                <p:nvSpPr>
                  <p:cNvPr id="1914" name=""/>
                  <p:cNvSpPr/>
                  <p:nvPr/>
                </p:nvSpPr>
                <p:spPr>
                  <a:xfrm>
                    <a:off x="253224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26082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25574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25956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26449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26827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0" name=""/>
                <p:cNvGrpSpPr/>
                <p:nvPr/>
              </p:nvGrpSpPr>
              <p:grpSpPr>
                <a:xfrm>
                  <a:off x="2908440" y="3983040"/>
                  <a:ext cx="301680" cy="476280"/>
                  <a:chOff x="2908440" y="3983040"/>
                  <a:chExt cx="301680" cy="476280"/>
                </a:xfrm>
              </p:grpSpPr>
              <p:sp>
                <p:nvSpPr>
                  <p:cNvPr id="1921" name=""/>
                  <p:cNvSpPr/>
                  <p:nvPr/>
                </p:nvSpPr>
                <p:spPr>
                  <a:xfrm>
                    <a:off x="29084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29844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29336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2971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30211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30592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3284640" y="3983040"/>
                  <a:ext cx="301680" cy="476280"/>
                  <a:chOff x="3284640" y="3983040"/>
                  <a:chExt cx="301680" cy="476280"/>
                </a:xfrm>
              </p:grpSpPr>
              <p:sp>
                <p:nvSpPr>
                  <p:cNvPr id="1928" name=""/>
                  <p:cNvSpPr/>
                  <p:nvPr/>
                </p:nvSpPr>
                <p:spPr>
                  <a:xfrm>
                    <a:off x="328464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336060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33228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3348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339732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344808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4" name=""/>
                <p:cNvGrpSpPr/>
                <p:nvPr/>
              </p:nvGrpSpPr>
              <p:grpSpPr>
                <a:xfrm>
                  <a:off x="3635280" y="3983040"/>
                  <a:ext cx="301680" cy="476280"/>
                  <a:chOff x="3635280" y="3983040"/>
                  <a:chExt cx="301680" cy="476280"/>
                </a:xfrm>
              </p:grpSpPr>
              <p:sp>
                <p:nvSpPr>
                  <p:cNvPr id="1935" name=""/>
                  <p:cNvSpPr/>
                  <p:nvPr/>
                </p:nvSpPr>
                <p:spPr>
                  <a:xfrm>
                    <a:off x="363528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371160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366084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369900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374796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378612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1" name=""/>
                <p:cNvSpPr/>
                <p:nvPr/>
              </p:nvSpPr>
              <p:spPr>
                <a:xfrm>
                  <a:off x="2508120" y="39574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508120" y="4622760"/>
                <a:ext cx="1478160" cy="976320"/>
                <a:chOff x="2508120" y="4622760"/>
                <a:chExt cx="1478160" cy="976320"/>
              </a:xfrm>
            </p:grpSpPr>
            <p:grpSp>
              <p:nvGrpSpPr>
                <p:cNvPr id="1943" name=""/>
                <p:cNvGrpSpPr/>
                <p:nvPr/>
              </p:nvGrpSpPr>
              <p:grpSpPr>
                <a:xfrm>
                  <a:off x="2908440" y="4622760"/>
                  <a:ext cx="301680" cy="474840"/>
                  <a:chOff x="2908440" y="4622760"/>
                  <a:chExt cx="301680" cy="47484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29084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9844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V="1">
                    <a:off x="29336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V="1">
                    <a:off x="2971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V="1">
                    <a:off x="3021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 flipV="1">
                    <a:off x="30592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0" name=""/>
                <p:cNvGrpSpPr/>
                <p:nvPr/>
              </p:nvGrpSpPr>
              <p:grpSpPr>
                <a:xfrm>
                  <a:off x="2532240" y="4622760"/>
                  <a:ext cx="289080" cy="474840"/>
                  <a:chOff x="2532240" y="4622760"/>
                  <a:chExt cx="289080" cy="47484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253224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26082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V="1">
                    <a:off x="25574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V="1">
                    <a:off x="25956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 flipV="1">
                    <a:off x="26449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V="1">
                    <a:off x="26827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3284640" y="4622760"/>
                  <a:ext cx="301680" cy="474840"/>
                  <a:chOff x="3284640" y="4622760"/>
                  <a:chExt cx="301680" cy="4748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328464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36060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V="1">
                    <a:off x="33228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 flipV="1">
                    <a:off x="3348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V="1">
                    <a:off x="33973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 flipV="1">
                    <a:off x="344808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4" name=""/>
                <p:cNvGrpSpPr/>
                <p:nvPr/>
              </p:nvGrpSpPr>
              <p:grpSpPr>
                <a:xfrm>
                  <a:off x="3635280" y="4622760"/>
                  <a:ext cx="301680" cy="474840"/>
                  <a:chOff x="3635280" y="4622760"/>
                  <a:chExt cx="301680" cy="47484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>
                    <a:off x="363528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371160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flipV="1">
                    <a:off x="366084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flipV="1">
                    <a:off x="369900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flipV="1">
                    <a:off x="374796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flipV="1">
                    <a:off x="378612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1" name=""/>
                <p:cNvGrpSpPr/>
                <p:nvPr/>
              </p:nvGrpSpPr>
              <p:grpSpPr>
                <a:xfrm>
                  <a:off x="2532240" y="5135400"/>
                  <a:ext cx="289080" cy="463680"/>
                  <a:chOff x="2532240" y="5135400"/>
                  <a:chExt cx="289080" cy="46368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>
                    <a:off x="253224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6082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25574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25956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26449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26827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"/>
                <p:cNvGrpSpPr/>
                <p:nvPr/>
              </p:nvGrpSpPr>
              <p:grpSpPr>
                <a:xfrm>
                  <a:off x="2908440" y="5135400"/>
                  <a:ext cx="301680" cy="463680"/>
                  <a:chOff x="2908440" y="5135400"/>
                  <a:chExt cx="301680" cy="46368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29084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29844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29336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2971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0211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0592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5" name=""/>
                <p:cNvGrpSpPr/>
                <p:nvPr/>
              </p:nvGrpSpPr>
              <p:grpSpPr>
                <a:xfrm>
                  <a:off x="3284640" y="5135400"/>
                  <a:ext cx="301680" cy="463680"/>
                  <a:chOff x="3284640" y="5135400"/>
                  <a:chExt cx="301680" cy="46368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>
                    <a:off x="328464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336060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33228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348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39732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44808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"/>
                <p:cNvGrpSpPr/>
                <p:nvPr/>
              </p:nvGrpSpPr>
              <p:grpSpPr>
                <a:xfrm>
                  <a:off x="3635280" y="5135400"/>
                  <a:ext cx="301680" cy="463680"/>
                  <a:chOff x="3635280" y="5135400"/>
                  <a:chExt cx="301680" cy="463680"/>
                </a:xfrm>
              </p:grpSpPr>
              <p:sp>
                <p:nvSpPr>
                  <p:cNvPr id="1993" name=""/>
                  <p:cNvSpPr/>
                  <p:nvPr/>
                </p:nvSpPr>
                <p:spPr>
                  <a:xfrm>
                    <a:off x="363528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371160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366084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369900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374796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378612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9" name=""/>
                <p:cNvSpPr/>
                <p:nvPr/>
              </p:nvSpPr>
              <p:spPr>
                <a:xfrm>
                  <a:off x="2508120" y="511020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0" name=""/>
              <p:cNvGrpSpPr/>
              <p:nvPr/>
            </p:nvGrpSpPr>
            <p:grpSpPr>
              <a:xfrm>
                <a:off x="2508120" y="6915240"/>
                <a:ext cx="1478160" cy="976320"/>
                <a:chOff x="2508120" y="6915240"/>
                <a:chExt cx="1478160" cy="976320"/>
              </a:xfrm>
            </p:grpSpPr>
            <p:grpSp>
              <p:nvGrpSpPr>
                <p:cNvPr id="2001" name=""/>
                <p:cNvGrpSpPr/>
                <p:nvPr/>
              </p:nvGrpSpPr>
              <p:grpSpPr>
                <a:xfrm>
                  <a:off x="2908440" y="6915240"/>
                  <a:ext cx="301680" cy="474480"/>
                  <a:chOff x="2908440" y="6915240"/>
                  <a:chExt cx="301680" cy="47448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29084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29844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29336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 flipV="1">
                    <a:off x="2971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V="1">
                    <a:off x="3021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V="1">
                    <a:off x="30592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2532240" y="6915240"/>
                  <a:ext cx="289080" cy="474480"/>
                  <a:chOff x="2532240" y="6915240"/>
                  <a:chExt cx="289080" cy="47448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253224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26082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V="1">
                    <a:off x="25574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V="1">
                    <a:off x="25956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V="1">
                    <a:off x="26449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V="1">
                    <a:off x="26827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5" name=""/>
                <p:cNvGrpSpPr/>
                <p:nvPr/>
              </p:nvGrpSpPr>
              <p:grpSpPr>
                <a:xfrm>
                  <a:off x="3284640" y="6915240"/>
                  <a:ext cx="301680" cy="474480"/>
                  <a:chOff x="3284640" y="6915240"/>
                  <a:chExt cx="301680" cy="47448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328464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336060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33228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V="1">
                    <a:off x="3348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33973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V="1">
                    <a:off x="344808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3635280" y="6915240"/>
                  <a:ext cx="301680" cy="474480"/>
                  <a:chOff x="3635280" y="6915240"/>
                  <a:chExt cx="301680" cy="47448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>
                    <a:off x="363528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371160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V="1">
                    <a:off x="366084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V="1">
                    <a:off x="369900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V="1">
                    <a:off x="374796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 flipV="1">
                    <a:off x="378612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9" name=""/>
                <p:cNvGrpSpPr/>
                <p:nvPr/>
              </p:nvGrpSpPr>
              <p:grpSpPr>
                <a:xfrm>
                  <a:off x="2532240" y="7427880"/>
                  <a:ext cx="289080" cy="463680"/>
                  <a:chOff x="2532240" y="7427880"/>
                  <a:chExt cx="289080" cy="46368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253224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26082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5574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5956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26449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26827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6" name=""/>
                <p:cNvGrpSpPr/>
                <p:nvPr/>
              </p:nvGrpSpPr>
              <p:grpSpPr>
                <a:xfrm>
                  <a:off x="2908440" y="7427880"/>
                  <a:ext cx="301680" cy="463680"/>
                  <a:chOff x="2908440" y="7427880"/>
                  <a:chExt cx="301680" cy="463680"/>
                </a:xfrm>
              </p:grpSpPr>
              <p:sp>
                <p:nvSpPr>
                  <p:cNvPr id="2037" name=""/>
                  <p:cNvSpPr/>
                  <p:nvPr/>
                </p:nvSpPr>
                <p:spPr>
                  <a:xfrm>
                    <a:off x="29084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29844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29336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2971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30211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30592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3284640" y="7427880"/>
                  <a:ext cx="301680" cy="463680"/>
                  <a:chOff x="3284640" y="7427880"/>
                  <a:chExt cx="301680" cy="46368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328464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336060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33228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3348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339732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344808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3635280" y="7427880"/>
                  <a:ext cx="301680" cy="463680"/>
                  <a:chOff x="3635280" y="7427880"/>
                  <a:chExt cx="301680" cy="46368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363528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371160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366084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369900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374796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378612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7" name=""/>
                <p:cNvSpPr/>
                <p:nvPr/>
              </p:nvSpPr>
              <p:spPr>
                <a:xfrm>
                  <a:off x="2508120" y="7402680"/>
                  <a:ext cx="14781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8" name=""/>
            <p:cNvGrpSpPr/>
            <p:nvPr/>
          </p:nvGrpSpPr>
          <p:grpSpPr>
            <a:xfrm>
              <a:off x="927000" y="2330280"/>
              <a:ext cx="1479600" cy="5561280"/>
              <a:chOff x="927000" y="2330280"/>
              <a:chExt cx="1479600" cy="5561280"/>
            </a:xfrm>
          </p:grpSpPr>
          <p:grpSp>
            <p:nvGrpSpPr>
              <p:cNvPr id="2059" name=""/>
              <p:cNvGrpSpPr/>
              <p:nvPr/>
            </p:nvGrpSpPr>
            <p:grpSpPr>
              <a:xfrm>
                <a:off x="927000" y="5773680"/>
                <a:ext cx="1479600" cy="978120"/>
                <a:chOff x="927000" y="5773680"/>
                <a:chExt cx="1479600" cy="978120"/>
              </a:xfrm>
            </p:grpSpPr>
            <p:grpSp>
              <p:nvGrpSpPr>
                <p:cNvPr id="2060" name=""/>
                <p:cNvGrpSpPr/>
                <p:nvPr/>
              </p:nvGrpSpPr>
              <p:grpSpPr>
                <a:xfrm>
                  <a:off x="1328760" y="5773680"/>
                  <a:ext cx="301680" cy="463680"/>
                  <a:chOff x="1328760" y="5773680"/>
                  <a:chExt cx="301680" cy="463680"/>
                </a:xfrm>
              </p:grpSpPr>
              <p:sp>
                <p:nvSpPr>
                  <p:cNvPr id="2061" name=""/>
                  <p:cNvSpPr/>
                  <p:nvPr/>
                </p:nvSpPr>
                <p:spPr>
                  <a:xfrm>
                    <a:off x="13287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4050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V="1">
                    <a:off x="13539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 flipV="1">
                    <a:off x="1392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 flipV="1">
                    <a:off x="14414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V="1">
                    <a:off x="14796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952560" y="5773680"/>
                  <a:ext cx="289080" cy="463680"/>
                  <a:chOff x="952560" y="5773680"/>
                  <a:chExt cx="289080" cy="46368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952560" y="5773680"/>
                    <a:ext cx="2890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102888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 flipV="1">
                    <a:off x="9777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 flipV="1">
                    <a:off x="10159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V="1">
                    <a:off x="10652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1103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4" name=""/>
                <p:cNvGrpSpPr/>
                <p:nvPr/>
              </p:nvGrpSpPr>
              <p:grpSpPr>
                <a:xfrm>
                  <a:off x="1704960" y="5773680"/>
                  <a:ext cx="301680" cy="463680"/>
                  <a:chOff x="1704960" y="5773680"/>
                  <a:chExt cx="301680" cy="463680"/>
                </a:xfrm>
              </p:grpSpPr>
              <p:sp>
                <p:nvSpPr>
                  <p:cNvPr id="2075" name=""/>
                  <p:cNvSpPr/>
                  <p:nvPr/>
                </p:nvSpPr>
                <p:spPr>
                  <a:xfrm>
                    <a:off x="1704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1779480" y="585000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 flipV="1">
                    <a:off x="17431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V="1">
                    <a:off x="1768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V="1">
                    <a:off x="1817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V="1">
                    <a:off x="18684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1" name=""/>
                <p:cNvGrpSpPr/>
                <p:nvPr/>
              </p:nvGrpSpPr>
              <p:grpSpPr>
                <a:xfrm>
                  <a:off x="2055960" y="5773680"/>
                  <a:ext cx="301680" cy="463680"/>
                  <a:chOff x="2055960" y="5773680"/>
                  <a:chExt cx="301680" cy="463680"/>
                </a:xfrm>
              </p:grpSpPr>
              <p:sp>
                <p:nvSpPr>
                  <p:cNvPr id="2082" name=""/>
                  <p:cNvSpPr/>
                  <p:nvPr/>
                </p:nvSpPr>
                <p:spPr>
                  <a:xfrm>
                    <a:off x="2055960" y="5773680"/>
                    <a:ext cx="301680" cy="41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2131920" y="585000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V="1">
                    <a:off x="208116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flipV="1">
                    <a:off x="2119320" y="617544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flipV="1">
                    <a:off x="216864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V="1">
                    <a:off x="2206800" y="6087960"/>
                    <a:ext cx="0" cy="1494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952560" y="6275520"/>
                  <a:ext cx="289080" cy="476280"/>
                  <a:chOff x="952560" y="6275520"/>
                  <a:chExt cx="289080" cy="47628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>
                    <a:off x="952560" y="633888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10288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9777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10159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10652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1103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5" name=""/>
                <p:cNvGrpSpPr/>
                <p:nvPr/>
              </p:nvGrpSpPr>
              <p:grpSpPr>
                <a:xfrm>
                  <a:off x="1328760" y="6275520"/>
                  <a:ext cx="301680" cy="476280"/>
                  <a:chOff x="1328760" y="6275520"/>
                  <a:chExt cx="301680" cy="4762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13287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140508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13539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1392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14414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14796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2" name=""/>
                <p:cNvGrpSpPr/>
                <p:nvPr/>
              </p:nvGrpSpPr>
              <p:grpSpPr>
                <a:xfrm>
                  <a:off x="1704960" y="6275520"/>
                  <a:ext cx="301680" cy="476280"/>
                  <a:chOff x="1704960" y="6275520"/>
                  <a:chExt cx="301680" cy="476280"/>
                </a:xfrm>
              </p:grpSpPr>
              <p:sp>
                <p:nvSpPr>
                  <p:cNvPr id="2103" name=""/>
                  <p:cNvSpPr/>
                  <p:nvPr/>
                </p:nvSpPr>
                <p:spPr>
                  <a:xfrm>
                    <a:off x="1704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1779480" y="64263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17431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1768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1817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18684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9" name=""/>
                <p:cNvGrpSpPr/>
                <p:nvPr/>
              </p:nvGrpSpPr>
              <p:grpSpPr>
                <a:xfrm>
                  <a:off x="2055960" y="6275520"/>
                  <a:ext cx="301680" cy="476280"/>
                  <a:chOff x="2055960" y="6275520"/>
                  <a:chExt cx="301680" cy="47628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2055960" y="633888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2131920" y="64263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208116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2119320" y="627552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168640" y="627552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2206800" y="628812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6" name=""/>
                <p:cNvSpPr/>
                <p:nvPr/>
              </p:nvSpPr>
              <p:spPr>
                <a:xfrm>
                  <a:off x="927000" y="624996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927000" y="2330280"/>
                <a:ext cx="1479600" cy="976320"/>
                <a:chOff x="927000" y="2330280"/>
                <a:chExt cx="1479600" cy="976320"/>
              </a:xfrm>
            </p:grpSpPr>
            <p:grpSp>
              <p:nvGrpSpPr>
                <p:cNvPr id="2118" name=""/>
                <p:cNvGrpSpPr/>
                <p:nvPr/>
              </p:nvGrpSpPr>
              <p:grpSpPr>
                <a:xfrm>
                  <a:off x="1328760" y="2330280"/>
                  <a:ext cx="301680" cy="474840"/>
                  <a:chOff x="1328760" y="2330280"/>
                  <a:chExt cx="301680" cy="474840"/>
                </a:xfrm>
              </p:grpSpPr>
              <p:sp>
                <p:nvSpPr>
                  <p:cNvPr id="2119" name=""/>
                  <p:cNvSpPr/>
                  <p:nvPr/>
                </p:nvSpPr>
                <p:spPr>
                  <a:xfrm>
                    <a:off x="13287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14050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V="1">
                    <a:off x="13539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flipV="1">
                    <a:off x="1392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flipV="1">
                    <a:off x="14414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V="1">
                    <a:off x="14796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5" name=""/>
                <p:cNvGrpSpPr/>
                <p:nvPr/>
              </p:nvGrpSpPr>
              <p:grpSpPr>
                <a:xfrm>
                  <a:off x="952560" y="2330280"/>
                  <a:ext cx="289080" cy="474840"/>
                  <a:chOff x="952560" y="2330280"/>
                  <a:chExt cx="289080" cy="47484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952560" y="233028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102888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flipV="1">
                    <a:off x="9777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V="1">
                    <a:off x="10159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V="1">
                    <a:off x="10652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V="1">
                    <a:off x="1103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2" name=""/>
                <p:cNvGrpSpPr/>
                <p:nvPr/>
              </p:nvGrpSpPr>
              <p:grpSpPr>
                <a:xfrm>
                  <a:off x="1704960" y="2330280"/>
                  <a:ext cx="301680" cy="474840"/>
                  <a:chOff x="1704960" y="2330280"/>
                  <a:chExt cx="301680" cy="474840"/>
                </a:xfrm>
              </p:grpSpPr>
              <p:sp>
                <p:nvSpPr>
                  <p:cNvPr id="2133" name=""/>
                  <p:cNvSpPr/>
                  <p:nvPr/>
                </p:nvSpPr>
                <p:spPr>
                  <a:xfrm>
                    <a:off x="1704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1779480" y="240516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17431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flipV="1">
                    <a:off x="1768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V="1">
                    <a:off x="1817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V="1">
                    <a:off x="18684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9" name=""/>
                <p:cNvGrpSpPr/>
                <p:nvPr/>
              </p:nvGrpSpPr>
              <p:grpSpPr>
                <a:xfrm>
                  <a:off x="2055960" y="2330280"/>
                  <a:ext cx="301680" cy="474840"/>
                  <a:chOff x="2055960" y="2330280"/>
                  <a:chExt cx="301680" cy="47484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2055960" y="233028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2131920" y="240516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V="1">
                    <a:off x="208116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2119320" y="27432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V="1">
                    <a:off x="216864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2206800" y="264312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952560" y="2843280"/>
                  <a:ext cx="289080" cy="463320"/>
                  <a:chOff x="952560" y="2843280"/>
                  <a:chExt cx="289080" cy="463320"/>
                </a:xfrm>
              </p:grpSpPr>
              <p:sp>
                <p:nvSpPr>
                  <p:cNvPr id="2147" name=""/>
                  <p:cNvSpPr/>
                  <p:nvPr/>
                </p:nvSpPr>
                <p:spPr>
                  <a:xfrm>
                    <a:off x="952560" y="290664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10288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9777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0159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10652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103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1328760" y="2843280"/>
                  <a:ext cx="301680" cy="463320"/>
                  <a:chOff x="1328760" y="2843280"/>
                  <a:chExt cx="301680" cy="46332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13287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40508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3539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392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14414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14796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0" name=""/>
                <p:cNvGrpSpPr/>
                <p:nvPr/>
              </p:nvGrpSpPr>
              <p:grpSpPr>
                <a:xfrm>
                  <a:off x="1704960" y="2843280"/>
                  <a:ext cx="301680" cy="463320"/>
                  <a:chOff x="1704960" y="2843280"/>
                  <a:chExt cx="301680" cy="463320"/>
                </a:xfrm>
              </p:grpSpPr>
              <p:sp>
                <p:nvSpPr>
                  <p:cNvPr id="2161" name=""/>
                  <p:cNvSpPr/>
                  <p:nvPr/>
                </p:nvSpPr>
                <p:spPr>
                  <a:xfrm>
                    <a:off x="1704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1779480" y="29941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17431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1768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1817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18684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7" name=""/>
                <p:cNvGrpSpPr/>
                <p:nvPr/>
              </p:nvGrpSpPr>
              <p:grpSpPr>
                <a:xfrm>
                  <a:off x="2055960" y="2843280"/>
                  <a:ext cx="301680" cy="463320"/>
                  <a:chOff x="2055960" y="2843280"/>
                  <a:chExt cx="301680" cy="46332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>
                    <a:off x="2055960" y="290664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2131920" y="29941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208116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2119320" y="28432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2168640" y="28432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2206800" y="28558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4" name=""/>
                <p:cNvSpPr/>
                <p:nvPr/>
              </p:nvSpPr>
              <p:spPr>
                <a:xfrm>
                  <a:off x="927000" y="281772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927000" y="3483000"/>
                <a:ext cx="1479600" cy="976320"/>
                <a:chOff x="927000" y="3483000"/>
                <a:chExt cx="1479600" cy="976320"/>
              </a:xfrm>
            </p:grpSpPr>
            <p:grpSp>
              <p:nvGrpSpPr>
                <p:cNvPr id="2176" name=""/>
                <p:cNvGrpSpPr/>
                <p:nvPr/>
              </p:nvGrpSpPr>
              <p:grpSpPr>
                <a:xfrm>
                  <a:off x="1328760" y="3483000"/>
                  <a:ext cx="301680" cy="461880"/>
                  <a:chOff x="1328760" y="3483000"/>
                  <a:chExt cx="301680" cy="461880"/>
                </a:xfrm>
              </p:grpSpPr>
              <p:sp>
                <p:nvSpPr>
                  <p:cNvPr id="2177" name=""/>
                  <p:cNvSpPr/>
                  <p:nvPr/>
                </p:nvSpPr>
                <p:spPr>
                  <a:xfrm>
                    <a:off x="13287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4050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V="1">
                    <a:off x="13539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>
                    <a:off x="1392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>
                    <a:off x="14414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flipV="1">
                    <a:off x="14796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3" name=""/>
                <p:cNvGrpSpPr/>
                <p:nvPr/>
              </p:nvGrpSpPr>
              <p:grpSpPr>
                <a:xfrm>
                  <a:off x="952560" y="3483000"/>
                  <a:ext cx="289080" cy="461880"/>
                  <a:chOff x="952560" y="3483000"/>
                  <a:chExt cx="289080" cy="461880"/>
                </a:xfrm>
              </p:grpSpPr>
              <p:sp>
                <p:nvSpPr>
                  <p:cNvPr id="2184" name=""/>
                  <p:cNvSpPr/>
                  <p:nvPr/>
                </p:nvSpPr>
                <p:spPr>
                  <a:xfrm>
                    <a:off x="952560" y="34830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02888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 flipV="1">
                    <a:off x="9777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 flipV="1">
                    <a:off x="10159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 flipV="1">
                    <a:off x="10652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 flipV="1">
                    <a:off x="1103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0" name=""/>
                <p:cNvGrpSpPr/>
                <p:nvPr/>
              </p:nvGrpSpPr>
              <p:grpSpPr>
                <a:xfrm>
                  <a:off x="1704960" y="3483000"/>
                  <a:ext cx="301680" cy="461880"/>
                  <a:chOff x="1704960" y="3483000"/>
                  <a:chExt cx="301680" cy="46188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1704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779480" y="355752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 flipV="1">
                    <a:off x="17431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V="1">
                    <a:off x="1768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 flipV="1">
                    <a:off x="1817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 flipV="1">
                    <a:off x="18684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7" name=""/>
                <p:cNvGrpSpPr/>
                <p:nvPr/>
              </p:nvGrpSpPr>
              <p:grpSpPr>
                <a:xfrm>
                  <a:off x="2055960" y="3483000"/>
                  <a:ext cx="301680" cy="461880"/>
                  <a:chOff x="2055960" y="3483000"/>
                  <a:chExt cx="301680" cy="46188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2055960" y="34830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2131920" y="355752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V="1">
                    <a:off x="208116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V="1">
                    <a:off x="2119320" y="388296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 flipV="1">
                    <a:off x="216864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flipV="1">
                    <a:off x="2206800" y="379584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4" name=""/>
                <p:cNvGrpSpPr/>
                <p:nvPr/>
              </p:nvGrpSpPr>
              <p:grpSpPr>
                <a:xfrm>
                  <a:off x="952560" y="3983040"/>
                  <a:ext cx="289080" cy="476280"/>
                  <a:chOff x="952560" y="3983040"/>
                  <a:chExt cx="289080" cy="476280"/>
                </a:xfrm>
              </p:grpSpPr>
              <p:sp>
                <p:nvSpPr>
                  <p:cNvPr id="2205" name=""/>
                  <p:cNvSpPr/>
                  <p:nvPr/>
                </p:nvSpPr>
                <p:spPr>
                  <a:xfrm>
                    <a:off x="952560" y="4046400"/>
                    <a:ext cx="2890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10288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9777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10159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10652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1103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1" name=""/>
                <p:cNvGrpSpPr/>
                <p:nvPr/>
              </p:nvGrpSpPr>
              <p:grpSpPr>
                <a:xfrm>
                  <a:off x="1328760" y="3983040"/>
                  <a:ext cx="301680" cy="476280"/>
                  <a:chOff x="1328760" y="3983040"/>
                  <a:chExt cx="301680" cy="476280"/>
                </a:xfrm>
              </p:grpSpPr>
              <p:sp>
                <p:nvSpPr>
                  <p:cNvPr id="2212" name=""/>
                  <p:cNvSpPr/>
                  <p:nvPr/>
                </p:nvSpPr>
                <p:spPr>
                  <a:xfrm>
                    <a:off x="13287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140508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13539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1392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14414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14796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8" name=""/>
                <p:cNvGrpSpPr/>
                <p:nvPr/>
              </p:nvGrpSpPr>
              <p:grpSpPr>
                <a:xfrm>
                  <a:off x="1704960" y="3983040"/>
                  <a:ext cx="301680" cy="476280"/>
                  <a:chOff x="1704960" y="3983040"/>
                  <a:chExt cx="301680" cy="47628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1704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1779480" y="41338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17431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1768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1817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18684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2055960" y="3983040"/>
                  <a:ext cx="301680" cy="476280"/>
                  <a:chOff x="2055960" y="3983040"/>
                  <a:chExt cx="301680" cy="47628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>
                    <a:off x="2055960" y="4046400"/>
                    <a:ext cx="301680" cy="412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2131920" y="41338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208116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2119320" y="398304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2168640" y="398304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206800" y="399564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2" name=""/>
                <p:cNvSpPr/>
                <p:nvPr/>
              </p:nvSpPr>
              <p:spPr>
                <a:xfrm>
                  <a:off x="927000" y="39574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3" name=""/>
              <p:cNvGrpSpPr/>
              <p:nvPr/>
            </p:nvGrpSpPr>
            <p:grpSpPr>
              <a:xfrm>
                <a:off x="927000" y="4622760"/>
                <a:ext cx="1479600" cy="976320"/>
                <a:chOff x="927000" y="4622760"/>
                <a:chExt cx="1479600" cy="976320"/>
              </a:xfrm>
            </p:grpSpPr>
            <p:grpSp>
              <p:nvGrpSpPr>
                <p:cNvPr id="2234" name=""/>
                <p:cNvGrpSpPr/>
                <p:nvPr/>
              </p:nvGrpSpPr>
              <p:grpSpPr>
                <a:xfrm>
                  <a:off x="1328760" y="4622760"/>
                  <a:ext cx="301680" cy="474840"/>
                  <a:chOff x="1328760" y="4622760"/>
                  <a:chExt cx="301680" cy="474840"/>
                </a:xfrm>
              </p:grpSpPr>
              <p:sp>
                <p:nvSpPr>
                  <p:cNvPr id="2235" name=""/>
                  <p:cNvSpPr/>
                  <p:nvPr/>
                </p:nvSpPr>
                <p:spPr>
                  <a:xfrm>
                    <a:off x="13287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4050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 flipV="1">
                    <a:off x="13539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 flipV="1">
                    <a:off x="1392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V="1">
                    <a:off x="14414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 flipV="1">
                    <a:off x="14796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1" name=""/>
                <p:cNvGrpSpPr/>
                <p:nvPr/>
              </p:nvGrpSpPr>
              <p:grpSpPr>
                <a:xfrm>
                  <a:off x="952560" y="4622760"/>
                  <a:ext cx="289080" cy="474840"/>
                  <a:chOff x="952560" y="4622760"/>
                  <a:chExt cx="289080" cy="474840"/>
                </a:xfrm>
              </p:grpSpPr>
              <p:sp>
                <p:nvSpPr>
                  <p:cNvPr id="2242" name=""/>
                  <p:cNvSpPr/>
                  <p:nvPr/>
                </p:nvSpPr>
                <p:spPr>
                  <a:xfrm>
                    <a:off x="952560" y="462276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102888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flipV="1">
                    <a:off x="9777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V="1">
                    <a:off x="10159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 flipV="1">
                    <a:off x="10652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V="1">
                    <a:off x="1103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8" name=""/>
                <p:cNvGrpSpPr/>
                <p:nvPr/>
              </p:nvGrpSpPr>
              <p:grpSpPr>
                <a:xfrm>
                  <a:off x="1704960" y="4622760"/>
                  <a:ext cx="301680" cy="474840"/>
                  <a:chOff x="1704960" y="4622760"/>
                  <a:chExt cx="301680" cy="474840"/>
                </a:xfrm>
              </p:grpSpPr>
              <p:sp>
                <p:nvSpPr>
                  <p:cNvPr id="2249" name=""/>
                  <p:cNvSpPr/>
                  <p:nvPr/>
                </p:nvSpPr>
                <p:spPr>
                  <a:xfrm>
                    <a:off x="1704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1779480" y="4697280"/>
                    <a:ext cx="1382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 flipV="1">
                    <a:off x="17431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 flipV="1">
                    <a:off x="1768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 flipV="1">
                    <a:off x="1817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 flipV="1">
                    <a:off x="18684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2055960" y="4622760"/>
                  <a:ext cx="301680" cy="474840"/>
                  <a:chOff x="2055960" y="4622760"/>
                  <a:chExt cx="301680" cy="474840"/>
                </a:xfrm>
              </p:grpSpPr>
              <p:sp>
                <p:nvSpPr>
                  <p:cNvPr id="2256" name=""/>
                  <p:cNvSpPr/>
                  <p:nvPr/>
                </p:nvSpPr>
                <p:spPr>
                  <a:xfrm>
                    <a:off x="2055960" y="462276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2131920" y="4697280"/>
                    <a:ext cx="136440" cy="25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 flipV="1">
                    <a:off x="208116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 flipV="1">
                    <a:off x="2119320" y="503568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 flipV="1">
                    <a:off x="216864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 flipV="1">
                    <a:off x="2206800" y="4935600"/>
                    <a:ext cx="0" cy="1620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2" name=""/>
                <p:cNvGrpSpPr/>
                <p:nvPr/>
              </p:nvGrpSpPr>
              <p:grpSpPr>
                <a:xfrm>
                  <a:off x="952560" y="5135400"/>
                  <a:ext cx="289080" cy="463680"/>
                  <a:chOff x="952560" y="5135400"/>
                  <a:chExt cx="289080" cy="463680"/>
                </a:xfrm>
              </p:grpSpPr>
              <p:sp>
                <p:nvSpPr>
                  <p:cNvPr id="2263" name=""/>
                  <p:cNvSpPr/>
                  <p:nvPr/>
                </p:nvSpPr>
                <p:spPr>
                  <a:xfrm>
                    <a:off x="952560" y="5199120"/>
                    <a:ext cx="2890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10288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9777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10159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10652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1103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9" name=""/>
                <p:cNvGrpSpPr/>
                <p:nvPr/>
              </p:nvGrpSpPr>
              <p:grpSpPr>
                <a:xfrm>
                  <a:off x="1328760" y="5135400"/>
                  <a:ext cx="301680" cy="463680"/>
                  <a:chOff x="1328760" y="5135400"/>
                  <a:chExt cx="301680" cy="463680"/>
                </a:xfrm>
              </p:grpSpPr>
              <p:sp>
                <p:nvSpPr>
                  <p:cNvPr id="2270" name=""/>
                  <p:cNvSpPr/>
                  <p:nvPr/>
                </p:nvSpPr>
                <p:spPr>
                  <a:xfrm>
                    <a:off x="13287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140508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13539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1392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14414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14796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6" name=""/>
                <p:cNvGrpSpPr/>
                <p:nvPr/>
              </p:nvGrpSpPr>
              <p:grpSpPr>
                <a:xfrm>
                  <a:off x="1704960" y="5135400"/>
                  <a:ext cx="301680" cy="463680"/>
                  <a:chOff x="1704960" y="5135400"/>
                  <a:chExt cx="301680" cy="463680"/>
                </a:xfrm>
              </p:grpSpPr>
              <p:sp>
                <p:nvSpPr>
                  <p:cNvPr id="2277" name=""/>
                  <p:cNvSpPr/>
                  <p:nvPr/>
                </p:nvSpPr>
                <p:spPr>
                  <a:xfrm>
                    <a:off x="1704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1779480" y="528624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17431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1768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1817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18684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3" name=""/>
                <p:cNvGrpSpPr/>
                <p:nvPr/>
              </p:nvGrpSpPr>
              <p:grpSpPr>
                <a:xfrm>
                  <a:off x="2055960" y="5135400"/>
                  <a:ext cx="301680" cy="463680"/>
                  <a:chOff x="2055960" y="5135400"/>
                  <a:chExt cx="301680" cy="463680"/>
                </a:xfrm>
              </p:grpSpPr>
              <p:sp>
                <p:nvSpPr>
                  <p:cNvPr id="2284" name=""/>
                  <p:cNvSpPr/>
                  <p:nvPr/>
                </p:nvSpPr>
                <p:spPr>
                  <a:xfrm>
                    <a:off x="2055960" y="5199120"/>
                    <a:ext cx="301680" cy="399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2131920" y="528624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08116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2119320" y="5135400"/>
                    <a:ext cx="0" cy="7488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2168640" y="513540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2206800" y="5148360"/>
                    <a:ext cx="0" cy="137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0" name=""/>
                <p:cNvSpPr/>
                <p:nvPr/>
              </p:nvSpPr>
              <p:spPr>
                <a:xfrm>
                  <a:off x="927000" y="511020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1" name=""/>
              <p:cNvGrpSpPr/>
              <p:nvPr/>
            </p:nvGrpSpPr>
            <p:grpSpPr>
              <a:xfrm>
                <a:off x="927000" y="6915240"/>
                <a:ext cx="1479600" cy="976320"/>
                <a:chOff x="927000" y="6915240"/>
                <a:chExt cx="1479600" cy="976320"/>
              </a:xfrm>
            </p:grpSpPr>
            <p:grpSp>
              <p:nvGrpSpPr>
                <p:cNvPr id="2292" name=""/>
                <p:cNvGrpSpPr/>
                <p:nvPr/>
              </p:nvGrpSpPr>
              <p:grpSpPr>
                <a:xfrm>
                  <a:off x="1328760" y="6915240"/>
                  <a:ext cx="301680" cy="474480"/>
                  <a:chOff x="1328760" y="6915240"/>
                  <a:chExt cx="301680" cy="474480"/>
                </a:xfrm>
              </p:grpSpPr>
              <p:sp>
                <p:nvSpPr>
                  <p:cNvPr id="2293" name=""/>
                  <p:cNvSpPr/>
                  <p:nvPr/>
                </p:nvSpPr>
                <p:spPr>
                  <a:xfrm>
                    <a:off x="13287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14050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 flipV="1">
                    <a:off x="13539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 flipV="1">
                    <a:off x="1392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 flipV="1">
                    <a:off x="14414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V="1">
                    <a:off x="14796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9" name=""/>
                <p:cNvGrpSpPr/>
                <p:nvPr/>
              </p:nvGrpSpPr>
              <p:grpSpPr>
                <a:xfrm>
                  <a:off x="952560" y="6915240"/>
                  <a:ext cx="289080" cy="474480"/>
                  <a:chOff x="952560" y="6915240"/>
                  <a:chExt cx="289080" cy="474480"/>
                </a:xfrm>
              </p:grpSpPr>
              <p:sp>
                <p:nvSpPr>
                  <p:cNvPr id="2300" name=""/>
                  <p:cNvSpPr/>
                  <p:nvPr/>
                </p:nvSpPr>
                <p:spPr>
                  <a:xfrm>
                    <a:off x="952560" y="6915240"/>
                    <a:ext cx="2890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102888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 flipV="1">
                    <a:off x="9777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 flipV="1">
                    <a:off x="10159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flipV="1">
                    <a:off x="10652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flipV="1">
                    <a:off x="1103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6" name=""/>
                <p:cNvGrpSpPr/>
                <p:nvPr/>
              </p:nvGrpSpPr>
              <p:grpSpPr>
                <a:xfrm>
                  <a:off x="1704960" y="6915240"/>
                  <a:ext cx="301680" cy="474480"/>
                  <a:chOff x="1704960" y="6915240"/>
                  <a:chExt cx="301680" cy="474480"/>
                </a:xfrm>
              </p:grpSpPr>
              <p:sp>
                <p:nvSpPr>
                  <p:cNvPr id="2307" name=""/>
                  <p:cNvSpPr/>
                  <p:nvPr/>
                </p:nvSpPr>
                <p:spPr>
                  <a:xfrm>
                    <a:off x="1704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1779480" y="6989760"/>
                    <a:ext cx="1382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flipV="1">
                    <a:off x="17431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1768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1817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18684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3" name=""/>
                <p:cNvGrpSpPr/>
                <p:nvPr/>
              </p:nvGrpSpPr>
              <p:grpSpPr>
                <a:xfrm>
                  <a:off x="2055960" y="6915240"/>
                  <a:ext cx="301680" cy="474480"/>
                  <a:chOff x="2055960" y="6915240"/>
                  <a:chExt cx="301680" cy="474480"/>
                </a:xfrm>
              </p:grpSpPr>
              <p:sp>
                <p:nvSpPr>
                  <p:cNvPr id="2314" name=""/>
                  <p:cNvSpPr/>
                  <p:nvPr/>
                </p:nvSpPr>
                <p:spPr>
                  <a:xfrm>
                    <a:off x="2055960" y="6915240"/>
                    <a:ext cx="301680" cy="425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131920" y="6989760"/>
                    <a:ext cx="136440" cy="26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V="1">
                    <a:off x="208116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V="1">
                    <a:off x="2119320" y="7327800"/>
                    <a:ext cx="0" cy="619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V="1">
                    <a:off x="216864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V="1">
                    <a:off x="2206800" y="7240680"/>
                    <a:ext cx="0" cy="1490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0" name=""/>
                <p:cNvGrpSpPr/>
                <p:nvPr/>
              </p:nvGrpSpPr>
              <p:grpSpPr>
                <a:xfrm>
                  <a:off x="952560" y="7427880"/>
                  <a:ext cx="289080" cy="463680"/>
                  <a:chOff x="952560" y="7427880"/>
                  <a:chExt cx="289080" cy="46368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>
                    <a:off x="952560" y="7489800"/>
                    <a:ext cx="289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10288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9777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10159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10652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1103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7" name=""/>
                <p:cNvGrpSpPr/>
                <p:nvPr/>
              </p:nvGrpSpPr>
              <p:grpSpPr>
                <a:xfrm>
                  <a:off x="1328760" y="7427880"/>
                  <a:ext cx="301680" cy="463680"/>
                  <a:chOff x="1328760" y="7427880"/>
                  <a:chExt cx="301680" cy="463680"/>
                </a:xfrm>
              </p:grpSpPr>
              <p:sp>
                <p:nvSpPr>
                  <p:cNvPr id="2328" name=""/>
                  <p:cNvSpPr/>
                  <p:nvPr/>
                </p:nvSpPr>
                <p:spPr>
                  <a:xfrm>
                    <a:off x="13287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140508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13539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1392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14414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14796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4" name=""/>
                <p:cNvGrpSpPr/>
                <p:nvPr/>
              </p:nvGrpSpPr>
              <p:grpSpPr>
                <a:xfrm>
                  <a:off x="1704960" y="7427880"/>
                  <a:ext cx="301680" cy="463680"/>
                  <a:chOff x="1704960" y="7427880"/>
                  <a:chExt cx="301680" cy="463680"/>
                </a:xfrm>
              </p:grpSpPr>
              <p:sp>
                <p:nvSpPr>
                  <p:cNvPr id="2335" name=""/>
                  <p:cNvSpPr/>
                  <p:nvPr/>
                </p:nvSpPr>
                <p:spPr>
                  <a:xfrm>
                    <a:off x="1704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1779480" y="7578720"/>
                    <a:ext cx="1382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17431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1768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1817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18684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1" name=""/>
                <p:cNvGrpSpPr/>
                <p:nvPr/>
              </p:nvGrpSpPr>
              <p:grpSpPr>
                <a:xfrm>
                  <a:off x="2055960" y="7427880"/>
                  <a:ext cx="301680" cy="463680"/>
                  <a:chOff x="2055960" y="7427880"/>
                  <a:chExt cx="301680" cy="463680"/>
                </a:xfrm>
              </p:grpSpPr>
              <p:sp>
                <p:nvSpPr>
                  <p:cNvPr id="2342" name=""/>
                  <p:cNvSpPr/>
                  <p:nvPr/>
                </p:nvSpPr>
                <p:spPr>
                  <a:xfrm>
                    <a:off x="2055960" y="7489800"/>
                    <a:ext cx="3016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131920" y="7578720"/>
                    <a:ext cx="136440" cy="2379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208116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2119320" y="7427880"/>
                    <a:ext cx="0" cy="74520"/>
                  </a:xfrm>
                  <a:prstGeom prst="line">
                    <a:avLst/>
                  </a:prstGeom>
                  <a:ln w="255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2168640" y="7427880"/>
                    <a:ext cx="0" cy="1508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206800" y="7440480"/>
                    <a:ext cx="0" cy="1382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8" name=""/>
                <p:cNvSpPr/>
                <p:nvPr/>
              </p:nvSpPr>
              <p:spPr>
                <a:xfrm>
                  <a:off x="927000" y="7402680"/>
                  <a:ext cx="1479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9" name=""/>
            <p:cNvSpPr/>
            <p:nvPr/>
          </p:nvSpPr>
          <p:spPr>
            <a:xfrm>
              <a:off x="2470320" y="2817720"/>
              <a:ext cx="0" cy="52484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062240" y="2843280"/>
              <a:ext cx="0" cy="45846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281320" y="8142120"/>
              <a:ext cx="301680" cy="262080"/>
              <a:chOff x="2281320" y="8142120"/>
              <a:chExt cx="301680" cy="2620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319480" y="8142120"/>
                <a:ext cx="225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319480" y="8142120"/>
                <a:ext cx="1252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>
                <a:off x="2444760" y="8142120"/>
                <a:ext cx="112680" cy="225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281320" y="8404200"/>
                <a:ext cx="3016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2470320" y="8467560"/>
              <a:ext cx="0" cy="100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757600" y="8291520"/>
              <a:ext cx="2582640" cy="0"/>
            </a:xfrm>
            <a:prstGeom prst="line">
              <a:avLst/>
            </a:prstGeom>
            <a:ln w="127080">
              <a:solidFill>
                <a:srgbClr val="00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 txBox="1"/>
            <p:nvPr/>
          </p:nvSpPr>
          <p:spPr>
            <a:xfrm>
              <a:off x="677880" y="8018640"/>
              <a:ext cx="160488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ts val="2100"/>
                </a:lnSpc>
                <a:tabLst>
                  <a:tab algn="l" pos="452520"/>
                  <a:tab algn="l" pos="905040"/>
                  <a:tab algn="l" pos="1357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 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917720" y="1090440"/>
            <a:ext cx="302256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And 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619280" y="4849920"/>
            <a:ext cx="3021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36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170,000 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530360" y="4435560"/>
            <a:ext cx="3322800" cy="14526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1817640" y="5899320"/>
            <a:ext cx="576360" cy="1052280"/>
            <a:chOff x="1817640" y="5899320"/>
            <a:chExt cx="576360" cy="1052280"/>
          </a:xfrm>
        </p:grpSpPr>
        <p:grpSp>
          <p:nvGrpSpPr>
            <p:cNvPr id="2366" name=""/>
            <p:cNvGrpSpPr/>
            <p:nvPr/>
          </p:nvGrpSpPr>
          <p:grpSpPr>
            <a:xfrm>
              <a:off x="1817640" y="6213600"/>
              <a:ext cx="576360" cy="425160"/>
              <a:chOff x="1817640" y="6213600"/>
              <a:chExt cx="576360" cy="425160"/>
            </a:xfrm>
          </p:grpSpPr>
          <p:sp>
            <p:nvSpPr>
              <p:cNvPr id="2367" name=""/>
              <p:cNvSpPr/>
              <p:nvPr/>
            </p:nvSpPr>
            <p:spPr>
              <a:xfrm>
                <a:off x="1881360" y="6213600"/>
                <a:ext cx="425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86840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>
                <a:off x="2106720" y="6213600"/>
                <a:ext cx="2379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176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210672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1932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2895480" y="5924520"/>
            <a:ext cx="577800" cy="1052640"/>
            <a:chOff x="2895480" y="5924520"/>
            <a:chExt cx="577800" cy="1052640"/>
          </a:xfrm>
        </p:grpSpPr>
        <p:grpSp>
          <p:nvGrpSpPr>
            <p:cNvPr id="2374" name=""/>
            <p:cNvGrpSpPr/>
            <p:nvPr/>
          </p:nvGrpSpPr>
          <p:grpSpPr>
            <a:xfrm>
              <a:off x="2895480" y="6237360"/>
              <a:ext cx="577800" cy="426960"/>
              <a:chOff x="2895480" y="6237360"/>
              <a:chExt cx="577800" cy="426960"/>
            </a:xfrm>
          </p:grpSpPr>
          <p:sp>
            <p:nvSpPr>
              <p:cNvPr id="2375" name=""/>
              <p:cNvSpPr/>
              <p:nvPr/>
            </p:nvSpPr>
            <p:spPr>
              <a:xfrm>
                <a:off x="2959200" y="623736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946240" y="623736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3184560" y="623736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895480" y="66643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9" name=""/>
            <p:cNvSpPr/>
            <p:nvPr/>
          </p:nvSpPr>
          <p:spPr>
            <a:xfrm>
              <a:off x="3184560" y="592452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197160" y="672624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4062240" y="5899320"/>
            <a:ext cx="576360" cy="1052280"/>
            <a:chOff x="4062240" y="5899320"/>
            <a:chExt cx="576360" cy="1052280"/>
          </a:xfrm>
        </p:grpSpPr>
        <p:grpSp>
          <p:nvGrpSpPr>
            <p:cNvPr id="2382" name=""/>
            <p:cNvGrpSpPr/>
            <p:nvPr/>
          </p:nvGrpSpPr>
          <p:grpSpPr>
            <a:xfrm>
              <a:off x="4062240" y="6213600"/>
              <a:ext cx="576360" cy="425160"/>
              <a:chOff x="4062240" y="6213600"/>
              <a:chExt cx="576360" cy="425160"/>
            </a:xfrm>
          </p:grpSpPr>
          <p:sp>
            <p:nvSpPr>
              <p:cNvPr id="2383" name=""/>
              <p:cNvSpPr/>
              <p:nvPr/>
            </p:nvSpPr>
            <p:spPr>
              <a:xfrm>
                <a:off x="4124160" y="6213600"/>
                <a:ext cx="4273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111560" y="6213600"/>
                <a:ext cx="23832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4349880" y="6213600"/>
                <a:ext cx="239760" cy="3744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2240" y="66387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7" name=""/>
            <p:cNvSpPr/>
            <p:nvPr/>
          </p:nvSpPr>
          <p:spPr>
            <a:xfrm>
              <a:off x="4349880" y="589932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362480" y="67006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9" name=""/>
          <p:cNvSpPr txBox="1"/>
          <p:nvPr/>
        </p:nvSpPr>
        <p:spPr>
          <a:xfrm>
            <a:off x="1192320" y="6991200"/>
            <a:ext cx="18813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2558880" y="6991200"/>
            <a:ext cx="13287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 txBox="1"/>
          <p:nvPr/>
        </p:nvSpPr>
        <p:spPr>
          <a:xfrm>
            <a:off x="3700440" y="6991200"/>
            <a:ext cx="14288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2" name=""/>
          <p:cNvGrpSpPr/>
          <p:nvPr/>
        </p:nvGrpSpPr>
        <p:grpSpPr>
          <a:xfrm>
            <a:off x="4049640" y="3732120"/>
            <a:ext cx="576360" cy="426960"/>
            <a:chOff x="4049640" y="3732120"/>
            <a:chExt cx="576360" cy="426960"/>
          </a:xfrm>
        </p:grpSpPr>
        <p:sp>
          <p:nvSpPr>
            <p:cNvPr id="2393" name=""/>
            <p:cNvSpPr/>
            <p:nvPr/>
          </p:nvSpPr>
          <p:spPr>
            <a:xfrm flipH="1">
              <a:off x="4137120" y="4159080"/>
              <a:ext cx="4269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 flipV="1">
              <a:off x="4338720" y="3782880"/>
              <a:ext cx="23796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4100400" y="3782880"/>
              <a:ext cx="238320" cy="3762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4049640" y="3732120"/>
              <a:ext cx="57636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7" name=""/>
          <p:cNvSpPr/>
          <p:nvPr/>
        </p:nvSpPr>
        <p:spPr>
          <a:xfrm flipV="1">
            <a:off x="4362480" y="4221000"/>
            <a:ext cx="0" cy="2509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4349880" y="3419640"/>
            <a:ext cx="0" cy="25056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2971800" y="3394080"/>
            <a:ext cx="576360" cy="1052640"/>
            <a:chOff x="2971800" y="3394080"/>
            <a:chExt cx="576360" cy="1052640"/>
          </a:xfrm>
        </p:grpSpPr>
        <p:grpSp>
          <p:nvGrpSpPr>
            <p:cNvPr id="2400" name=""/>
            <p:cNvGrpSpPr/>
            <p:nvPr/>
          </p:nvGrpSpPr>
          <p:grpSpPr>
            <a:xfrm>
              <a:off x="2971800" y="3708360"/>
              <a:ext cx="576360" cy="425520"/>
              <a:chOff x="2971800" y="3708360"/>
              <a:chExt cx="576360" cy="425520"/>
            </a:xfrm>
          </p:grpSpPr>
          <p:sp>
            <p:nvSpPr>
              <p:cNvPr id="2401" name=""/>
              <p:cNvSpPr/>
              <p:nvPr/>
            </p:nvSpPr>
            <p:spPr>
              <a:xfrm flipH="1">
                <a:off x="3059280" y="4133880"/>
                <a:ext cx="4269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3259080" y="37576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3021120" y="37576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2971800" y="3708360"/>
                <a:ext cx="57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"/>
            <p:cNvSpPr/>
            <p:nvPr/>
          </p:nvSpPr>
          <p:spPr>
            <a:xfrm flipV="1">
              <a:off x="3284640" y="41958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3271680" y="339408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1805040" y="3419640"/>
            <a:ext cx="577800" cy="1052280"/>
            <a:chOff x="1805040" y="3419640"/>
            <a:chExt cx="577800" cy="1052280"/>
          </a:xfrm>
        </p:grpSpPr>
        <p:grpSp>
          <p:nvGrpSpPr>
            <p:cNvPr id="2408" name=""/>
            <p:cNvGrpSpPr/>
            <p:nvPr/>
          </p:nvGrpSpPr>
          <p:grpSpPr>
            <a:xfrm>
              <a:off x="1805040" y="3732120"/>
              <a:ext cx="577800" cy="426960"/>
              <a:chOff x="1805040" y="3732120"/>
              <a:chExt cx="577800" cy="426960"/>
            </a:xfrm>
          </p:grpSpPr>
          <p:sp>
            <p:nvSpPr>
              <p:cNvPr id="2409" name=""/>
              <p:cNvSpPr/>
              <p:nvPr/>
            </p:nvSpPr>
            <p:spPr>
              <a:xfrm flipH="1">
                <a:off x="1893960" y="4159080"/>
                <a:ext cx="425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flipV="1">
                <a:off x="2093760" y="3782880"/>
                <a:ext cx="23832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1855800" y="3782880"/>
                <a:ext cx="237960" cy="3762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1805040" y="3732120"/>
                <a:ext cx="5778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 flipV="1">
              <a:off x="2119320" y="4221000"/>
              <a:ext cx="0" cy="2509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2106720" y="3419640"/>
              <a:ext cx="0" cy="250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5" name=""/>
          <p:cNvSpPr txBox="1"/>
          <p:nvPr/>
        </p:nvSpPr>
        <p:spPr>
          <a:xfrm>
            <a:off x="3549600" y="2606760"/>
            <a:ext cx="159228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333520" y="2870280"/>
            <a:ext cx="183024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1292400" y="2870280"/>
            <a:ext cx="15685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4838760" y="47721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4838760" y="48848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4838760" y="499752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4838760" y="511020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4838760" y="522288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4838760" y="533556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 flipH="1">
            <a:off x="4838760" y="5448240"/>
            <a:ext cx="2142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4514760" y="4410000"/>
            <a:ext cx="22320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n infinite number of mon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ew Shakespear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bad guy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acks are usually completely 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d Guys know almost all the tricks, and shar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Ba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people don’t know they have been h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’re only as strong as your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Good security is har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common Internet tools are in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nternet infrastructure is not tru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nial-of-service is alway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d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st Unix systems can be subverted by their own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ndors don’t show much sign of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AR seems to block our best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olesale crime i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Good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ckers have security problems,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ontrol your own machines, at least at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tools exist to improve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curity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k what an attack would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t alarms in for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ide what to do if you are attacked,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igital Path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K-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7" name="" descr=""/>
          <p:cNvPicPr/>
          <p:nvPr/>
        </p:nvPicPr>
        <p:blipFill>
          <a:blip r:embed="rId1"/>
          <a:stretch/>
        </p:blipFill>
        <p:spPr>
          <a:xfrm>
            <a:off x="1974960" y="2595600"/>
            <a:ext cx="28828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 txBox="1"/>
          <p:nvPr/>
        </p:nvSpPr>
        <p:spPr>
          <a:xfrm>
            <a:off x="1792440" y="438120"/>
            <a:ext cx="3260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614520" y="2305080"/>
            <a:ext cx="61182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C/os (UMIPS) 4.0 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 1986, MIPS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 txBox="1"/>
          <p:nvPr/>
        </p:nvSpPr>
        <p:spPr>
          <a:xfrm>
            <a:off x="1154160" y="438120"/>
            <a:ext cx="453852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One-tim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assword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927000" y="2330280"/>
            <a:ext cx="351144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su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92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2650e6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id=0(root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id=0(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/v/bin/auth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4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llenge: 766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: ^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$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 txBox="1"/>
          <p:nvPr/>
        </p:nvSpPr>
        <p:spPr>
          <a:xfrm>
            <a:off x="2570040" y="1090440"/>
            <a:ext cx="171756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mmer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u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727200" y="2630520"/>
            <a:ext cx="5369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-time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crypted tu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V6 and IP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ps, alarms, honey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on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tention t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77960" y="438120"/>
            <a:ext cx="53020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2044800" y="2514600"/>
            <a:ext cx="2768760" cy="5864400"/>
            <a:chOff x="2044800" y="2514600"/>
            <a:chExt cx="2768760" cy="5864400"/>
          </a:xfrm>
        </p:grpSpPr>
        <p:sp>
          <p:nvSpPr>
            <p:cNvPr id="2458" name=""/>
            <p:cNvSpPr/>
            <p:nvPr/>
          </p:nvSpPr>
          <p:spPr>
            <a:xfrm>
              <a:off x="2044800" y="251460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 txBox="1"/>
            <p:nvPr/>
          </p:nvSpPr>
          <p:spPr>
            <a:xfrm>
              <a:off x="2568600" y="2770200"/>
              <a:ext cx="1595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044800" y="7162920"/>
              <a:ext cx="2768760" cy="1216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 txBox="1"/>
            <p:nvPr/>
          </p:nvSpPr>
          <p:spPr>
            <a:xfrm>
              <a:off x="2484360" y="7418520"/>
              <a:ext cx="1765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2" name=""/>
          <p:cNvSpPr/>
          <p:nvPr/>
        </p:nvSpPr>
        <p:spPr>
          <a:xfrm flipV="1">
            <a:off x="3429000" y="3733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3048120" y="3733920"/>
            <a:ext cx="0" cy="34290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3809880" y="3733920"/>
            <a:ext cx="0" cy="342900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 txBox="1"/>
          <p:nvPr/>
        </p:nvSpPr>
        <p:spPr>
          <a:xfrm>
            <a:off x="514440" y="30492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mmercial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914400" y="3860640"/>
            <a:ext cx="5257800" cy="26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``What are you talking about?  They’re aren’t allowed to have munitions!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ademy Award Winner Tom D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" descr=""/>
          <p:cNvPicPr/>
          <p:nvPr/>
        </p:nvPicPr>
        <p:blipFill>
          <a:blip r:embed="rId1"/>
          <a:stretch/>
        </p:blipFill>
        <p:spPr>
          <a:xfrm>
            <a:off x="1779480" y="3579840"/>
            <a:ext cx="3289320" cy="3390840"/>
          </a:xfrm>
          <a:prstGeom prst="rect">
            <a:avLst/>
          </a:prstGeom>
          <a:ln w="0">
            <a:noFill/>
          </a:ln>
        </p:spPr>
      </p:pic>
      <p:sp>
        <p:nvSpPr>
          <p:cNvPr id="2468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Talk not sponsor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sword 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ms (strategic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ot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jac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S spoof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ll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ce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or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RC4-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riple 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haps they’ll let us use stronger cryptography for key distribution, even if the key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GP and P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login re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scape commer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ing tunnels in firewall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Defensive Mu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49536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tel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 lot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L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 txBox="1"/>
          <p:nvPr/>
        </p:nvSpPr>
        <p:spPr>
          <a:xfrm>
            <a:off x="3486240" y="2617920"/>
            <a:ext cx="2876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cryp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erous cryp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/SEC and, later, IP 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 Bell 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lnet - Bellovin and B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get/cput - Ranum and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mall, suspicious file transf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e - Chesw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1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rror directories to a machine in a hosti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 Growth (log sca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495360" y="814320"/>
            <a:ext cx="5867280" cy="15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ryptograph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495360" y="2617920"/>
            <a:ext cx="58672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9840" indent="-339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ttp://www.cs.hut.fi/crypto/software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1303200" y="1090440"/>
            <a:ext cx="42386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ack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 txBox="1"/>
          <p:nvPr/>
        </p:nvSpPr>
        <p:spPr>
          <a:xfrm>
            <a:off x="727200" y="2630520"/>
            <a:ext cx="47642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twork swe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0"/>
                <a:tab algn="l" pos="452520"/>
                <a:tab algn="l" pos="905040"/>
                <a:tab algn="l" pos="1357200"/>
                <a:tab algn="l" pos="1811160"/>
                <a:tab algn="l" pos="2263680"/>
                <a:tab algn="l" pos="2716200"/>
                <a:tab algn="l" pos="3168720"/>
                <a:tab algn="l" pos="4073400"/>
                <a:tab algn="l" pos="4978440"/>
                <a:tab algn="l" pos="588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ep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2544840" y="1089000"/>
            <a:ext cx="17557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727200" y="2630520"/>
            <a:ext cx="4162320" cy="34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est/visitor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TP passwd file with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login/rsh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rtmopper [sic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..make up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790560" y="2154240"/>
            <a:ext cx="4964040" cy="0"/>
          </a:xfrm>
          <a:prstGeom prst="line">
            <a:avLst/>
          </a:prstGeom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1805040" y="1089000"/>
            <a:ext cx="3235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00"/>
              </a:lnSpc>
              <a:tabLst>
                <a:tab algn="l" pos="905040"/>
                <a:tab algn="l" pos="1809720"/>
                <a:tab algn="l" pos="271620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neypo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498600" y="2630520"/>
            <a:ext cx="46134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ke a camera inside the v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452520"/>
                <a:tab algn="l" pos="905040"/>
                <a:tab algn="l" pos="1357200"/>
                <a:tab algn="l" pos="1809720"/>
                <a:tab algn="l" pos="2263680"/>
                <a:tab algn="l" pos="2716200"/>
                <a:tab algn="l" pos="3168720"/>
                <a:tab algn="l" pos="3621240"/>
                <a:tab algn="l" pos="4525920"/>
                <a:tab algn="l" pos="5430960"/>
                <a:tab algn="l" pos="6337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ap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6481800" y="8705880"/>
            <a:ext cx="20016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303120" y="1216080"/>
            <a:ext cx="6243480" cy="67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rewal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Security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pelling the Wily H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lliam Ches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even Bello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BN  0-201-63357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dison Wesley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s@research.at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6829560" cy="91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482760" y="530280"/>
            <a:ext cx="5867280" cy="82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443640" y="8705880"/>
            <a:ext cx="27612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4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1"/>
          <a:stretch/>
        </p:blipFill>
        <p:spPr>
          <a:xfrm>
            <a:off x="378000" y="1003320"/>
            <a:ext cx="606420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/>
  <dc:language>en-US</dc:language>
  <cp:lastModifiedBy>Bill Cheswick</cp:lastModifiedBy>
  <cp:revision>0</cp:revision>
  <dc:subject/>
  <dc:title>Internet Questions and Answers</dc:title>
</cp:coreProperties>
</file>