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7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14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FC7-2CC0-4161-849B-9A384C6D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3760" y="3900960"/>
            <a:ext cx="783756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109-063D-4493-9F34-2261453A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3760" y="390096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90096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B3F-31AD-45BE-9A90-5B03944F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4080" y="130788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4040" y="130788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3760" y="390096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4080" y="390096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4040" y="390096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EC9-BB8A-4A0F-8FE5-52A33E3C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BB8-CECF-4162-8C44-FD744BB0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472-7204-4187-8740-50A20F80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22E-17C9-4FDD-9A03-38F3DE40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EC7-651D-447E-A2BD-1E78CB0C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84200" y="63000"/>
            <a:ext cx="8502480" cy="40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241-C39D-4B99-A28F-0EFAEBA2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3760" y="390096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A45-9EE8-4496-A6BD-7DC7B3C8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90096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782-0BFE-4F98-B7C6-9A756597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3760" y="3900960"/>
            <a:ext cx="783756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69C-E002-4A02-A504-B430CB08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12760" y="806400"/>
            <a:ext cx="5857920" cy="285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488280" y="533520"/>
            <a:ext cx="2369880" cy="644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533520" y="6477120"/>
            <a:ext cx="8153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477D-CAE7-42FA-A76E-3E8099FCE1F9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62F0-C148-4504-B1A7-2644185C3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1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et Attacks: The Gory Detail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ll Cheswic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280" y="4800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l Labs, Lucent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@bell-labs.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cs.bell-labs.com/~ches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/IP stack is hard to d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,000 lines of code is typic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Cs don’t give all the deta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takes practice and experience to get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curve is still evident in Linux and Microso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kernel-level code: debugging is tedi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to debug error states in a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shme atta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random packets with valid checksu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 reassemb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EFA-42BC-4CF2-8614-0CB56B98788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1D544-27A9-4434-9501-08AEFE5AAFA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 - teln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kes authenticated connection to serv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04920" y="1981080"/>
            <a:ext cx="20746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38280" y="3733920"/>
            <a:ext cx="1828800" cy="16002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57200" y="3200400"/>
            <a:ext cx="685800" cy="685800"/>
          </a:xfrm>
          <a:prstGeom prst="smileyFace">
            <a:avLst>
              <a:gd name="adj" fmla="val -465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442880" y="3043080"/>
            <a:ext cx="914400" cy="1216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526040" y="3429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438280" y="2438280"/>
            <a:ext cx="4191120" cy="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84C-96E7-445C-AF6D-F24B92DC073F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0AA7F-30C4-4816-9783-631A7B6E002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 - teln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cker takes over connection with TA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04920" y="1981080"/>
            <a:ext cx="20746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438280" y="3733920"/>
            <a:ext cx="1828800" cy="16002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57200" y="3200400"/>
            <a:ext cx="685800" cy="685800"/>
          </a:xfrm>
          <a:prstGeom prst="smileyFace">
            <a:avLst>
              <a:gd name="adj" fmla="val -465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442880" y="3043080"/>
            <a:ext cx="914400" cy="1216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526040" y="3429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438280" y="2438280"/>
            <a:ext cx="4191120" cy="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981080" y="2438280"/>
            <a:ext cx="384120" cy="1305000"/>
          </a:xfrm>
          <a:custGeom>
            <a:avLst/>
            <a:gdLst/>
            <a:ahLst/>
            <a:rect l="l" t="t" r="r" b="b"/>
            <a:pathLst>
              <a:path w="242" h="822">
                <a:moveTo>
                  <a:pt x="240" y="0"/>
                </a:moveTo>
                <a:cubicBezTo>
                  <a:pt x="120" y="124"/>
                  <a:pt x="0" y="247"/>
                  <a:pt x="0" y="384"/>
                </a:cubicBezTo>
                <a:cubicBezTo>
                  <a:pt x="0" y="521"/>
                  <a:pt x="192" y="731"/>
                  <a:pt x="242" y="822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headEnd len="med" type="arrow" w="sm"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A50-454D-4B74-B9BD-625DDA1F8656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5E8DC-D048-47C2-993A-515A984B097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ecure cli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not the same as TCP hijack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ryption on the link won’t fix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persistent connection is vulner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login, ftp, s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utomu left an rlogin session running when he went ski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HAVE TO BE ABLE TO TRUST YOUR CLI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ptop PCs Vs terminal roo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DB43-5F13-4312-9B89-CDE73953E88D}" type="slidenum">
              <a:t>10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C41D6-08B6-450E-B762-E89D8E4C324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as telnet, pl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bugs in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errors for anonymous FT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t permissions wro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tribute the real password file to the ma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A38-7E43-46F3-A86A-F14BDCEA4277}" type="slidenum">
              <a:t>10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1DC1E-4EE1-498C-AF73-248A1115792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ot file handle can be sniff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ies on RPC softw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25F-C4DD-4229-9DB0-F6227D6C53A8}" type="slidenum">
              <a:t>10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9D30F-208C-4742-B485-87869A42447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PC and secure RP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-bas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l relay feature can obscure address information from the ser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 RP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yptographically wea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C95-85F4-4757-AADA-C0FA48170C96}" type="slidenum">
              <a:t>10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B3521-ACA6-42AA-B455-74113A59BB9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login, rsh, rc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login, rsh, rc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n be hijack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n be spoof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ddressed-based authent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rhosts and /etc/hosts.equiv leak trusted host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rhosts: users should not be making security poli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79F-26F5-4171-8634-7B8613B689C0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6FF3E-E072-415E-8038-28E68314C24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1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 text leaks secr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kie authentication is in the cle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anced authentication not widely avail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host configuration err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ically, bugs in xd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DF6-95B7-4FDA-8E39-2CB3155FC339}" type="slidenum">
              <a:t>10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17250-8C12-4512-A4E3-43D69C54E7B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- domain name syste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d runs as roo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is big, and not well understoo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ns on vital ho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che poisoning: cache wrong answ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ack address-based au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oof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63F-F81E-426E-B1C6-07352FDA5A21}" type="slidenum">
              <a:t>10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AD852-0862-4183-A97E-AF3E65DC706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lookup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asks D for B’s IP addre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2438280" y="3428640"/>
            <a:ext cx="1295640" cy="12193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467440" y="3697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2CD-3B43-4CC9-B026-54E86072A600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CE400-5098-4F7E-8CF9-75E0FE21BDE1}" type="datetime3">
              <a:rPr lang="en-US"/>
              <a:t>July 31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rdwar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iffable if on same n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attacks that fiddle at this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82" name=""/>
            <p:cNvSpPr/>
            <p:nvPr/>
          </p:nvSpPr>
          <p:spPr>
            <a:xfrm>
              <a:off x="46368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Ethernet, AT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9CE-391B-4A2B-B898-9196A2F88E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A40CA-34A0-47C1-A883-7799A7EDF82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lookup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 asks B (or someone who knows about B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876920" y="2971800"/>
            <a:ext cx="1752480" cy="2286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412240" y="2590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48E-FB6D-4F30-959D-234A8965BB11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61BE2-7D9F-44CB-B9F5-BDFB201E597F}" type="datetime3">
              <a:rPr lang="en-US"/>
              <a:t>July 31, 2026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lookup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 answers, D caches the answer, and tells 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876920" y="2971800"/>
            <a:ext cx="1752480" cy="22860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2438280" y="3428640"/>
            <a:ext cx="1219320" cy="121932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897280" y="28195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7200" y="46483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DA9-CD7C-49D1-851D-2989E9419557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110B4-3E46-4753-9817-B658747EA9AE}" type="datetime3">
              <a:rPr lang="en-US"/>
              <a:t>July 31, 2026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lookup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uses the answ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97280" y="28195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2361960" y="2971800"/>
            <a:ext cx="4190760" cy="152388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26F-D087-4347-AC4E-CDC61C13F99A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78593-CCAE-4CD0-A032-40CC99EA6EA9}" type="datetime3">
              <a:rPr lang="en-US"/>
              <a:t>July 31, 2026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lookup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 remembers the answer for a given perio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897280" y="28195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73D-BB2E-4917-AB17-60C4248E268F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E23D2-22F4-42BD-86F3-6A5BA990A7C7}" type="datetime3">
              <a:rPr lang="en-US"/>
              <a:t>July 31, 2026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 attack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er C arranges for D to ask him a ques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2438280" y="3428640"/>
            <a:ext cx="1295640" cy="12193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467440" y="3697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EAB-2CEA-4CEA-B48D-34388AF26239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83715-CE96-47B1-93B4-A59A0252D1DF}" type="datetime3">
              <a:rPr lang="en-US"/>
              <a:t>July 31, 2026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 attack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er C arranges for D to ask him a ques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809880" y="3429000"/>
            <a:ext cx="2514600" cy="16765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7680" y="3809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928-7EEA-4F2A-8F6F-8A8FF83996F8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2BDAD-739E-4E4A-8726-A7DF76D7C7A6}" type="datetime3">
              <a:rPr lang="en-US"/>
              <a:t>July 31, 2026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 attack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attacker gives an answer, plus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86200" y="3429000"/>
            <a:ext cx="2438280" cy="16765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19720" y="3429000"/>
            <a:ext cx="2438280" cy="16765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00520" y="28954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00520" y="24382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C24-52DD-46D7-8E05-A58CE4A447B5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A3D76-FBBA-46EA-A115-B1756AA876C2}" type="datetime3">
              <a:rPr lang="en-US"/>
              <a:t>July 31, 202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 attack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ts his answer, and uses i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2438280" y="3428640"/>
            <a:ext cx="1219320" cy="10666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895480" y="28954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900520" y="24382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57200" y="46483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0CBF-E005-41C0-995F-A0E84B5B66B3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9F139-5143-4B90-A861-9E8A36A9E60F}" type="datetime3">
              <a:rPr lang="en-US"/>
              <a:t>July 31, 2026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 attack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cache has an extra answ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895480" y="28954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00520" y="24382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98C-9965-4AF7-A791-94A9F5797E09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A6224-D6F3-471F-8450-5D5A574E743E}" type="datetime3">
              <a:rPr lang="en-US"/>
              <a:t>July 31, 2026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 attack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A asks for B’s addre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895480" y="28954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00520" y="24382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2438280" y="3428640"/>
            <a:ext cx="1295640" cy="12193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467440" y="3697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E6DF-3A55-4027-9296-32814C895E1A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8FD59-9534-4FA0-ACB0-6EBB7F31082C}" type="datetime3">
              <a:rPr lang="en-US"/>
              <a:t>July 31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 attack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 “knows” the answer already, and returns i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895480" y="28954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900520" y="24382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2438280" y="3428640"/>
            <a:ext cx="1295640" cy="121932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" y="46483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E31-1506-49D0-9106-79B933D826CA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70B86-E6A8-4975-AAAF-43377AB305EA}" type="datetime3">
              <a:rPr lang="en-US"/>
              <a:t>July 31, 2026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 attack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uses the answ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895480" y="28954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900520" y="24382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 flipV="1">
            <a:off x="2362320" y="4723920"/>
            <a:ext cx="2666880" cy="68580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46483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908-DD70-47F2-B85D-5218C166C70E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3353B-B7AE-4DB1-8425-562295E41E28}" type="datetime3">
              <a:rPr lang="en-US"/>
              <a:t>July 31, 2026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s the wrong answer on inverse lookups, foiling rsh, rlog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connect to the wrong site they c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of a login, and capture pass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of a web page, and give wrong ans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 themselves up for man-in-the-middle attacks, relaying info to the real ser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57A-FE68-4199-8397-363A68D11380}" type="slidenum">
              <a:t>1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D97D4-D3EE-485F-BE6A-2E0C37B21ED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der versions of bind fall for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an even send an answer without a query, to some implementation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 responses can be spoofed 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f the query gets two answers: use the first?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SEC fixes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23C-E46F-4CE9-8217-483251D80B3D}" type="slidenum">
              <a:t>1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C7D15-DCD3-4396-9E76-77646C18984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x, and bug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ck smashing attacks, et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GI scripts :it is always dangerous to add pr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ous configuration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ache security relies on good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s access to internal datab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40A-73EE-4BB6-9267-3A3C8BA8CA44}" type="slidenum">
              <a:t>1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20CDB-E8D1-41AB-9DC7-B25E4C28816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services: SMB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col uses weak authent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ba is big:  I prefer using chro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816-6F14-4C5A-B07C-072DCF414303}" type="slidenum">
              <a:t>1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43396-25D7-4DF9-88E4-8074F0D07B7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services: Microsoft authenticatio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er PPT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ak authent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ly weak encryption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Bruce Schneier’s paper in ACM CCS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D26-D713-4105-B711-94EEA6E0D749}" type="slidenum">
              <a:t>1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6DA3A-E146-4CB9-810A-B1F0E755461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3 and IM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C - no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aud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DP is dangerous, TCP 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b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 to g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UDP implementations respond to multicast pack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1D1-15FF-4991-8331-BADCEB41BEC5}" type="slidenum">
              <a:t>1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AE75D-5159-4F77-81A7-1D4C88F2A1C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onential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C viru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tens of thousands of them, including vari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nse is best made at the host, with a virus check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database of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 viru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 duff made 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 viruses are eas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 viruses are rar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FE9-5412-4B2F-910A-9BBAC3174E65}" type="slidenum">
              <a:t>1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55A54-5A77-4894-BDF1-35628C6A039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hoc collection of TCP/IP interconn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real central auth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central knowledge of conn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flows, but not y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er-packet billing, in most pl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equipment too busy to help law enforc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perimeters are impossible to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984-29DD-43D5-8CBB-CA3B68A698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D3328-59F2-4CF3-8BFC-77F1A16E7F0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walls can filter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seems like the right pl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requires a lot of work, and they can be hidd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 viruses are the most alar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access to the entire PC, with a little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AEA-13CE-413B-8674-D8EB4D420D3C}" type="slidenum">
              <a:t>1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CFAB5-98BC-4A57-902B-12F6C67328B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Morris Wor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 2, 198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ead u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gerd (stack smashin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mail (DEBUG back do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word gu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ly controlled exponential grow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eam of experts fought it quick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0D4-9D7A-41D4-B924-85C7C756C3EE}" type="slidenum">
              <a:t>1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7445D-F053-4F0C-8A4D-A1B4A74D59A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latest: just i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-b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 system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don’t know much about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642-B22F-4D2E-9762-9EDB40481E07}" type="slidenum">
              <a:t>1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BEB08-854E-495C-BB71-E848DE72A4D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Solu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 solutions: ssh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rce code is avail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dely examin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: 2 protocol flaws found so f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ck smashing sc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ably the best crypto solution for 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27D-D498-4A01-8925-0B0D26C6CB46}" type="slidenum">
              <a:t>1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CCD56-611A-4C6E-A61B-4C2D2B89AC7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solution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rdware toke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965160" y="1336680"/>
            <a:ext cx="2165400" cy="362268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95400" y="5257800"/>
            <a:ext cx="3867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gital Pathwa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NK-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-ba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/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or printout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ot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proprietary server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466-EF3B-412C-9EC3-77C830899297}" type="slidenum">
              <a:t>1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B703C-BD5B-4A3C-8D62-3FBCDDB40D8B}" type="datetime3">
              <a:rPr lang="en-US"/>
              <a:t>July 31, 2026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e-time Pass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581120" y="1881360"/>
            <a:ext cx="6496200" cy="39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/os (i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ation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response code for 70202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e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7CF-F108-46E7-ACA1-BF3D6B6E1DC5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F5522-FAA0-494B-B6CB-A83D910BDE83}" type="datetime3">
              <a:rPr lang="en-US"/>
              <a:t>July 31, 202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5337000" y="2001960"/>
            <a:ext cx="3391200" cy="2303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er and client share a secret ke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25440" y="2000160"/>
            <a:ext cx="34084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6934320" y="3581280"/>
            <a:ext cx="1676160" cy="534600"/>
            <a:chOff x="6934320" y="3581280"/>
            <a:chExt cx="1676160" cy="534600"/>
          </a:xfrm>
        </p:grpSpPr>
        <p:sp>
          <p:nvSpPr>
            <p:cNvPr id="1203" name=""/>
            <p:cNvSpPr/>
            <p:nvPr/>
          </p:nvSpPr>
          <p:spPr>
            <a:xfrm>
              <a:off x="6934320" y="3581280"/>
              <a:ext cx="167616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9652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457200" y="3581280"/>
            <a:ext cx="1676520" cy="534600"/>
            <a:chOff x="457200" y="3581280"/>
            <a:chExt cx="1676520" cy="534600"/>
          </a:xfrm>
        </p:grpSpPr>
        <p:sp>
          <p:nvSpPr>
            <p:cNvPr id="1206" name=""/>
            <p:cNvSpPr/>
            <p:nvPr/>
          </p:nvSpPr>
          <p:spPr>
            <a:xfrm>
              <a:off x="457200" y="3581280"/>
              <a:ext cx="167652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888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DE8-5F34-4729-B397-85085EDBA086}" type="slidenum">
              <a:t>1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5C4A3-92FF-4FD1-9064-9BF48BFA209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/>
          <p:nvPr/>
        </p:nvSpPr>
        <p:spPr>
          <a:xfrm>
            <a:off x="5337000" y="2001960"/>
            <a:ext cx="3391200" cy="2303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er generates a unique challen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25440" y="2000160"/>
            <a:ext cx="34084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6934320" y="3581280"/>
            <a:ext cx="1676160" cy="534600"/>
            <a:chOff x="6934320" y="3581280"/>
            <a:chExt cx="1676160" cy="534600"/>
          </a:xfrm>
        </p:grpSpPr>
        <p:sp>
          <p:nvSpPr>
            <p:cNvPr id="1214" name=""/>
            <p:cNvSpPr/>
            <p:nvPr/>
          </p:nvSpPr>
          <p:spPr>
            <a:xfrm>
              <a:off x="6934320" y="3581280"/>
              <a:ext cx="167616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9652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57200" y="3581280"/>
            <a:ext cx="1676520" cy="534600"/>
            <a:chOff x="457200" y="3581280"/>
            <a:chExt cx="1676520" cy="534600"/>
          </a:xfrm>
        </p:grpSpPr>
        <p:sp>
          <p:nvSpPr>
            <p:cNvPr id="1217" name=""/>
            <p:cNvSpPr/>
            <p:nvPr/>
          </p:nvSpPr>
          <p:spPr>
            <a:xfrm>
              <a:off x="457200" y="3581280"/>
              <a:ext cx="167652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888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5513760" y="29707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3429000" y="3200400"/>
            <a:ext cx="1905120" cy="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041720" y="27421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FF9-ED1E-454C-BA7A-163834BCECEC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92CB6-4C95-4B7B-8FF2-7FA86F0D45C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337000" y="2001960"/>
            <a:ext cx="3391200" cy="2303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client encrypts the challenge with key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25440" y="2000160"/>
            <a:ext cx="34084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6934320" y="3581280"/>
            <a:ext cx="1676160" cy="534600"/>
            <a:chOff x="6934320" y="3581280"/>
            <a:chExt cx="1676160" cy="534600"/>
          </a:xfrm>
        </p:grpSpPr>
        <p:sp>
          <p:nvSpPr>
            <p:cNvPr id="1228" name=""/>
            <p:cNvSpPr/>
            <p:nvPr/>
          </p:nvSpPr>
          <p:spPr>
            <a:xfrm>
              <a:off x="6934320" y="3581280"/>
              <a:ext cx="167616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9652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57200" y="3581280"/>
            <a:ext cx="1676520" cy="534600"/>
            <a:chOff x="457200" y="3581280"/>
            <a:chExt cx="1676520" cy="534600"/>
          </a:xfrm>
        </p:grpSpPr>
        <p:sp>
          <p:nvSpPr>
            <p:cNvPr id="1231" name=""/>
            <p:cNvSpPr/>
            <p:nvPr/>
          </p:nvSpPr>
          <p:spPr>
            <a:xfrm>
              <a:off x="457200" y="3581280"/>
              <a:ext cx="167652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888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 flipH="1">
            <a:off x="3429000" y="3200400"/>
            <a:ext cx="1905120" cy="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041720" y="27421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2133720" y="3200400"/>
            <a:ext cx="1295280" cy="38088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BB0-20CF-4E86-BB50-F0678CC8AAD5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A0A3C-7E7B-4599-9981-AA6983B91F8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Anything large enough to be called</a:t>
            </a:r>
            <a:br>
              <a:rPr sz="2600"/>
            </a:b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an “intranet” is probably out of contro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5337000" y="2001960"/>
            <a:ext cx="3391200" cy="2303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and returns the resul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25440" y="2000160"/>
            <a:ext cx="34084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6934320" y="3581280"/>
            <a:ext cx="1676160" cy="534600"/>
            <a:chOff x="6934320" y="3581280"/>
            <a:chExt cx="1676160" cy="534600"/>
          </a:xfrm>
        </p:grpSpPr>
        <p:sp>
          <p:nvSpPr>
            <p:cNvPr id="1242" name=""/>
            <p:cNvSpPr/>
            <p:nvPr/>
          </p:nvSpPr>
          <p:spPr>
            <a:xfrm>
              <a:off x="6934320" y="3581280"/>
              <a:ext cx="167616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9652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457200" y="3581280"/>
            <a:ext cx="1676520" cy="534600"/>
            <a:chOff x="457200" y="3581280"/>
            <a:chExt cx="1676520" cy="534600"/>
          </a:xfrm>
        </p:grpSpPr>
        <p:sp>
          <p:nvSpPr>
            <p:cNvPr id="1245" name=""/>
            <p:cNvSpPr/>
            <p:nvPr/>
          </p:nvSpPr>
          <p:spPr>
            <a:xfrm>
              <a:off x="457200" y="3581280"/>
              <a:ext cx="167652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888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"/>
          <p:cNvSpPr/>
          <p:nvPr/>
        </p:nvSpPr>
        <p:spPr>
          <a:xfrm flipH="1">
            <a:off x="3429000" y="3200400"/>
            <a:ext cx="1905120" cy="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041720" y="27421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2133720" y="3200400"/>
            <a:ext cx="1295280" cy="38088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133720" y="3962520"/>
            <a:ext cx="3200400" cy="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738240" y="35042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A80-C0B2-47FA-ACCB-7AAF8E29CF96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3C91F-A082-421A-9424-B002AA02F72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5337000" y="2001960"/>
            <a:ext cx="3391200" cy="2303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erver checks the resul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25440" y="2000160"/>
            <a:ext cx="34084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934320" y="3581280"/>
            <a:ext cx="1676160" cy="534600"/>
            <a:chOff x="6934320" y="3581280"/>
            <a:chExt cx="1676160" cy="534600"/>
          </a:xfrm>
        </p:grpSpPr>
        <p:sp>
          <p:nvSpPr>
            <p:cNvPr id="1258" name=""/>
            <p:cNvSpPr/>
            <p:nvPr/>
          </p:nvSpPr>
          <p:spPr>
            <a:xfrm>
              <a:off x="6934320" y="3581280"/>
              <a:ext cx="167616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9652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457200" y="3581280"/>
            <a:ext cx="1676520" cy="534600"/>
            <a:chOff x="457200" y="3581280"/>
            <a:chExt cx="1676520" cy="534600"/>
          </a:xfrm>
        </p:grpSpPr>
        <p:sp>
          <p:nvSpPr>
            <p:cNvPr id="1261" name=""/>
            <p:cNvSpPr/>
            <p:nvPr/>
          </p:nvSpPr>
          <p:spPr>
            <a:xfrm>
              <a:off x="457200" y="3581280"/>
              <a:ext cx="167652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88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5029200" y="2971800"/>
            <a:ext cx="1905120" cy="68580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041720" y="27421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5181120" y="3962520"/>
            <a:ext cx="1752840" cy="22860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738240" y="35042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738240" y="40374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FB8-815D-4BC0-9A5A-6027E781BEC1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B21E8-DC00-45FE-AE0E-74992E9EA4E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e-time pass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lient proves he has the key, without revealing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hardware, he may not even know the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keys are computer-gene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weak pass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 challenges don’t repeat, an eavesdropper can’t predict the answer, unless the encryption (DES) is brok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E79-6CE3-43BC-B101-65AA25D6616D}" type="slidenum">
              <a:t>1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10246-D474-472D-A3D3-FF585B8F3B3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e-time pass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key can be generated from a password but the challenge/response pair is subject to a dictionary at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extra work for the user is worth the effor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strong authent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es use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s about a page of C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implemented in a remote authentication ser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903-842C-4F35-AE05-47BDECE34054}" type="slidenum">
              <a:t>1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3A66B-ED8F-40C4-99FC-ABD175C3F11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 solutions: IP/SEC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’s available 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crosoft, soon, they s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PNs in firewa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ustrates eavesdropping and hij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t a panacea: we still have weak servi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036-55F4-4746-B160-6E85A00991FE}" type="slidenum">
              <a:t>1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108C7-F421-4A80-8138-FC1D8C707ED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 solutions: cget/cput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henticated fil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ny progra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rusting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root instant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imum function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161-D204-416A-8E0C-639E965B6E97}" type="slidenum">
              <a:t>1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8466F-5773-4B28-8125-F02F3CAAE61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 solutions: stage/unstage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henticated directory mirro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port web or FTP distributions from safe ho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stage suitable for fetching lo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CAF-E943-4567-B920-D01FBA12E50A}" type="slidenum">
              <a:t>1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E07BC-3CF6-4FFE-9228-D3E0BDAC1C9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 solutions: chroot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n in doubt, cage that service in a jai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’s a pain to do, but protects the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CA8-2D36-443D-BB21-2BBE69CDF282}" type="slidenum">
              <a:t>1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A79BE-1355-4B02-8D22-ADC12DC79C9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Gory Enough For You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gtraq mailing 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walls and Internet Secu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man and Zwic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word search in search engines for hack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ki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B3A-EB14-47FB-AB09-9B1463D63A46}" type="slidenum">
              <a:t>1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F7D75-5435-4E17-B373-CB9983D7BE8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y Inform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cs.bell-labs.com/~ches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“cheswick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@bell-labs.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walls and Internet Security: Repelling the Wily Hack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wick and Bellov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BN 0-201-63357-4, Addison Wesley, 1994. Also in German, Japanese, and Fre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, I’d love to sign your 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473-1EED-4441-B3F2-341C44C43DC8}" type="slidenum">
              <a:t>1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77EF4-1C25-4369-AEFD-61D85DAF49A0}" type="datetime3">
              <a:rPr lang="en-US"/>
              <a:t>July 31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You don’t know to whom you are connect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ms are cheap and easy to hook u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n’s “fax” mach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 commuting networks may link to spouse’s company, or the Interne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routing worke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te managers can make extranet connections that aren’t authoriz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connections can be very hard to fi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the security threat is still t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anet challeng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362-7EDA-4D68-95B8-C61DEA180D6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0B980-6311-43CD-A341-E35D0EA7216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You don’t know how many hosts you hav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ontrol is at the network level, not the host leve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 server entries are optiona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body keeps the reverse name service information up-to-da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ping takes work, and doesn’t catch hosts that are dow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network links are ephemera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anet challen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FFD-DAEF-4387-A191-88827FC9A9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2D026-7EE6-4DE3-A884-005AE72BC4F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ucent now (sort o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3363840"/>
            <a:ext cx="5448600" cy="1170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55720" y="2271600"/>
            <a:ext cx="25084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nt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593800" y="2546280"/>
            <a:ext cx="765360" cy="787320"/>
            <a:chOff x="2593800" y="2546280"/>
            <a:chExt cx="765360" cy="787320"/>
          </a:xfrm>
        </p:grpSpPr>
        <p:grpSp>
          <p:nvGrpSpPr>
            <p:cNvPr id="201" name=""/>
            <p:cNvGrpSpPr/>
            <p:nvPr/>
          </p:nvGrpSpPr>
          <p:grpSpPr>
            <a:xfrm>
              <a:off x="2593800" y="2781360"/>
              <a:ext cx="765360" cy="318960"/>
              <a:chOff x="2593800" y="2781360"/>
              <a:chExt cx="765360" cy="318960"/>
            </a:xfrm>
          </p:grpSpPr>
          <p:sp>
            <p:nvSpPr>
              <p:cNvPr id="202" name=""/>
              <p:cNvSpPr/>
              <p:nvPr/>
            </p:nvSpPr>
            <p:spPr>
              <a:xfrm flipH="1">
                <a:off x="27093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29746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26575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5938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 flipV="1">
              <a:off x="30081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9908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724040" y="2565360"/>
            <a:ext cx="766800" cy="787320"/>
            <a:chOff x="1724040" y="2565360"/>
            <a:chExt cx="766800" cy="787320"/>
          </a:xfrm>
        </p:grpSpPr>
        <p:grpSp>
          <p:nvGrpSpPr>
            <p:cNvPr id="209" name=""/>
            <p:cNvGrpSpPr/>
            <p:nvPr/>
          </p:nvGrpSpPr>
          <p:grpSpPr>
            <a:xfrm>
              <a:off x="1724040" y="2798640"/>
              <a:ext cx="766800" cy="320760"/>
              <a:chOff x="1724040" y="2798640"/>
              <a:chExt cx="766800" cy="320760"/>
            </a:xfrm>
          </p:grpSpPr>
          <p:sp>
            <p:nvSpPr>
              <p:cNvPr id="210" name=""/>
              <p:cNvSpPr/>
              <p:nvPr/>
            </p:nvSpPr>
            <p:spPr>
              <a:xfrm flipH="1">
                <a:off x="1842840" y="3119400"/>
                <a:ext cx="5634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2107800" y="283860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790640" y="283860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1724040" y="2798640"/>
                <a:ext cx="7668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flipV="1">
              <a:off x="2139840" y="316692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122560" y="256536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817800" y="1878120"/>
            <a:ext cx="2124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39880" y="1847880"/>
            <a:ext cx="2440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68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327720" y="3579840"/>
            <a:ext cx="409680" cy="506520"/>
            <a:chOff x="6327720" y="3579840"/>
            <a:chExt cx="409680" cy="506520"/>
          </a:xfrm>
        </p:grpSpPr>
        <p:sp>
          <p:nvSpPr>
            <p:cNvPr id="220" name=""/>
            <p:cNvSpPr/>
            <p:nvPr/>
          </p:nvSpPr>
          <p:spPr>
            <a:xfrm flipH="1">
              <a:off x="6327720" y="357984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327720" y="366408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327720" y="374796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327720" y="383220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327720" y="391788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27720" y="400212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327720" y="408636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324480" y="3363840"/>
            <a:ext cx="22100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3444840"/>
            <a:ext cx="548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ucent - 130,000, 266K IP addresses, 3000 nets an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508200" y="2546280"/>
            <a:ext cx="765360" cy="787320"/>
            <a:chOff x="3508200" y="2546280"/>
            <a:chExt cx="765360" cy="787320"/>
          </a:xfrm>
        </p:grpSpPr>
        <p:grpSp>
          <p:nvGrpSpPr>
            <p:cNvPr id="230" name=""/>
            <p:cNvGrpSpPr/>
            <p:nvPr/>
          </p:nvGrpSpPr>
          <p:grpSpPr>
            <a:xfrm>
              <a:off x="3508200" y="2781360"/>
              <a:ext cx="765360" cy="318960"/>
              <a:chOff x="3508200" y="2781360"/>
              <a:chExt cx="765360" cy="31896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36237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38890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35719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35082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flipV="1">
              <a:off x="39225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9052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422600" y="2546280"/>
            <a:ext cx="765360" cy="787320"/>
            <a:chOff x="4422600" y="2546280"/>
            <a:chExt cx="765360" cy="787320"/>
          </a:xfrm>
        </p:grpSpPr>
        <p:grpSp>
          <p:nvGrpSpPr>
            <p:cNvPr id="238" name=""/>
            <p:cNvGrpSpPr/>
            <p:nvPr/>
          </p:nvGrpSpPr>
          <p:grpSpPr>
            <a:xfrm>
              <a:off x="4422600" y="2781360"/>
              <a:ext cx="765360" cy="318960"/>
              <a:chOff x="4422600" y="2781360"/>
              <a:chExt cx="765360" cy="318960"/>
            </a:xfrm>
          </p:grpSpPr>
          <p:sp>
            <p:nvSpPr>
              <p:cNvPr id="239" name=""/>
              <p:cNvSpPr/>
              <p:nvPr/>
            </p:nvSpPr>
            <p:spPr>
              <a:xfrm flipH="1">
                <a:off x="45381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flipV="1">
                <a:off x="48034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44863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4226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 flipV="1">
              <a:off x="48369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48196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37000" y="2546280"/>
            <a:ext cx="765360" cy="787320"/>
            <a:chOff x="5337000" y="2546280"/>
            <a:chExt cx="765360" cy="787320"/>
          </a:xfrm>
        </p:grpSpPr>
        <p:grpSp>
          <p:nvGrpSpPr>
            <p:cNvPr id="246" name=""/>
            <p:cNvGrpSpPr/>
            <p:nvPr/>
          </p:nvGrpSpPr>
          <p:grpSpPr>
            <a:xfrm>
              <a:off x="5337000" y="2781360"/>
              <a:ext cx="765360" cy="318960"/>
              <a:chOff x="5337000" y="2781360"/>
              <a:chExt cx="765360" cy="318960"/>
            </a:xfrm>
          </p:grpSpPr>
          <p:sp>
            <p:nvSpPr>
              <p:cNvPr id="247" name=""/>
              <p:cNvSpPr/>
              <p:nvPr/>
            </p:nvSpPr>
            <p:spPr>
              <a:xfrm flipH="1">
                <a:off x="54525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57178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54007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3370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 flipV="1">
              <a:off x="57513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7340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656240" y="1878120"/>
            <a:ext cx="2124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36640" y="1265400"/>
            <a:ext cx="2510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87240" y="5227560"/>
            <a:ext cx="471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~200 business part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5200" y="4998960"/>
            <a:ext cx="307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ousand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elecomm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593800" y="4575240"/>
            <a:ext cx="301680" cy="45396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61040" y="4575240"/>
            <a:ext cx="1139760" cy="68256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0A0-4DD1-40CC-BDC5-C68058F0988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0F422-1CF8-430B-916E-F0D72D1EC219}" type="datetime3">
              <a:rPr lang="en-US"/>
              <a:t>July 31, 20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Firewalls: Not a panace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doors usually diminish the effectiv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rcial firewalls are probably 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give community a false sense of securit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ewall is often the only secure part of a configu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ople go around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ople go through the bad 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otection from insi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anet challeng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8AB4-6FB3-4E02-8C0E-3B294B20B63C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96AF5-D8B7-4437-A5E7-300B4FF72FF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mote Attacks, and anonymity, are eas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acks can be laundered through many hosts around the wor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ef attacks are hard to track dow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verage defender is cluel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EF8-D275-462D-BB93-F971646C8C06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5C6BB-3305-4E05-B464-E7DB704B1AA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Internet Basic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et commun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8400" y="1905120"/>
            <a:ext cx="238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1360" y="1854360"/>
            <a:ext cx="2539800" cy="2463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1360" y="2448000"/>
            <a:ext cx="2539800" cy="635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1360" y="3683160"/>
            <a:ext cx="2539800" cy="634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1840" y="2590920"/>
            <a:ext cx="15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42400" y="32004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28680" y="373392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664240" y="1854360"/>
            <a:ext cx="2539800" cy="2463480"/>
            <a:chOff x="5664240" y="1854360"/>
            <a:chExt cx="2539800" cy="2463480"/>
          </a:xfrm>
        </p:grpSpPr>
        <p:sp>
          <p:nvSpPr>
            <p:cNvPr id="55" name=""/>
            <p:cNvSpPr/>
            <p:nvPr/>
          </p:nvSpPr>
          <p:spPr>
            <a:xfrm>
              <a:off x="5741280" y="1905120"/>
              <a:ext cx="238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64240" y="1854360"/>
              <a:ext cx="2539800" cy="2463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64240" y="2448000"/>
              <a:ext cx="2539800" cy="6350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64240" y="3683160"/>
              <a:ext cx="2539800" cy="6346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4720" y="2590920"/>
              <a:ext cx="1519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95280" y="3200400"/>
              <a:ext cx="47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81560" y="373392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057400" y="4343400"/>
            <a:ext cx="144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029200" y="4343400"/>
            <a:ext cx="137160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30520" y="4826160"/>
            <a:ext cx="1473120" cy="6346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61200" y="495288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54120" y="1219320"/>
            <a:ext cx="9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42120" y="129528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4E5-52E4-4A3F-B5E3-018F63A33A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A7F84-E4BB-4FE4-8670-EEC83B14F79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eback can be very har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ueless IS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ant law enforc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ies with foreign cou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not be against the local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acker may cease attack before traceback is comple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9A7-A1E8-4353-B09C-3B22E444A08C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A987B-77BD-447C-A92B-8296DA30821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oculture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 set of target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ke planting Kansas with a single strain of wheat, or vineyards with a single root st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110-BDA8-4C3B-A87D-797A3CE7197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FD17F-5BD6-462D-9701-97F43EC4C59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ing scripts are published and shar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ers develop attack software for the rest of 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cking FAQs are comm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tools are easily avail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up “rootki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C92-571A-438E-B3A0-2F5C7469C1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96C0B-C21D-4AFA-9637-F3A871D2438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orly writ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or audi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 in most h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r services and protocols are r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dors sell flawed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don’t fix h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st-bas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curity is usually bro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requires discipline: not found in market lea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8D8-2FBA-44FD-860E-9BE5A944EA4A}" type="slidenum">
              <a:t>2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10D4D-2A32-4323-941E-DBCD26E0245C}" type="datetime3">
              <a:rPr lang="en-US"/>
              <a:t>July 31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Typical Erro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hecked user input submitted to the shell or Pe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dcard and escape characters take over the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GI scri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 options, commands, or back do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UG and others in send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string length is not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 buffer overrun corrupts s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cpy, gets, sprint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r supplies assembly code, and jumps 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ger (Morris worm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y Netsca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d (lat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67F-8FD9-43FA-90D3-751476514B94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A291B-8839-438B-8BC0-627D1B9BBC6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vileged programs are much too lar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mail is tens of thousands of lines of complex code, running a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scape browser/communicator is hu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systems are hu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 are never retired, only ad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hort, simple program is hard to get r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A9F-5808-4E1A-8366-2EF875C51F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29FE7-7DD6-4036-A0B8-D7B67B9FA8C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Protoco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words transmitted in the cle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/response is better, though subject to dictionary att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E can hide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 generated passwords are better, but require devices or printou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-based authent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OK in controlled environ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 and routing attacks can fool the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789-4F02-4081-AB4D-06385046F19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C21B4-5FE2-4CB7-87FA-22470167BFE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akest Link Compromi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targ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ulnerabilities are common in network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break-in compromi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t of the h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host’s net (via sniffe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sting h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vital” targets may be vit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1F1-F56B-486D-B209-1DCD6E73EB3E}" type="slidenum">
              <a:t>2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58D67-2498-4475-A738-7199E3F6050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Do They Find Dangerous Port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t scann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y to wr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f-open (SYN-only) scanners often don’t show up in lo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er to scan for UDP services, but not by mu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537-F656-42D3-B40A-BF64D18516B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136C3-0099-4D63-8977-1F161F46AE9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afer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rber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rberized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s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henticated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get/cp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ge/unst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rcial serv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sca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 Mark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3C7-ED0B-44F4-8357-3E2641B136BB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EE53D-7659-48DF-9BBA-B433021A08F6}" type="datetime3">
              <a:rPr lang="en-US"/>
              <a:t>July 31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Internet Basic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et commun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8400" y="1905120"/>
            <a:ext cx="238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1360" y="1854360"/>
            <a:ext cx="2539800" cy="2463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1360" y="2448000"/>
            <a:ext cx="2539800" cy="635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1360" y="3683160"/>
            <a:ext cx="2539800" cy="634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21840" y="2590920"/>
            <a:ext cx="15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42400" y="32004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28680" y="373392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664240" y="1854360"/>
            <a:ext cx="2539800" cy="2463480"/>
            <a:chOff x="5664240" y="1854360"/>
            <a:chExt cx="2539800" cy="2463480"/>
          </a:xfrm>
        </p:grpSpPr>
        <p:sp>
          <p:nvSpPr>
            <p:cNvPr id="77" name=""/>
            <p:cNvSpPr/>
            <p:nvPr/>
          </p:nvSpPr>
          <p:spPr>
            <a:xfrm>
              <a:off x="5741280" y="1905120"/>
              <a:ext cx="238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64240" y="1854360"/>
              <a:ext cx="2539800" cy="2463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64240" y="2448000"/>
              <a:ext cx="2539800" cy="6350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64240" y="3683160"/>
              <a:ext cx="2539800" cy="6346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74720" y="2590920"/>
              <a:ext cx="1519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95280" y="3200400"/>
              <a:ext cx="47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81560" y="373392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2057400" y="4343400"/>
            <a:ext cx="144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029200" y="4343400"/>
            <a:ext cx="137160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30520" y="4826160"/>
            <a:ext cx="1473120" cy="6346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61200" y="495288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54120" y="1219320"/>
            <a:ext cx="9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42120" y="129528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1040" y="2446200"/>
            <a:ext cx="5369040" cy="2702160"/>
          </a:xfrm>
          <a:custGeom>
            <a:avLst/>
            <a:gdLst/>
            <a:ahLst/>
            <a:rect l="l" t="t" r="r" b="b"/>
            <a:pathLst>
              <a:path w="3382" h="1702">
                <a:moveTo>
                  <a:pt x="128" y="0"/>
                </a:moveTo>
                <a:cubicBezTo>
                  <a:pt x="149" y="236"/>
                  <a:pt x="0" y="1142"/>
                  <a:pt x="252" y="1417"/>
                </a:cubicBezTo>
                <a:cubicBezTo>
                  <a:pt x="504" y="1692"/>
                  <a:pt x="1164" y="1649"/>
                  <a:pt x="1641" y="1651"/>
                </a:cubicBezTo>
                <a:cubicBezTo>
                  <a:pt x="2118" y="1653"/>
                  <a:pt x="2852" y="1702"/>
                  <a:pt x="3117" y="1427"/>
                </a:cubicBezTo>
                <a:cubicBezTo>
                  <a:pt x="3382" y="1152"/>
                  <a:pt x="3207" y="297"/>
                  <a:pt x="3231" y="0"/>
                </a:cubicBezTo>
              </a:path>
            </a:pathLst>
          </a:custGeom>
          <a:noFill/>
          <a:ln w="88920">
            <a:solidFill>
              <a:srgbClr val="0000ff"/>
            </a:solidFill>
            <a:round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4A1-49D0-4B18-A4A0-E44D2C950B7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1DA12-C820-4F9D-8B8D-BE458A43FD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ack Smashing Attack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grams don’t check their inpu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es lik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rcp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rintf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are inherently danger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input length is too long, it can overwrite memory in C, overwriting variables and subroutine return address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piece of external data must be checked before it is us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doesn’t hurt to check internal stuff, to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sert.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PU time is che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34D-2A5D-4D3E-A7AE-A10E77C961F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29A5D-2AAD-45C7-BF7B-3B487FB4DD2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133720" y="1600200"/>
            <a:ext cx="1981080" cy="1600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20640" y="205740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tack: before a procedure cal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9D7-B614-46D0-819A-8E6BAA1283A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89862-B8F5-4729-9FF6-BB680966C33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298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tack: while a procedure is run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36680" y="3240000"/>
            <a:ext cx="30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o go aft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is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190760" y="342900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12A-8329-4343-B64C-4E5BEDF43B9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CFAAC-16F2-4699-9AD5-4CA6660563A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311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tack: while a procedure is run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56840" y="449568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line goes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206600" y="46846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30C-3B5B-4577-BA8D-857A7301B04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925B8-139D-4E98-85AD-3411EB5E290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324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tack: while a procedure is run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56840" y="449568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line goes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206600" y="46846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33720" y="4648320"/>
            <a:ext cx="19810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274-C2C1-43D5-9DE9-3BC2A28FBAC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71947-B732-48C7-B45B-1E73B6CE4FB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338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ck smashing” att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1905120"/>
            <a:ext cx="1981080" cy="312408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55760" y="3352680"/>
            <a:ext cx="382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turn address,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06600" y="35416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515-D79D-4FB5-97E7-2257DCA41F1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02895-C4C4-4179-AD98-04D6A21AFE5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352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ck smashing” att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33720" y="1905120"/>
            <a:ext cx="1981080" cy="312408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54320" y="2133720"/>
            <a:ext cx="355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ode load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pace on the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206600" y="232236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03480" y="3581280"/>
            <a:ext cx="35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runs wi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ileges of the att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, usuall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D70-9322-4C42-8FF0-A8C6A0A2AF4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34C28-2262-43BD-B732-AECB4587728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former victims of stack-smashing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gerd (Morris wor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log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stat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ly Netscape brows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ly: file names in attachments to 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shd scare of two weeks a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B4E-20BE-41F1-BC4E-14FB1757267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D0F34-88EF-46B8-B996-C0897DA7806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table Progra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Internet Basic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et commun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5800" y="1219320"/>
            <a:ext cx="1571760" cy="1448640"/>
            <a:chOff x="685800" y="1219320"/>
            <a:chExt cx="1571760" cy="1448640"/>
          </a:xfrm>
        </p:grpSpPr>
        <p:sp>
          <p:nvSpPr>
            <p:cNvPr id="93" name=""/>
            <p:cNvSpPr/>
            <p:nvPr/>
          </p:nvSpPr>
          <p:spPr>
            <a:xfrm>
              <a:off x="833040" y="1523880"/>
              <a:ext cx="1289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5800" y="1515960"/>
              <a:ext cx="1571760" cy="11509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1793880"/>
              <a:ext cx="1571760" cy="297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" y="2370240"/>
              <a:ext cx="157176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000" y="1828800"/>
              <a:ext cx="853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94560" y="20574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88920" y="23623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86200" y="1219320"/>
              <a:ext cx="64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24280" y="1752480"/>
            <a:ext cx="1571400" cy="915480"/>
            <a:chOff x="4724280" y="1752480"/>
            <a:chExt cx="1571400" cy="915480"/>
          </a:xfrm>
        </p:grpSpPr>
        <p:sp>
          <p:nvSpPr>
            <p:cNvPr id="102" name=""/>
            <p:cNvSpPr/>
            <p:nvPr/>
          </p:nvSpPr>
          <p:spPr>
            <a:xfrm>
              <a:off x="4724280" y="20574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24280" y="23702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3040" y="20574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27040" y="23623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79320" y="17524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743200" y="1752480"/>
            <a:ext cx="1571400" cy="915480"/>
            <a:chOff x="2743200" y="1752480"/>
            <a:chExt cx="1571400" cy="915480"/>
          </a:xfrm>
        </p:grpSpPr>
        <p:sp>
          <p:nvSpPr>
            <p:cNvPr id="108" name=""/>
            <p:cNvSpPr/>
            <p:nvPr/>
          </p:nvSpPr>
          <p:spPr>
            <a:xfrm>
              <a:off x="2743200" y="20574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3200" y="23702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51960" y="20574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5960" y="23623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98240" y="17524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1752480"/>
            <a:ext cx="1571400" cy="915480"/>
            <a:chOff x="6553080" y="1752480"/>
            <a:chExt cx="1571400" cy="915480"/>
          </a:xfrm>
        </p:grpSpPr>
        <p:sp>
          <p:nvSpPr>
            <p:cNvPr id="114" name=""/>
            <p:cNvSpPr/>
            <p:nvPr/>
          </p:nvSpPr>
          <p:spPr>
            <a:xfrm>
              <a:off x="6553080" y="20574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23702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1840" y="20574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5840" y="23623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8120" y="17524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800600" y="3657600"/>
            <a:ext cx="1571400" cy="915480"/>
            <a:chOff x="4800600" y="3657600"/>
            <a:chExt cx="1571400" cy="915480"/>
          </a:xfrm>
        </p:grpSpPr>
        <p:sp>
          <p:nvSpPr>
            <p:cNvPr id="120" name=""/>
            <p:cNvSpPr/>
            <p:nvPr/>
          </p:nvSpPr>
          <p:spPr>
            <a:xfrm>
              <a:off x="4800600" y="396252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00600" y="427536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09360" y="396252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03360" y="426744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5640" y="365760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971800" y="3657600"/>
            <a:ext cx="1571400" cy="915480"/>
            <a:chOff x="2971800" y="3657600"/>
            <a:chExt cx="1571400" cy="915480"/>
          </a:xfrm>
        </p:grpSpPr>
        <p:sp>
          <p:nvSpPr>
            <p:cNvPr id="126" name=""/>
            <p:cNvSpPr/>
            <p:nvPr/>
          </p:nvSpPr>
          <p:spPr>
            <a:xfrm>
              <a:off x="2971800" y="396252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427536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80560" y="396252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4560" y="426744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6840" y="365760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705720" y="3124080"/>
            <a:ext cx="1571400" cy="1448640"/>
            <a:chOff x="6705720" y="3124080"/>
            <a:chExt cx="1571400" cy="1448640"/>
          </a:xfrm>
        </p:grpSpPr>
        <p:sp>
          <p:nvSpPr>
            <p:cNvPr id="132" name=""/>
            <p:cNvSpPr/>
            <p:nvPr/>
          </p:nvSpPr>
          <p:spPr>
            <a:xfrm>
              <a:off x="6852600" y="3428640"/>
              <a:ext cx="1289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05720" y="3420720"/>
              <a:ext cx="1571400" cy="11509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05720" y="3698640"/>
              <a:ext cx="1571400" cy="297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5720" y="427500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09560" y="3733560"/>
              <a:ext cx="853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13760" y="396216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08480" y="426708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71200" y="3124080"/>
              <a:ext cx="711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371600" y="1752480"/>
            <a:ext cx="7007400" cy="3149640"/>
          </a:xfrm>
          <a:custGeom>
            <a:avLst/>
            <a:gdLst/>
            <a:ahLst/>
            <a:rect l="l" t="t" r="r" b="b"/>
            <a:pathLst>
              <a:path w="4414" h="1984">
                <a:moveTo>
                  <a:pt x="0" y="0"/>
                </a:moveTo>
                <a:cubicBezTo>
                  <a:pt x="66" y="109"/>
                  <a:pt x="235" y="545"/>
                  <a:pt x="398" y="654"/>
                </a:cubicBezTo>
                <a:cubicBezTo>
                  <a:pt x="561" y="763"/>
                  <a:pt x="820" y="716"/>
                  <a:pt x="977" y="654"/>
                </a:cubicBezTo>
                <a:cubicBezTo>
                  <a:pt x="1134" y="592"/>
                  <a:pt x="1213" y="282"/>
                  <a:pt x="1339" y="282"/>
                </a:cubicBezTo>
                <a:cubicBezTo>
                  <a:pt x="1465" y="282"/>
                  <a:pt x="1584" y="592"/>
                  <a:pt x="1732" y="654"/>
                </a:cubicBezTo>
                <a:cubicBezTo>
                  <a:pt x="1880" y="716"/>
                  <a:pt x="2086" y="715"/>
                  <a:pt x="2229" y="654"/>
                </a:cubicBezTo>
                <a:cubicBezTo>
                  <a:pt x="2372" y="593"/>
                  <a:pt x="2468" y="290"/>
                  <a:pt x="2592" y="288"/>
                </a:cubicBezTo>
                <a:cubicBezTo>
                  <a:pt x="2716" y="286"/>
                  <a:pt x="2845" y="585"/>
                  <a:pt x="2974" y="644"/>
                </a:cubicBezTo>
                <a:cubicBezTo>
                  <a:pt x="3103" y="703"/>
                  <a:pt x="3239" y="703"/>
                  <a:pt x="3367" y="644"/>
                </a:cubicBezTo>
                <a:cubicBezTo>
                  <a:pt x="3495" y="585"/>
                  <a:pt x="3646" y="276"/>
                  <a:pt x="3744" y="288"/>
                </a:cubicBezTo>
                <a:cubicBezTo>
                  <a:pt x="3842" y="300"/>
                  <a:pt x="4414" y="567"/>
                  <a:pt x="3956" y="716"/>
                </a:cubicBezTo>
                <a:cubicBezTo>
                  <a:pt x="3498" y="865"/>
                  <a:pt x="1487" y="987"/>
                  <a:pt x="998" y="1182"/>
                </a:cubicBezTo>
                <a:cubicBezTo>
                  <a:pt x="509" y="1377"/>
                  <a:pt x="937" y="1834"/>
                  <a:pt x="1019" y="1885"/>
                </a:cubicBezTo>
                <a:cubicBezTo>
                  <a:pt x="1101" y="1936"/>
                  <a:pt x="1347" y="1493"/>
                  <a:pt x="1488" y="1488"/>
                </a:cubicBezTo>
                <a:cubicBezTo>
                  <a:pt x="1629" y="1483"/>
                  <a:pt x="1735" y="1793"/>
                  <a:pt x="1867" y="1854"/>
                </a:cubicBezTo>
                <a:cubicBezTo>
                  <a:pt x="1999" y="1915"/>
                  <a:pt x="2152" y="1923"/>
                  <a:pt x="2281" y="1854"/>
                </a:cubicBezTo>
                <a:cubicBezTo>
                  <a:pt x="2410" y="1785"/>
                  <a:pt x="2513" y="1440"/>
                  <a:pt x="2640" y="1440"/>
                </a:cubicBezTo>
                <a:cubicBezTo>
                  <a:pt x="2767" y="1440"/>
                  <a:pt x="2914" y="1782"/>
                  <a:pt x="3046" y="1854"/>
                </a:cubicBezTo>
                <a:cubicBezTo>
                  <a:pt x="3178" y="1926"/>
                  <a:pt x="3305" y="1984"/>
                  <a:pt x="3429" y="1875"/>
                </a:cubicBezTo>
                <a:cubicBezTo>
                  <a:pt x="3553" y="1766"/>
                  <a:pt x="3717" y="1341"/>
                  <a:pt x="3792" y="12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184-74FA-40CA-906E-61D7086EF9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699CE-7E03-475D-AD4E-4210E595736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ngerous service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rtable progra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X^H^H^H^H^H^H^HCOM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us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B50-CD29-4390-B719-B8070C77A54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1DA3C-E2C8-4496-AE91-6FF27015A22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ere do Programs Run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616120" y="1778040"/>
            <a:ext cx="3835440" cy="3682800"/>
            <a:chOff x="2616120" y="1778040"/>
            <a:chExt cx="3835440" cy="3682800"/>
          </a:xfrm>
        </p:grpSpPr>
        <p:sp>
          <p:nvSpPr>
            <p:cNvPr id="374" name=""/>
            <p:cNvSpPr/>
            <p:nvPr/>
          </p:nvSpPr>
          <p:spPr>
            <a:xfrm>
              <a:off x="3530520" y="2616120"/>
              <a:ext cx="2082960" cy="200664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16120" y="1778040"/>
              <a:ext cx="3835440" cy="36828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90800" y="3230640"/>
              <a:ext cx="1567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30160" y="1935000"/>
              <a:ext cx="19346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91B-F836-4C06-B65F-E4F7F8CFD02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50BF9-C07B-4A7B-9E67-762B7C176E4C}" type="datetime3">
              <a:rPr lang="en-US"/>
              <a:t>July 31, 20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ere do Programs Run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616120" y="1778040"/>
            <a:ext cx="3835440" cy="3682800"/>
            <a:chOff x="2616120" y="1778040"/>
            <a:chExt cx="3835440" cy="3682800"/>
          </a:xfrm>
        </p:grpSpPr>
        <p:sp>
          <p:nvSpPr>
            <p:cNvPr id="381" name=""/>
            <p:cNvSpPr/>
            <p:nvPr/>
          </p:nvSpPr>
          <p:spPr>
            <a:xfrm>
              <a:off x="3530520" y="2616120"/>
              <a:ext cx="2082960" cy="200664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16120" y="1778040"/>
              <a:ext cx="3835440" cy="36828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0800" y="3230640"/>
              <a:ext cx="1567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30160" y="1935000"/>
              <a:ext cx="19346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458440" y="5532480"/>
            <a:ext cx="4249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90e0a"/>
                </a:solidFill>
                <a:latin typeface="Arial"/>
              </a:rPr>
              <a:t>This model is wro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E0F-AC5B-4150-B00D-9F56FC3FDCB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87AF3-96A2-4809-99A1-365BC1B14635}" type="datetime3">
              <a:rPr lang="en-US"/>
              <a:t>July 31, 20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ets run in an incompletely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ined environ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55760" y="1812960"/>
            <a:ext cx="12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30520" y="2616120"/>
            <a:ext cx="2082960" cy="2006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16120" y="1778040"/>
            <a:ext cx="3835440" cy="36828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3880" y="1965240"/>
            <a:ext cx="12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90800" y="1935000"/>
            <a:ext cx="1567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06480" y="3306600"/>
            <a:ext cx="1934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D0B-D7C2-41F9-A78D-DA02DBF439C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F0C18-B1E3-4167-846C-0B34A6DB1094}" type="datetime3">
              <a:rPr lang="en-US"/>
              <a:t>July 31, 20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ava’s “sandbox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incompletely def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different for each ven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optimized for speed, not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“native methods”, which can break the security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Java, but no sandbox at al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2EE-E194-4D3C-B29E-AEE6D31C1BDA}" type="slidenum">
              <a:t>4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FB5BD-DE14-4242-8860-8FC27959DB1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iffing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“eavesdropping”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2973240"/>
            <a:ext cx="0" cy="236088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215-48DA-4CA2-A663-B31686FFD16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EC38C-35C8-423D-A25C-78697BF79F2B}" type="datetime3">
              <a:rPr lang="en-US"/>
              <a:t>July 31, 20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thernet and Pass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never secure from eavesdro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iffing” tools are comm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b host name, user name, and passwo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any hacker col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it card numbers are eas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1,000,000 captured in 199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t doesn’t matter how good your password is if it can be sniffe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in wide use - even 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E99-5E00-4EC4-8C94-3A0F0FB92632}" type="slidenum">
              <a:t>4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54554-7BC4-48F9-B645-0103116A482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Spoof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trusted ho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ats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address-based authent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e. rlogin, rsh, tcp wrapp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tools available to the hack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don’t have to be TCP/IP expe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was used to crack Tsutomu Shimomura’s machines in “Takedown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Morris Jr. wrote a paper on this in 198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ve Bellovin republished it in 198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known use in 199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FC4-4F37-4F93-92C1-4F1D7926506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D895A-A22C-4432-84BE-71F227EADEB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s to a host with some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TP, POP3, IMAP (mai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, rlogin (logi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 (web acc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S (name servi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P, BGP4, OSPF (rout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FS, SMB (network file acc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one can invent a new protocol between two h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44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A2C-B385-4230-80C8-258EE75E93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F5231-27CB-47F0-A268-439B65B58F1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al TCP connection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itial SYN pack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57000" y="227016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49E-1794-47CD-843C-6767633D46D0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961CB-B35C-45D8-AE89-55994A2F1F17}" type="datetime3">
              <a:rPr lang="en-US"/>
              <a:t>July 31, 20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e to Open, connection is “half open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57000" y="227016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14040" y="2879640"/>
            <a:ext cx="2102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5E4-00C2-4AD8-983D-71E0EF25F58E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97667-AF4B-4EE4-A91B-554FD36A9608}" type="datetime3">
              <a:rPr lang="en-US"/>
              <a:t>July 31, 20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ent completes handshake, TCP connection is now o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57000" y="227016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14040" y="2879640"/>
            <a:ext cx="2102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13520" y="3641760"/>
            <a:ext cx="24494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CA3-FB47-4150-B729-BCC11F4954A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049AA-9335-42F1-84BA-1918BA42185A}" type="datetime3">
              <a:rPr lang="en-US"/>
              <a:t>July 31, 20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termine Likely 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SEQ</a:t>
            </a:r>
            <a:r>
              <a:rPr b="1" lang="en-US" sz="26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19720" y="2971800"/>
            <a:ext cx="2209680" cy="236232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4280" y="3276360"/>
            <a:ext cx="1905120" cy="20574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029200" y="3580920"/>
            <a:ext cx="1600200" cy="175284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334120" y="3886200"/>
            <a:ext cx="1295280" cy="144792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562720" y="4191120"/>
            <a:ext cx="1066680" cy="121896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B63-DD46-4172-ADDA-14C2BFDE7C74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116AB-C964-472F-B44A-B3AF1AC4D3FF}" type="datetime3">
              <a:rPr lang="en-US"/>
              <a:t>July 31, 20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ress the Trusted Cl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2437920" y="3429000"/>
            <a:ext cx="1600200" cy="190512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22720" y="3351240"/>
            <a:ext cx="3004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killer pa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or SYN att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71E-64CC-4F5F-B798-843F4594C5D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6A5DC-05C6-4A97-AE24-015C83177756}" type="datetime3">
              <a:rPr lang="en-US"/>
              <a:t>July 31, 20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ress the Trusted Cl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471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038-E904-440B-86C9-6029518BB33A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B0CA2-4105-4CA7-AEBA-2B43367CA4B3}" type="datetime3">
              <a:rPr lang="en-US"/>
              <a:t>July 31, 20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er opens connection “from” trusted cl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481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1390320" y="472428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49560" y="2592360"/>
            <a:ext cx="716220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47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477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52F-D849-4655-8094-2C128A1C755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67A4D-9820-4043-BE0A-DC2EDDD0B481}" type="datetime3">
              <a:rPr lang="en-US"/>
              <a:t>July 31, 20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seems to come from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usted client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493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390320" y="472428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49560" y="2592360"/>
            <a:ext cx="716220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47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477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325-0996-4C82-8212-FB95D1601B3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AD030-237E-43C0-A535-0DD9481E80EC}" type="datetime3">
              <a:rPr lang="en-US"/>
              <a:t>July 31, 20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er responds to dead cl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506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14040" y="2879640"/>
            <a:ext cx="2102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A97-2F13-4D85-A8D2-A9C9A73DFEB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2F5BC-B0D3-4DE4-9FBD-8ABB2991F6A9}" type="datetime3">
              <a:rPr lang="en-US"/>
              <a:t>July 31, 20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oof final open mess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519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33080" y="4465800"/>
            <a:ext cx="24494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6760" y="4192560"/>
            <a:ext cx="6095880" cy="22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20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209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337-FEF0-4B19-94E4-1DD0745BEB25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C9319-6467-4B47-B5CB-35D3D81EE169}" type="datetime3">
              <a:rPr lang="en-US"/>
              <a:t>July 31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 supplies a reliable connection to the other 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s up “circuit” between client and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s a stream of data into pa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sembles packets into a str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s 1 - 655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51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TCP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94D-7DD4-4050-95B1-B128B3F110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FE06E-3BE5-4382-AF63-E76B6CC677E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Open” is comple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533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06760" y="4192560"/>
            <a:ext cx="6095880" cy="22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20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209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1A1-6FFC-4EDD-8269-75838504B9B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FA74C-1D81-4C28-8A6A-45A459512E08}" type="datetime3">
              <a:rPr lang="en-US"/>
              <a:t>July 31, 20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Server to outside acce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547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802040" y="4192560"/>
            <a:ext cx="3505320" cy="22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88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886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45840" y="4770360"/>
            <a:ext cx="3286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vil trusted comma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271-3E8A-452E-826F-3E52742BE37A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673F3-28EC-41E8-BE96-E580FB436F37}" type="datetime3">
              <a:rPr lang="en-US"/>
              <a:t>July 31, 20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venting IP spoof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ofing can be stopped at the perime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internal addresses accepted from the outsid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to have a coherent address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irewall can prevent access als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-based authentication is a BAD IDE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CCD-C330-4028-BC90-4BC50978B99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328E0-3421-4438-B53E-32409BA904C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ij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er is watching an existing connection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haps through the strong authentication st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50760">
            <a:solidFill>
              <a:srgbClr val="0099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14800" y="2971800"/>
            <a:ext cx="0" cy="2362320"/>
          </a:xfrm>
          <a:prstGeom prst="line">
            <a:avLst/>
          </a:prstGeom>
          <a:ln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CBE-9961-4349-97E5-ED0E7D55FDAE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3CC50-516F-47AB-B035-36BCE0763FB1}" type="datetime3">
              <a:rPr lang="en-US"/>
              <a:t>July 31, 20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ill the client connection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50760">
            <a:solidFill>
              <a:srgbClr val="0099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14800" y="2971800"/>
            <a:ext cx="0" cy="2362320"/>
          </a:xfrm>
          <a:prstGeom prst="line">
            <a:avLst/>
          </a:prstGeom>
          <a:ln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2437920" y="2971800"/>
            <a:ext cx="1600200" cy="236232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4640" y="4494240"/>
            <a:ext cx="260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killer pa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917-348F-456F-9A6A-006209156EBE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509DF-04C0-4EEA-A99A-0F433800D2D4}" type="datetime3">
              <a:rPr lang="en-US"/>
              <a:t>July 31, 20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d continue the connec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3960" y="2744640"/>
            <a:ext cx="5333400" cy="51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95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954"/>
              </a:path>
            </a:pathLst>
          </a:custGeom>
          <a:noFill/>
          <a:ln cap="rnd" w="50760">
            <a:solidFill>
              <a:srgbClr val="0099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1960" y="2743200"/>
            <a:ext cx="4190760" cy="0"/>
          </a:xfrm>
          <a:prstGeom prst="line">
            <a:avLst/>
          </a:prstGeom>
          <a:ln w="25560">
            <a:solidFill>
              <a:srgbClr val="0099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108160" y="2489040"/>
            <a:ext cx="584280" cy="584280"/>
            <a:chOff x="2108160" y="2489040"/>
            <a:chExt cx="584280" cy="584280"/>
          </a:xfrm>
        </p:grpSpPr>
        <p:sp>
          <p:nvSpPr>
            <p:cNvPr id="588" name=""/>
            <p:cNvSpPr/>
            <p:nvPr/>
          </p:nvSpPr>
          <p:spPr>
            <a:xfrm>
              <a:off x="2108160" y="2489040"/>
              <a:ext cx="584280" cy="5842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28760" y="2552760"/>
              <a:ext cx="343080" cy="45720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F93-3955-4301-A4E0-CF999A2052E8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5C90B-58E1-4167-96AC-B49258C00EB7}" type="datetime3">
              <a:rPr lang="en-US"/>
              <a:t>July 31, 20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hijack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s over an existing, authenticated 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s access to the packet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tools are available to the hackers 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yptographic signatures of packets can defeat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0DE-62B7-45D4-A21F-168EC6EAD46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72590-D7B7-4914-91C9-B480EA7A88E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38280" y="2971800"/>
            <a:ext cx="3124440" cy="0"/>
          </a:xfrm>
          <a:prstGeom prst="line">
            <a:avLst/>
          </a:prstGeom>
          <a:ln w="255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267080" y="3048120"/>
            <a:ext cx="23623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4495320" y="3048120"/>
            <a:ext cx="21337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4724280" y="3048120"/>
            <a:ext cx="19051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952520" y="3048120"/>
            <a:ext cx="16765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181480" y="2971800"/>
            <a:ext cx="1447920" cy="236232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409720" y="3048120"/>
            <a:ext cx="12193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3962520" y="3048120"/>
            <a:ext cx="266688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477-3674-45AF-B7C3-0E88ACC6FC8D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D459A-0276-49F7-96DD-0ADE136E7DDD}" type="datetime3">
              <a:rPr lang="en-US"/>
              <a:t>July 31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less mess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error corr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flow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itable for some network services that don’t have to be reliable, like vo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s are numbe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655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rule, its connectionless-nature makes it danger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58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</a:t>
              </a: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2C4-F28B-484A-B7B9-E8DB6111B6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BCE2E-E721-47B1-8C0C-CB8211E7D76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nial-of-servic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your face - not subtle like traditional hacking att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 packets are very hard to tr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go on for wee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ackers can exploit poor local software or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y flood the site’s network with incoming pack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These attacks are </a:t>
            </a: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always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 possible on a public ser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2FD-A98F-45AB-95A6-93B364D8AA3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04914-580B-467A-8C2E-7459CC70505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 packet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al TCP o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457000" y="227016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14040" y="2879640"/>
            <a:ext cx="2102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13520" y="3641760"/>
            <a:ext cx="24494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9A8-27B3-4A9E-815B-F8736926000D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087A0-57D9-4AB5-A876-C1E25C9C097A}" type="datetime3">
              <a:rPr lang="en-US"/>
              <a:t>July 31, 20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al TCP o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2765520"/>
            <a:ext cx="2210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half-o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&lt;300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934320" y="26668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980-B0A5-4D72-A946-55FDD795DBB3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5D841-80A1-41A6-9DE8-1463293C588A}" type="datetime3">
              <a:rPr lang="en-US"/>
              <a:t>July 31, 20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seen at Panix.com in fall 199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lf-open processing was implemented poor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dratic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n’t much call for improving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ve been expecting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thing we left out of our firewalls b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ved at the last min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880" indent="-19188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knew of no good 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880" indent="-19188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are sorry we left it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one appeared in fall 199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 with same source and destination address kills some TCP/IP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here will be more attacks on TCP/IP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lots of code invol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hard to test code in a kern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A5DC-94F9-4479-8042-DF438ED45F56}" type="slidenum">
              <a:t>7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D9D3E-FF1E-494E-9D70-E8208447063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ng flood (smurf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ntify ping genera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956200" y="3517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946920" y="34416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041800" y="4889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94440" y="29844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280040" y="2603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280040" y="30607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280040" y="3594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08640" y="54990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356000" y="4660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84400" y="29084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146320" y="2451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70000" y="31370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289320" y="3746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624816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25744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648320" y="487656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472392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457164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57164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4571640" y="281916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4114440" y="182844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3276360" y="304776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38280" y="266652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36196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358092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523880" y="182844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37124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666880" y="358092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 flipV="1">
            <a:off x="3962520" y="44953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3809520" y="556236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226640" y="3154320"/>
            <a:ext cx="83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32600" y="43275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3803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801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237320" y="15843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5240" y="19652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09120" y="35654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349-46BC-484D-9334-2A854A7C039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619F4-0066-4B17-AC71-9575F562F3F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igger packets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oofed return addre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956200" y="3517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946920" y="34416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041800" y="4889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194440" y="29844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80040" y="2603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80040" y="30607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280040" y="3594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08640" y="54990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56000" y="4660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84400" y="29084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146320" y="2451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070000" y="31370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89320" y="3746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24816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25744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4648320" y="487656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72392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457164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457164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4571640" y="281916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4114440" y="182844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3276360" y="304776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2438280" y="266652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36196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358092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523880" y="182844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137124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2666880" y="358092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3962520" y="44953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3809520" y="556236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226640" y="3154320"/>
            <a:ext cx="83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63560" y="5234040"/>
            <a:ext cx="931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532600" y="43275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803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801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37320" y="15843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85240" y="19652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09120" y="35654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592360" y="3735360"/>
            <a:ext cx="39621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1" y="0"/>
                </a:moveTo>
                <a:arcTo wR="10800" hR="10800" stAng="-5402755" swAng="5402755"/>
                <a:lnTo>
                  <a:pt x="10800" y="10800"/>
                </a:lnTo>
                <a:close/>
              </a:path>
              <a:path fill="none" w="21600" h="21600">
                <a:moveTo>
                  <a:pt x="10791" y="0"/>
                </a:moveTo>
                <a:arcTo wR="10800" hR="10800" stAng="-5402755" swAng="5402755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37480" y="3887640"/>
            <a:ext cx="42242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5" y="4435"/>
                </a:moveTo>
                <a:arcTo wR="10800" hR="10800" stAng="-8633488" swAng="8346488"/>
                <a:lnTo>
                  <a:pt x="10800" y="10800"/>
                </a:lnTo>
                <a:close/>
              </a:path>
              <a:path fill="none" w="21600" h="21600">
                <a:moveTo>
                  <a:pt x="2075" y="4435"/>
                </a:moveTo>
                <a:arcTo wR="10800" hR="10800" stAng="-8633488" swAng="8346488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988920" y="3506760"/>
            <a:ext cx="746712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-760320" y="2135160"/>
            <a:ext cx="746712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-3810240" y="1830240"/>
            <a:ext cx="10515600" cy="70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1038" swAng="5401038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1038" swAng="5401038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-4570560" y="3583080"/>
            <a:ext cx="1127736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0968" swAng="5400968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0968" swAng="5400968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110-C263-4FD8-8C21-1F1090ABDBB8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9AD20-C94E-4955-B95B-23F4044DACF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rators flood the targ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 pack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956200" y="3517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946920" y="34416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041800" y="4889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194440" y="29844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80040" y="2603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80040" y="30607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280040" y="3594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508640" y="54990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356000" y="4660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984400" y="29084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146320" y="2451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070000" y="31370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89320" y="3746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624816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525744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4648320" y="487656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72392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457164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457164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4571640" y="281916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4114440" y="182844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3276360" y="304776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2438280" y="266652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36196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58092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1523880" y="182844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37124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2666880" y="358092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3962520" y="44953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809520" y="556236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26640" y="3154320"/>
            <a:ext cx="83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163560" y="5234040"/>
            <a:ext cx="931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532600" y="43275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3803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801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37320" y="15843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85240" y="19652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209120" y="35654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76520" y="1828800"/>
            <a:ext cx="5259240" cy="1601640"/>
          </a:xfrm>
          <a:custGeom>
            <a:avLst/>
            <a:gdLst/>
            <a:ahLst/>
            <a:rect l="l" t="t" r="r" b="b"/>
            <a:pathLst>
              <a:path w="3313" h="1009">
                <a:moveTo>
                  <a:pt x="0" y="0"/>
                </a:moveTo>
                <a:lnTo>
                  <a:pt x="432" y="336"/>
                </a:lnTo>
                <a:lnTo>
                  <a:pt x="960" y="672"/>
                </a:lnTo>
                <a:lnTo>
                  <a:pt x="1632" y="768"/>
                </a:lnTo>
                <a:lnTo>
                  <a:pt x="1654" y="798"/>
                </a:lnTo>
                <a:lnTo>
                  <a:pt x="2736" y="1008"/>
                </a:lnTo>
                <a:lnTo>
                  <a:pt x="3312" y="1008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24080" y="2057400"/>
            <a:ext cx="4040280" cy="1601640"/>
          </a:xfrm>
          <a:custGeom>
            <a:avLst/>
            <a:gdLst/>
            <a:ahLst/>
            <a:rect l="l" t="t" r="r" b="b"/>
            <a:pathLst>
              <a:path w="2545" h="1009">
                <a:moveTo>
                  <a:pt x="0" y="0"/>
                </a:moveTo>
                <a:lnTo>
                  <a:pt x="816" y="384"/>
                </a:lnTo>
                <a:lnTo>
                  <a:pt x="1392" y="624"/>
                </a:lnTo>
                <a:lnTo>
                  <a:pt x="1920" y="1008"/>
                </a:lnTo>
                <a:lnTo>
                  <a:pt x="2544" y="96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066680" y="2971800"/>
            <a:ext cx="6097680" cy="687240"/>
          </a:xfrm>
          <a:custGeom>
            <a:avLst/>
            <a:gdLst/>
            <a:ahLst/>
            <a:rect l="l" t="t" r="r" b="b"/>
            <a:pathLst>
              <a:path w="3841" h="433">
                <a:moveTo>
                  <a:pt x="0" y="384"/>
                </a:moveTo>
                <a:lnTo>
                  <a:pt x="768" y="240"/>
                </a:lnTo>
                <a:lnTo>
                  <a:pt x="1344" y="0"/>
                </a:lnTo>
                <a:lnTo>
                  <a:pt x="2112" y="144"/>
                </a:lnTo>
                <a:lnTo>
                  <a:pt x="3264" y="432"/>
                </a:lnTo>
                <a:lnTo>
                  <a:pt x="3840" y="384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743200" y="3124080"/>
            <a:ext cx="4497480" cy="763560"/>
          </a:xfrm>
          <a:custGeom>
            <a:avLst/>
            <a:gdLst/>
            <a:ahLst/>
            <a:rect l="l" t="t" r="r" b="b"/>
            <a:pathLst>
              <a:path w="2833" h="481">
                <a:moveTo>
                  <a:pt x="0" y="336"/>
                </a:moveTo>
                <a:lnTo>
                  <a:pt x="432" y="480"/>
                </a:lnTo>
                <a:lnTo>
                  <a:pt x="462" y="472"/>
                </a:lnTo>
                <a:lnTo>
                  <a:pt x="1104" y="384"/>
                </a:lnTo>
                <a:lnTo>
                  <a:pt x="1102" y="362"/>
                </a:lnTo>
                <a:lnTo>
                  <a:pt x="1680" y="0"/>
                </a:lnTo>
                <a:lnTo>
                  <a:pt x="2112" y="336"/>
                </a:lnTo>
                <a:lnTo>
                  <a:pt x="2832" y="24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819520" y="3048120"/>
            <a:ext cx="4268520" cy="1449360"/>
          </a:xfrm>
          <a:custGeom>
            <a:avLst/>
            <a:gdLst/>
            <a:ahLst/>
            <a:rect l="l" t="t" r="r" b="b"/>
            <a:pathLst>
              <a:path w="2689" h="913">
                <a:moveTo>
                  <a:pt x="0" y="912"/>
                </a:moveTo>
                <a:lnTo>
                  <a:pt x="384" y="528"/>
                </a:lnTo>
                <a:lnTo>
                  <a:pt x="1008" y="432"/>
                </a:lnTo>
                <a:lnTo>
                  <a:pt x="1632" y="0"/>
                </a:lnTo>
                <a:lnTo>
                  <a:pt x="2112" y="384"/>
                </a:lnTo>
                <a:lnTo>
                  <a:pt x="2688" y="336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419720" y="3200400"/>
            <a:ext cx="2744640" cy="579600"/>
          </a:xfrm>
          <a:custGeom>
            <a:avLst/>
            <a:gdLst/>
            <a:ahLst/>
            <a:rect l="l" t="t" r="r" b="b"/>
            <a:pathLst>
              <a:path w="1729" h="365">
                <a:moveTo>
                  <a:pt x="0" y="336"/>
                </a:moveTo>
                <a:lnTo>
                  <a:pt x="624" y="0"/>
                </a:lnTo>
                <a:lnTo>
                  <a:pt x="1104" y="336"/>
                </a:lnTo>
                <a:lnTo>
                  <a:pt x="1106" y="364"/>
                </a:lnTo>
                <a:lnTo>
                  <a:pt x="1728" y="288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0CA-C778-4296-9A04-CD4050284001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F872E-5186-4102-A722-782FDC0116E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eb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arget cannot tell where the trigger is coming fr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acking hosts may not know that they are being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adcast storms can generate more lo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185-FC96-4014-9049-A177B2E5665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D0C16-8940-4867-A57B-96E3E10D3C7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s have limited siz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be dropped in transit if conges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arrive out of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be duplic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ing by IP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using IP Version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 6 is dubi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/SEC gives authentication and/or encry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be tunne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65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C70-AD18-4A4A-94A8-D5B26DFE73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8D546-E674-4DF5-A74D-05D2BD3FBB9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S, routing, and infrastructure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cket Diversion and man-in-the-middl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-2511720" y="2820960"/>
            <a:ext cx="9900360" cy="5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1102" swAng="3384118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1102" swAng="3384118"/>
              </a:path>
            </a:pathLst>
          </a:custGeom>
          <a:noFill/>
          <a:ln cap="rnd"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BA7-C2E6-4CDF-A08E-A88377537E1F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957C4-18FB-43DE-96F3-2B8DAF68099C}" type="datetime3">
              <a:rPr lang="en-US"/>
              <a:t>July 31, 20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cket Diversion and man-in-the-middl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-2511720" y="2820960"/>
            <a:ext cx="9900360" cy="5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1102" swAng="3384118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1102" swAng="3384118"/>
              </a:path>
            </a:pathLst>
          </a:custGeom>
          <a:noFill/>
          <a:ln cap="rnd"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4267080" y="2819160"/>
            <a:ext cx="0" cy="25146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600360" y="227016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ou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160-A2E2-4C06-A6FC-E0F3B01A9EDB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77322-492F-4951-86F0-A5C6B891735C}" type="datetime3">
              <a:rPr lang="en-US"/>
              <a:t>July 31, 20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cket Diversion and man-in-the-middl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990720" y="2820960"/>
            <a:ext cx="289512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0"/>
                </a:moveTo>
                <a:arcTo wR="10800" hR="10800" stAng="-5403769" swAng="5403769"/>
                <a:lnTo>
                  <a:pt x="10800" y="10800"/>
                </a:lnTo>
                <a:close/>
              </a:path>
              <a:path fill="none" w="21600" h="21600">
                <a:moveTo>
                  <a:pt x="10788" y="0"/>
                </a:moveTo>
                <a:arcTo wR="10800" hR="10800" stAng="-5403769" swAng="5403769"/>
              </a:path>
            </a:pathLst>
          </a:custGeom>
          <a:noFill/>
          <a:ln cap="rnd"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02040" y="2744640"/>
            <a:ext cx="3657240" cy="51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01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016"/>
              </a:path>
            </a:pathLst>
          </a:custGeom>
          <a:noFill/>
          <a:ln cap="rnd"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00360" y="227016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ou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9D1-B6DF-4EF9-87CF-10D643E978DF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6A625-0562-4EAE-9FF8-B1A9B9FC9C8E}" type="datetime3">
              <a:rPr lang="en-US"/>
              <a:t>July 31, 20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 an extra “glue” record on a DNS qu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 cache time-out hides the evi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est bind program checks for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 cache poisoning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ure DNS server and return incorrect resul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SEC can fix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ing through final comments 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8E1-1C37-440F-8ACF-AAD8981A679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5E200-5E97-4BF2-876A-0B3697721BE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rastructur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tools are still wea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ated BGP4 is co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up with the latest name ser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e to secure router implementations, when avail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:  what will you do if the entire Internet is down for a week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7B5-E09A-441A-96A1-169F9463C54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0C0C8-23AD-4CE6-AE58-2A691D94529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 Engine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cial Engineering (cont.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826920" y="3510000"/>
            <a:ext cx="5421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 infect your c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BBD-D7D0-4C72-A2ED-0AF05F85AA17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1FCE9-8B6A-4ACC-9EAF-846373746DC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297000" y="1946160"/>
            <a:ext cx="8636040" cy="384516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484200" y="63360"/>
            <a:ext cx="85024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other problem with strange progr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B63-65CC-4BD4-8D5D-BED58AE3DE1E}" type="slidenum">
              <a:t>8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3A460-8BAE-48F5-BF14-9587BBBF40F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cial Engineer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02280" y="1987560"/>
            <a:ext cx="51854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``Hello, this is Dennis Ritchie c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in Israel now and I have forgo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 password.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``Hello, &lt;admin-name&gt;, I’ve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ed work here.  &lt;Boss-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id I should have an account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target-host&gt;‘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7DC-95DC-4F36-BCA9-1F07B5201858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80094-1A85-4211-B0BE-14F93EAD1ACC}" type="datetime3">
              <a:rPr lang="en-US"/>
              <a:t>July 31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various controls and auxiliary fun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ng repl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TL time exc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 quench (TCP on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 unreach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unreach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filte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72" name=""/>
            <p:cNvSpPr/>
            <p:nvPr/>
          </p:nvSpPr>
          <p:spPr>
            <a:xfrm>
              <a:off x="46368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 + </a:t>
              </a: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ICM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4BA-E5EC-4853-9A77-30F635CB4D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90E7E-A2C7-4E0E-B0AE-67DC91F75B4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safe servi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943600" y="31240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943600" y="32767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43600" y="342900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943600" y="35812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943600" y="37339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A58-F743-4929-BBDA-618B36EE7E19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195BF-BE1E-42B3-AD47-D52AFF55D831}" type="datetime3">
              <a:rPr lang="en-US"/>
              <a:t>July 31, 20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43600" y="31240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43600" y="32767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943600" y="342900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43600" y="35812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943600" y="37339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267080" y="3733560"/>
            <a:ext cx="1676520" cy="16002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EC1-3164-4B3B-B877-6C6ACF918C3A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D5D61-361E-462A-9431-C45ACCFA6606}" type="datetime3">
              <a:rPr lang="en-US"/>
              <a:t>July 31, 20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1467000" y="1741320"/>
            <a:ext cx="65340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-dgl stream  tcp     nowait  root/rcv dg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uucp   stream  tcp 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ault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GI works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EDF-B387-4615-8302-D93DF387118F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02E66-73D2-4C53-9E78-90D4282E788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re default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69920" y="1909800"/>
            <a:ext cx="754596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statd/1-3  dgram   rpc/udp wait       root    rpc.rstat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walld/1     dgram   rpc/udp wait       root    rpc.rwal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usersd/1   dgram   rpc/udp wait       root    rpc.rusers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quotad/1   dgram   rpc/udp wait       root    rpc.rquot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prayd/1    dgram   rpc/udp wait       root    rpc.spray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bootparam/1 dgram   rpc/udp wait       root    rpc.bootpara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videod/1 stream rpc/tcp wait       root    ?videod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fam/1   stream  rpc/tcp wait       root    ?fam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snoopd/1 stream rpc/tcp wait       root    ?rpc.snoop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pcsd/1  dgram   rpc/udp wait       root    ?cvpcs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pod/1   stream  rpc/tcp wait       root    ?podd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/sgi_scanner stream tcp nowait   root    ?scan/net/scanne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/sgi_printer stream tcp nowait   root    ?print/printe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9fs         stream  tcp     nowait     root    /v/bin/u9fs u9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webproxy    stream  tcp     nowait     root    /usr/local/etc/webser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32F-7479-4C80-AE18-81FCAC750200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4D555-3F4E-4EAC-90A8-33251F9FB74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Dangerous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” RP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login/rsh/rc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web server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085-4851-424A-A95C-067B8A1B9B66}" type="slidenum">
              <a:t>9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C6BDD-CA63-4C16-9539-21E5F6D26F70}" type="datetime3">
              <a:rPr lang="en-US"/>
              <a:t>July 31, 20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vesdropping attacks sniff pass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1,000,000 sniffed in 1994 from hacked IS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 hijacking takes over authenticated connections: strong passwords aren’t enoug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cure accounts are subject to probes and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uption of client host compromises the s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513-15A4-416E-AE35-771788CF29DF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0049D-BE35-43ED-8302-10EC71E9CBE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 - teln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er takes over client hos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57200" y="3200400"/>
            <a:ext cx="685800" cy="685800"/>
          </a:xfrm>
          <a:prstGeom prst="smileyFace">
            <a:avLst>
              <a:gd name="adj" fmla="val 928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F27-A664-4D84-ACB9-8E0A46193BEE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59F43-843B-466C-91EE-B6C2DD8AC55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 - teln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er takes over client hos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04920" y="1981080"/>
            <a:ext cx="20746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438280" y="3733920"/>
            <a:ext cx="1828800" cy="16002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57200" y="3200400"/>
            <a:ext cx="685800" cy="685800"/>
          </a:xfrm>
          <a:prstGeom prst="smileyFace">
            <a:avLst>
              <a:gd name="adj" fmla="val -465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185-D0F6-4B9B-B0CF-3C7C46999A32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3F0CA-71F7-4465-AB75-A4F31193D8A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 - teln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tall the TAP kernel load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04920" y="1981080"/>
            <a:ext cx="20746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438280" y="3733920"/>
            <a:ext cx="1828800" cy="16002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7200" y="3200400"/>
            <a:ext cx="685800" cy="685800"/>
          </a:xfrm>
          <a:prstGeom prst="smileyFace">
            <a:avLst>
              <a:gd name="adj" fmla="val -465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442880" y="3043080"/>
            <a:ext cx="914400" cy="1216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26040" y="3429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3B6-979E-47CD-BC1D-3972D12450E1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F204A-C0E0-4D52-8085-5EDBB0A2D2E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7T13:26:38Z</dcterms:created>
  <dc:creator>Bill Cheswick</dc:creator>
  <dc:description>For a class at SANE-98, NLUUG, November 1998</dc:description>
  <cp:keywords>TCP/IP Internet attacks</cp:keywords>
  <dc:language>en-US</dc:language>
  <cp:lastModifiedBy>Bill Cheswick</cp:lastModifiedBy>
  <dcterms:modified xsi:type="dcterms:W3CDTF">1998-11-18T13:30:06Z</dcterms:modified>
  <cp:revision>60</cp:revision>
  <dc:subject>Technical Details of Many Types of Internet Attacks</dc:subject>
  <dc:title>Internet Attacks: The Gory Details</dc:title>
</cp:coreProperties>
</file>