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385988-312F-4E90-A5B4-E941DF1A6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folks know that attacks on unclassified hosts can be a bi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TW,, they can commit act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t tub legal advice was that I could too, but I’m not offi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AR calls encryption a munition, and I think it is a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ilitary kills people and breaks things.   It can now important when a computer gets bro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’s mostly a defensive mu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ash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n attack on the core routing tables a strategic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ly amateurs have gotten the press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’s right, mos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 is right to think of cryptography as a mu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information highway is a vital infrastructure now, and the tools you use daily can be attacked, and defen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k the Web for ‘rootkit’ to find the netdungeons and seedy by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 exportable is worth it:  real-time attacks defeated, if it takes a weekend for exhaustive search of the key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st two use secret keys and D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stage to update our external ftp directory. Could update a web 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ful in joint ventures problem - smb and I will collaborate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ickly relinquishes permissions, after chro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y be publicly available - both companies say release will be ea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77840" y="0"/>
            <a:ext cx="6672240" cy="9126360"/>
            <a:chOff x="177840" y="0"/>
            <a:chExt cx="6672240" cy="9126360"/>
          </a:xfrm>
        </p:grpSpPr>
        <p:sp>
          <p:nvSpPr>
            <p:cNvPr id="2" name=""/>
            <p:cNvSpPr/>
            <p:nvPr/>
          </p:nvSpPr>
          <p:spPr>
            <a:xfrm>
              <a:off x="177840" y="0"/>
              <a:ext cx="177840" cy="91263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0120" y="0"/>
              <a:ext cx="279360" cy="62229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41200" y="0"/>
              <a:ext cx="812880" cy="44704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4920" y="0"/>
              <a:ext cx="228600" cy="5181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44600" y="1955880"/>
              <a:ext cx="393840" cy="162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1879560"/>
              <a:ext cx="6469200" cy="1778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77840" y="1879560"/>
              <a:ext cx="667224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 txBox="1"/>
          <p:nvPr/>
        </p:nvSpPr>
        <p:spPr>
          <a:xfrm>
            <a:off x="68400" y="8748720"/>
            <a:ext cx="1517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Bell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3030480" y="8748720"/>
            <a:ext cx="79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7EDC3302-C674-49DF-BF33-6392CD93FD93}" type="datetime">
              <a:rPr b="0" i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 txBox="1"/>
          <p:nvPr/>
        </p:nvSpPr>
        <p:spPr>
          <a:xfrm>
            <a:off x="6388200" y="8748720"/>
            <a:ext cx="401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F26B3EE3-E6EA-4927-9F1B-198B772E35D1}" type="slidenum">
              <a:rPr b="0" i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3520" y="3048120"/>
            <a:ext cx="57913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net Security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5181480"/>
            <a:ext cx="4876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hes@bell-lab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17720" y="6324480"/>
            <a:ext cx="2844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dicated H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36880" y="2664000"/>
            <a:ext cx="2782800" cy="2104920"/>
            <a:chOff x="2036880" y="2664000"/>
            <a:chExt cx="2782800" cy="2104920"/>
          </a:xfrm>
        </p:grpSpPr>
        <p:sp>
          <p:nvSpPr>
            <p:cNvPr id="113" name=""/>
            <p:cNvSpPr/>
            <p:nvPr/>
          </p:nvSpPr>
          <p:spPr>
            <a:xfrm>
              <a:off x="2036880" y="2664000"/>
              <a:ext cx="2782800" cy="21049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2664000" y="3365640"/>
              <a:ext cx="162864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ts val="2100"/>
                </a:lnSpc>
                <a:tabLst>
                  <a:tab algn="l" pos="452520"/>
                  <a:tab algn="l" pos="905040"/>
                  <a:tab algn="l" pos="1357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1371600" y="5029200"/>
            <a:ext cx="4800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Quite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dd guards, walls, etc., as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obody wants to u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st with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twork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7080" y="259092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720880" y="2846520"/>
            <a:ext cx="1595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7080" y="579132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637000" y="6046920"/>
            <a:ext cx="1765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81280" y="3809880"/>
            <a:ext cx="0" cy="198144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343400" y="50292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572000" y="50292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800600" y="50292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114800" y="50292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809880" y="50292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352680" y="50292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124080" y="50292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819520" y="50292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14600" y="50292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CP/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uns on Ethernet/ATM/FD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Free with every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Lots of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sers can defin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eveloped in a nice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ivate us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 dog dan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oorly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oorly aud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Vendors sell flawe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sers don’t fix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Host-based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security is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rvices can be attacked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stran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37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 flipV="1">
            <a:off x="1066680" y="5638680"/>
            <a:ext cx="129564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676520" y="5638680"/>
            <a:ext cx="121896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286000" y="5638680"/>
            <a:ext cx="129528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971800" y="5638680"/>
            <a:ext cx="121932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263520"/>
            <a:ext cx="7846920" cy="83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-dgl stream  tcp     nowait  root/rcv        dg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uucp   stream  tcp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statd/1-3  dgram   rpc/udp wait    root    rpc.rstat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lld/1     dgram   rpc/udp wait    root    rpc.rwal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usersd/1   dgram   rpc/udp wait    root    rpc.ruser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quotad/1   dgram   rpc/udp wait    root    rpc.rquot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prayd/1    dgram   rpc/udp wait    root    rpc.spray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bootparam/1 dgram   rpc/udp wait    root    rpc.bootpara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videod/1 stream rpc/tcp wait    root    ?video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fam/1   stream  rpc/tcp wait    root    ?fam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snoopd/1 stream rpc/tcp wait    root    ?rpc.snoo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csd/1  dgram   rpc/udp wait    root    ?cvpc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od/1   stream  rpc/tcp wait    root    ?pod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scanner stream tcp nowait root   ?scan/net/scanne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printer stream tcp nowait root   ?print/print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9fs           stream tcp   nowait root   /v/bin/u9fs u9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webproxy        stream tcp nowait root /usr/local/etc/webse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ngerous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e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N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ecure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login/rsh/r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X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(web serv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fer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Kerberiz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Encrypt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get/c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tel, stelne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ommercial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et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n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niffing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53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flipV="1">
            <a:off x="3429000" y="3733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5181480"/>
            <a:ext cx="1219320" cy="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s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Over 1M captured in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You can’t choose a good p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till in wid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en for sysadmin acces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One-time passwords are usually easy to install an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net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gital Pathways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NK-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74960" y="2595600"/>
            <a:ext cx="28828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e-time Pass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14520" y="4438800"/>
            <a:ext cx="6118200" cy="37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/os (i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 response code for 70202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tination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e-time Pass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36840" y="2178000"/>
            <a:ext cx="3511440" cy="60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/v/bin/su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92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2650e65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id=0(root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id=0(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/v/bin/auth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49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123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766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^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$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NS or routing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69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 flipV="1">
            <a:off x="3429000" y="373392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3429000" y="5791320"/>
            <a:ext cx="1905120" cy="6094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P Spoo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523880" y="2514600"/>
            <a:ext cx="3289680" cy="5864400"/>
            <a:chOff x="1523880" y="2514600"/>
            <a:chExt cx="3289680" cy="5864400"/>
          </a:xfrm>
        </p:grpSpPr>
        <p:grpSp>
          <p:nvGrpSpPr>
            <p:cNvPr id="177" name=""/>
            <p:cNvGrpSpPr/>
            <p:nvPr/>
          </p:nvGrpSpPr>
          <p:grpSpPr>
            <a:xfrm>
              <a:off x="2044800" y="2514600"/>
              <a:ext cx="2768760" cy="5864400"/>
              <a:chOff x="2044800" y="2514600"/>
              <a:chExt cx="2768760" cy="5864400"/>
            </a:xfrm>
          </p:grpSpPr>
          <p:sp>
            <p:nvSpPr>
              <p:cNvPr id="178" name=""/>
              <p:cNvSpPr/>
              <p:nvPr/>
            </p:nvSpPr>
            <p:spPr>
              <a:xfrm>
                <a:off x="2044800" y="2514600"/>
                <a:ext cx="2768760" cy="121608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2568600" y="2770200"/>
                <a:ext cx="1595520" cy="70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Client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44800" y="7162920"/>
                <a:ext cx="2768760" cy="121608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2484360" y="7418520"/>
                <a:ext cx="1765440" cy="70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Server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 flipH="1" flipV="1">
              <a:off x="1523880" y="4419720"/>
              <a:ext cx="2057400" cy="27432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nial of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85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V="1">
            <a:off x="3581280" y="2362320"/>
            <a:ext cx="2362320" cy="48006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429000" y="3124080"/>
            <a:ext cx="2743200" cy="403884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523880" y="3048120"/>
            <a:ext cx="1981440" cy="41148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1447920" y="4495680"/>
            <a:ext cx="2057400" cy="25909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990720" y="6019920"/>
            <a:ext cx="2438280" cy="10666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505320" y="3886200"/>
            <a:ext cx="685800" cy="32004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429000" y="3048120"/>
            <a:ext cx="1752480" cy="41148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124080" y="4267080"/>
            <a:ext cx="381240" cy="289584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429000" y="3886200"/>
            <a:ext cx="2743200" cy="32767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505320" y="4800600"/>
            <a:ext cx="2514600" cy="2362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581280" y="5486400"/>
            <a:ext cx="2971800" cy="16765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581280" y="762120"/>
            <a:ext cx="1828800" cy="64008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1981080" y="2057400"/>
            <a:ext cx="1600200" cy="51055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57200" y="4724280"/>
            <a:ext cx="3124080" cy="243864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CP Hij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205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V="1">
            <a:off x="3429000" y="3733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1523880" y="4419720"/>
            <a:ext cx="1905120" cy="13716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Web Server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1800" y="243828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425600" y="2693880"/>
            <a:ext cx="1595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1800" y="548640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538280" y="5742000"/>
            <a:ext cx="1370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ww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286000" y="3657600"/>
            <a:ext cx="0" cy="18288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5120" y="3657600"/>
            <a:ext cx="0" cy="182880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3657600"/>
            <a:ext cx="0" cy="182880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7760" y="716292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79640" y="7418520"/>
            <a:ext cx="2443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Data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286000" y="67057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37200" y="7040520"/>
            <a:ext cx="24987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Pro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7620120"/>
            <a:ext cx="533160" cy="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376880" y="5516640"/>
            <a:ext cx="1763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Adm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733920" y="6172200"/>
            <a:ext cx="1066680" cy="1143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cial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127160" y="2651040"/>
            <a:ext cx="5181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this is Dennis Ritchie c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’m in Israel now and I have for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y password.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&lt;admin-name&gt;, I’ve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arted work here.  &lt;Boss-na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aid I should have an accoun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&lt;target-host&gt;‘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135080" y="7321680"/>
            <a:ext cx="5505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infect your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urity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ecurity is always a question of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ecurity is usually inconvenient and isn’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efense in depth is good - use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Must be designed in from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niversal security truisms are still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net Growth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(log sca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urity is 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re is no absolute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How much is the attacker willing to spe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ersonal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heap defenses can thwart expensive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Weakest link can be att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Internet security is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ew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rotect nets with unsafe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ingle point of control and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nother layer of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8000"/>
                </a:solidFill>
                <a:latin typeface="Arial"/>
                <a:ea typeface="Arial"/>
              </a:rPr>
              <a:t>Admission that hosts may not be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8000"/>
                </a:solidFill>
                <a:latin typeface="Arial"/>
                <a:ea typeface="Arial"/>
              </a:rPr>
              <a:t>Do you control the whole peri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Firewall Shields hosts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dangerous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77880" y="2330280"/>
            <a:ext cx="4889520" cy="6237360"/>
            <a:chOff x="677880" y="2330280"/>
            <a:chExt cx="4889520" cy="6237360"/>
          </a:xfrm>
        </p:grpSpPr>
        <p:grpSp>
          <p:nvGrpSpPr>
            <p:cNvPr id="237" name=""/>
            <p:cNvGrpSpPr/>
            <p:nvPr/>
          </p:nvGrpSpPr>
          <p:grpSpPr>
            <a:xfrm>
              <a:off x="4087800" y="2330280"/>
              <a:ext cx="1479600" cy="5561280"/>
              <a:chOff x="4087800" y="2330280"/>
              <a:chExt cx="1479600" cy="556128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4087800" y="5773680"/>
                <a:ext cx="1479600" cy="978120"/>
                <a:chOff x="4087800" y="5773680"/>
                <a:chExt cx="1479600" cy="97812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4487760" y="5773680"/>
                  <a:ext cx="301680" cy="463680"/>
                  <a:chOff x="4487760" y="5773680"/>
                  <a:chExt cx="301680" cy="4636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44877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5640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V="1">
                    <a:off x="4513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V="1">
                    <a:off x="455148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V="1">
                    <a:off x="46004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V="1">
                    <a:off x="46386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4111560" y="5773680"/>
                  <a:ext cx="289080" cy="463680"/>
                  <a:chOff x="4111560" y="5773680"/>
                  <a:chExt cx="289080" cy="4636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4111560" y="5773680"/>
                    <a:ext cx="2890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1878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V="1">
                    <a:off x="4137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>
                    <a:off x="417528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V="1">
                    <a:off x="42242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V="1">
                    <a:off x="42624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4863960" y="5773680"/>
                  <a:ext cx="301680" cy="463680"/>
                  <a:chOff x="4863960" y="5773680"/>
                  <a:chExt cx="301680" cy="46368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4863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9402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V="1">
                    <a:off x="4902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V="1">
                    <a:off x="492768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4976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502776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5214960" y="5773680"/>
                  <a:ext cx="301680" cy="463680"/>
                  <a:chOff x="5214960" y="5773680"/>
                  <a:chExt cx="301680" cy="46368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214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2912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52401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5278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5327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53658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4111560" y="6275520"/>
                  <a:ext cx="289080" cy="476280"/>
                  <a:chOff x="4111560" y="6275520"/>
                  <a:chExt cx="289080" cy="47628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4111560" y="633888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1878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4137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417528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42242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42624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4487760" y="6275520"/>
                  <a:ext cx="301680" cy="476280"/>
                  <a:chOff x="4487760" y="6275520"/>
                  <a:chExt cx="301680" cy="4762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44877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45640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4513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55148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6004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6386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4863960" y="6275520"/>
                  <a:ext cx="301680" cy="476280"/>
                  <a:chOff x="4863960" y="6275520"/>
                  <a:chExt cx="301680" cy="47628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4863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49402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4902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92768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976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02776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5214960" y="6275520"/>
                  <a:ext cx="301680" cy="476280"/>
                  <a:chOff x="5214960" y="6275520"/>
                  <a:chExt cx="301680" cy="47628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5214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2912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401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278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327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3658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087800" y="624996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087800" y="2330280"/>
                <a:ext cx="1479600" cy="976320"/>
                <a:chOff x="4087800" y="2330280"/>
                <a:chExt cx="1479600" cy="97632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4487760" y="2330280"/>
                  <a:ext cx="301680" cy="474840"/>
                  <a:chOff x="4487760" y="2330280"/>
                  <a:chExt cx="301680" cy="4748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44877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5640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V="1">
                    <a:off x="4513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V="1">
                    <a:off x="455148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>
                    <a:off x="46004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46386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4111560" y="2330280"/>
                  <a:ext cx="289080" cy="474840"/>
                  <a:chOff x="4111560" y="2330280"/>
                  <a:chExt cx="289080" cy="47484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4111560" y="233028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41878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V="1">
                    <a:off x="4137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V="1">
                    <a:off x="417528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V="1">
                    <a:off x="42242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V="1">
                    <a:off x="42624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4863960" y="2330280"/>
                  <a:ext cx="301680" cy="474840"/>
                  <a:chOff x="4863960" y="2330280"/>
                  <a:chExt cx="301680" cy="47484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4863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49402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V="1">
                    <a:off x="4902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V="1">
                    <a:off x="492768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V="1">
                    <a:off x="4976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V="1">
                    <a:off x="502776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214960" y="2330280"/>
                  <a:ext cx="301680" cy="474840"/>
                  <a:chOff x="5214960" y="2330280"/>
                  <a:chExt cx="301680" cy="47484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214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2912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V="1">
                    <a:off x="52401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V="1">
                    <a:off x="5278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5327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V="1">
                    <a:off x="53658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4111560" y="2843280"/>
                  <a:ext cx="289080" cy="463320"/>
                  <a:chOff x="4111560" y="2843280"/>
                  <a:chExt cx="289080" cy="46332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4111560" y="290664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41878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4137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17528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42242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42624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4487760" y="2843280"/>
                  <a:ext cx="301680" cy="463320"/>
                  <a:chOff x="4487760" y="2843280"/>
                  <a:chExt cx="301680" cy="4633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44877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5640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4513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455148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6004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46386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4863960" y="2843280"/>
                  <a:ext cx="301680" cy="463320"/>
                  <a:chOff x="4863960" y="2843280"/>
                  <a:chExt cx="301680" cy="4633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4863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9402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4902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92768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4976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02776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5214960" y="2843280"/>
                  <a:ext cx="301680" cy="463320"/>
                  <a:chOff x="5214960" y="2843280"/>
                  <a:chExt cx="301680" cy="4633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5214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2912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2401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278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327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53658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>
                  <a:off x="4087800" y="281772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087800" y="3483000"/>
                <a:ext cx="1479600" cy="976320"/>
                <a:chOff x="4087800" y="3483000"/>
                <a:chExt cx="1479600" cy="976320"/>
              </a:xfrm>
            </p:grpSpPr>
            <p:grpSp>
              <p:nvGrpSpPr>
                <p:cNvPr id="355" name=""/>
                <p:cNvGrpSpPr/>
                <p:nvPr/>
              </p:nvGrpSpPr>
              <p:grpSpPr>
                <a:xfrm>
                  <a:off x="4487760" y="3483000"/>
                  <a:ext cx="301680" cy="461880"/>
                  <a:chOff x="4487760" y="3483000"/>
                  <a:chExt cx="301680" cy="4618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44877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45640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V="1">
                    <a:off x="4513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V="1">
                    <a:off x="455148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V="1">
                    <a:off x="46004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V="1">
                    <a:off x="46386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4111560" y="3483000"/>
                  <a:ext cx="289080" cy="461880"/>
                  <a:chOff x="4111560" y="3483000"/>
                  <a:chExt cx="289080" cy="4618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4111560" y="34830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1878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V="1">
                    <a:off x="4137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V="1">
                    <a:off x="417528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V="1">
                    <a:off x="42242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V="1">
                    <a:off x="42624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4863960" y="3483000"/>
                  <a:ext cx="301680" cy="461880"/>
                  <a:chOff x="4863960" y="3483000"/>
                  <a:chExt cx="301680" cy="46188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4863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49402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V="1">
                    <a:off x="4902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V="1">
                    <a:off x="492768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V="1">
                    <a:off x="4976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V="1">
                    <a:off x="502776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5214960" y="3483000"/>
                  <a:ext cx="301680" cy="461880"/>
                  <a:chOff x="5214960" y="3483000"/>
                  <a:chExt cx="301680" cy="4618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5214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2912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V="1">
                    <a:off x="52401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V="1">
                    <a:off x="5278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V="1">
                    <a:off x="5327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V="1">
                    <a:off x="53658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4111560" y="3983040"/>
                  <a:ext cx="289080" cy="476280"/>
                  <a:chOff x="4111560" y="3983040"/>
                  <a:chExt cx="289080" cy="4762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4111560" y="40464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1878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137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17528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2242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2624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4487760" y="3983040"/>
                  <a:ext cx="301680" cy="476280"/>
                  <a:chOff x="4487760" y="3983040"/>
                  <a:chExt cx="301680" cy="47628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44877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5640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4513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55148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6004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6386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4863960" y="3983040"/>
                  <a:ext cx="301680" cy="476280"/>
                  <a:chOff x="4863960" y="3983040"/>
                  <a:chExt cx="301680" cy="4762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4863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9402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902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92768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976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502776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5214960" y="3983040"/>
                  <a:ext cx="301680" cy="476280"/>
                  <a:chOff x="5214960" y="3983040"/>
                  <a:chExt cx="301680" cy="47628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5214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52912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52401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5278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327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3658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1" name=""/>
                <p:cNvSpPr/>
                <p:nvPr/>
              </p:nvSpPr>
              <p:spPr>
                <a:xfrm>
                  <a:off x="4087800" y="39574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087800" y="4622760"/>
                <a:ext cx="1479600" cy="976320"/>
                <a:chOff x="4087800" y="4622760"/>
                <a:chExt cx="1479600" cy="976320"/>
              </a:xfrm>
            </p:grpSpPr>
            <p:grpSp>
              <p:nvGrpSpPr>
                <p:cNvPr id="413" name=""/>
                <p:cNvGrpSpPr/>
                <p:nvPr/>
              </p:nvGrpSpPr>
              <p:grpSpPr>
                <a:xfrm>
                  <a:off x="4487760" y="4622760"/>
                  <a:ext cx="301680" cy="474840"/>
                  <a:chOff x="4487760" y="4622760"/>
                  <a:chExt cx="301680" cy="4748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44877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5640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V="1">
                    <a:off x="4513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V="1">
                    <a:off x="455148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V="1">
                    <a:off x="46004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V="1">
                    <a:off x="46386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4111560" y="4622760"/>
                  <a:ext cx="289080" cy="474840"/>
                  <a:chOff x="4111560" y="4622760"/>
                  <a:chExt cx="289080" cy="4748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4111560" y="462276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1878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V="1">
                    <a:off x="4137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V="1">
                    <a:off x="417528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>
                    <a:off x="42242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V="1">
                    <a:off x="42624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4863960" y="4622760"/>
                  <a:ext cx="301680" cy="474840"/>
                  <a:chOff x="4863960" y="4622760"/>
                  <a:chExt cx="301680" cy="47484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4863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49402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V="1">
                    <a:off x="4902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492768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V="1">
                    <a:off x="4976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V="1">
                    <a:off x="502776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5214960" y="4622760"/>
                  <a:ext cx="301680" cy="474840"/>
                  <a:chOff x="5214960" y="4622760"/>
                  <a:chExt cx="301680" cy="47484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5214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2912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V="1">
                    <a:off x="52401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V="1">
                    <a:off x="5278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V="1">
                    <a:off x="5327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>
                    <a:off x="53658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4111560" y="5135400"/>
                  <a:ext cx="289080" cy="463680"/>
                  <a:chOff x="4111560" y="5135400"/>
                  <a:chExt cx="289080" cy="46368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111560" y="519912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1878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137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17528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2242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2624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4487760" y="5135400"/>
                  <a:ext cx="301680" cy="463680"/>
                  <a:chOff x="4487760" y="5135400"/>
                  <a:chExt cx="301680" cy="46368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44877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45640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4513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455148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46004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6386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4863960" y="5135400"/>
                  <a:ext cx="301680" cy="463680"/>
                  <a:chOff x="4863960" y="5135400"/>
                  <a:chExt cx="301680" cy="46368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4863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402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4902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492768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4976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02776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5214960" y="5135400"/>
                  <a:ext cx="301680" cy="463680"/>
                  <a:chOff x="5214960" y="5135400"/>
                  <a:chExt cx="301680" cy="46368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5214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52912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2401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5278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327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53658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9" name=""/>
                <p:cNvSpPr/>
                <p:nvPr/>
              </p:nvSpPr>
              <p:spPr>
                <a:xfrm>
                  <a:off x="4087800" y="511020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4087800" y="6915240"/>
                <a:ext cx="1479600" cy="976320"/>
                <a:chOff x="4087800" y="6915240"/>
                <a:chExt cx="1479600" cy="97632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4487760" y="6915240"/>
                  <a:ext cx="301680" cy="474480"/>
                  <a:chOff x="4487760" y="6915240"/>
                  <a:chExt cx="301680" cy="47448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44877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5640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V="1">
                    <a:off x="4513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V="1">
                    <a:off x="455148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V="1">
                    <a:off x="46004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V="1">
                    <a:off x="46386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4111560" y="6915240"/>
                  <a:ext cx="289080" cy="474480"/>
                  <a:chOff x="4111560" y="6915240"/>
                  <a:chExt cx="289080" cy="47448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4111560" y="691524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41878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V="1">
                    <a:off x="4137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V="1">
                    <a:off x="417528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42242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V="1">
                    <a:off x="42624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4863960" y="6915240"/>
                  <a:ext cx="301680" cy="474480"/>
                  <a:chOff x="4863960" y="6915240"/>
                  <a:chExt cx="301680" cy="47448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4863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49402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V="1">
                    <a:off x="4902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V="1">
                    <a:off x="492768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V="1">
                    <a:off x="4976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V="1">
                    <a:off x="502776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5214960" y="6915240"/>
                  <a:ext cx="301680" cy="474480"/>
                  <a:chOff x="5214960" y="6915240"/>
                  <a:chExt cx="301680" cy="47448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5214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2912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V="1">
                    <a:off x="52401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V="1">
                    <a:off x="5278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V="1">
                    <a:off x="5327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V="1">
                    <a:off x="53658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4111560" y="7427880"/>
                  <a:ext cx="289080" cy="463680"/>
                  <a:chOff x="4111560" y="7427880"/>
                  <a:chExt cx="289080" cy="4636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4111560" y="7489800"/>
                    <a:ext cx="289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41878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4137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417528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42242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42624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4487760" y="7427880"/>
                  <a:ext cx="301680" cy="463680"/>
                  <a:chOff x="4487760" y="7427880"/>
                  <a:chExt cx="301680" cy="46368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44877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45640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4513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455148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46004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46386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4863960" y="7427880"/>
                  <a:ext cx="301680" cy="463680"/>
                  <a:chOff x="4863960" y="7427880"/>
                  <a:chExt cx="301680" cy="46368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4863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49402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4902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492768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4976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502776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214960" y="7427880"/>
                  <a:ext cx="301680" cy="463680"/>
                  <a:chOff x="5214960" y="7427880"/>
                  <a:chExt cx="301680" cy="4636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5214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52912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52401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5278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5327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53658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7" name=""/>
                <p:cNvSpPr/>
                <p:nvPr/>
              </p:nvSpPr>
              <p:spPr>
                <a:xfrm>
                  <a:off x="4087800" y="74026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8" name=""/>
            <p:cNvGrpSpPr/>
            <p:nvPr/>
          </p:nvGrpSpPr>
          <p:grpSpPr>
            <a:xfrm>
              <a:off x="2508120" y="2330280"/>
              <a:ext cx="1478160" cy="5561280"/>
              <a:chOff x="2508120" y="2330280"/>
              <a:chExt cx="1478160" cy="556128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2508120" y="5773680"/>
                <a:ext cx="1478160" cy="978120"/>
                <a:chOff x="2508120" y="5773680"/>
                <a:chExt cx="1478160" cy="978120"/>
              </a:xfrm>
            </p:grpSpPr>
            <p:grpSp>
              <p:nvGrpSpPr>
                <p:cNvPr id="530" name=""/>
                <p:cNvGrpSpPr/>
                <p:nvPr/>
              </p:nvGrpSpPr>
              <p:grpSpPr>
                <a:xfrm>
                  <a:off x="2908440" y="5773680"/>
                  <a:ext cx="301680" cy="463680"/>
                  <a:chOff x="2908440" y="5773680"/>
                  <a:chExt cx="301680" cy="46368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290844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98440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293364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V="1">
                    <a:off x="29718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V="1">
                    <a:off x="30211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V="1">
                    <a:off x="305928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2532240" y="5773680"/>
                  <a:ext cx="289080" cy="463680"/>
                  <a:chOff x="2532240" y="5773680"/>
                  <a:chExt cx="289080" cy="46368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2532240" y="5773680"/>
                    <a:ext cx="2890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60820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V="1">
                    <a:off x="255744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V="1">
                    <a:off x="25956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26449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V="1">
                    <a:off x="26827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3284640" y="5773680"/>
                  <a:ext cx="301680" cy="463680"/>
                  <a:chOff x="3284640" y="5773680"/>
                  <a:chExt cx="301680" cy="46368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328464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336060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V="1">
                    <a:off x="33228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V="1">
                    <a:off x="33480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V="1">
                    <a:off x="33973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V="1">
                    <a:off x="344808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3635280" y="5773680"/>
                  <a:ext cx="301680" cy="463680"/>
                  <a:chOff x="3635280" y="5773680"/>
                  <a:chExt cx="301680" cy="46368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363528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371160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V="1">
                    <a:off x="366084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V="1">
                    <a:off x="36990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V="1">
                    <a:off x="374796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V="1">
                    <a:off x="37861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2532240" y="6275520"/>
                  <a:ext cx="289080" cy="476280"/>
                  <a:chOff x="2532240" y="6275520"/>
                  <a:chExt cx="289080" cy="47628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2532240" y="633888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60820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255744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5956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64492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268272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2908440" y="6275520"/>
                  <a:ext cx="301680" cy="476280"/>
                  <a:chOff x="2908440" y="6275520"/>
                  <a:chExt cx="301680" cy="4762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90844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98440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293364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9718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302112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305928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3284640" y="6275520"/>
                  <a:ext cx="301680" cy="476280"/>
                  <a:chOff x="3284640" y="6275520"/>
                  <a:chExt cx="301680" cy="47628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328464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336060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33228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3480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339732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344808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3635280" y="6275520"/>
                  <a:ext cx="301680" cy="476280"/>
                  <a:chOff x="3635280" y="6275520"/>
                  <a:chExt cx="301680" cy="47628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363528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71160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366084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36990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74796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378612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6" name=""/>
                <p:cNvSpPr/>
                <p:nvPr/>
              </p:nvSpPr>
              <p:spPr>
                <a:xfrm>
                  <a:off x="2508120" y="624996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2508120" y="2330280"/>
                <a:ext cx="1478160" cy="976320"/>
                <a:chOff x="2508120" y="2330280"/>
                <a:chExt cx="1478160" cy="976320"/>
              </a:xfrm>
            </p:grpSpPr>
            <p:grpSp>
              <p:nvGrpSpPr>
                <p:cNvPr id="588" name=""/>
                <p:cNvGrpSpPr/>
                <p:nvPr/>
              </p:nvGrpSpPr>
              <p:grpSpPr>
                <a:xfrm>
                  <a:off x="2908440" y="2330280"/>
                  <a:ext cx="301680" cy="474840"/>
                  <a:chOff x="2908440" y="2330280"/>
                  <a:chExt cx="301680" cy="47484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290844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98440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V="1">
                    <a:off x="293364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V="1">
                    <a:off x="29718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V="1">
                    <a:off x="30211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V="1">
                    <a:off x="305928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2532240" y="2330280"/>
                  <a:ext cx="289080" cy="474840"/>
                  <a:chOff x="2532240" y="2330280"/>
                  <a:chExt cx="289080" cy="47484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2532240" y="233028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60820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V="1">
                    <a:off x="255744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V="1">
                    <a:off x="25956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V="1">
                    <a:off x="26449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V="1">
                    <a:off x="26827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3284640" y="2330280"/>
                  <a:ext cx="301680" cy="474840"/>
                  <a:chOff x="3284640" y="2330280"/>
                  <a:chExt cx="301680" cy="4748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328464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336060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V="1">
                    <a:off x="33228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V="1">
                    <a:off x="33480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V="1">
                    <a:off x="33973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V="1">
                    <a:off x="344808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3635280" y="2330280"/>
                  <a:ext cx="301680" cy="474840"/>
                  <a:chOff x="3635280" y="2330280"/>
                  <a:chExt cx="301680" cy="47484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363528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371160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V="1">
                    <a:off x="366084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V="1">
                    <a:off x="36990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V="1">
                    <a:off x="374796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V="1">
                    <a:off x="37861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2532240" y="2843280"/>
                  <a:ext cx="289080" cy="463320"/>
                  <a:chOff x="2532240" y="2843280"/>
                  <a:chExt cx="289080" cy="46332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>
                    <a:off x="2532240" y="290664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60820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55744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5956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64492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68272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2908440" y="2843280"/>
                  <a:ext cx="301680" cy="463320"/>
                  <a:chOff x="2908440" y="2843280"/>
                  <a:chExt cx="301680" cy="46332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290844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98440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93364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9718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02112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305928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3284640" y="2843280"/>
                  <a:ext cx="301680" cy="463320"/>
                  <a:chOff x="3284640" y="2843280"/>
                  <a:chExt cx="301680" cy="46332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>
                    <a:off x="328464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336060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3228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3480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339732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344808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3635280" y="2843280"/>
                  <a:ext cx="301680" cy="463320"/>
                  <a:chOff x="3635280" y="2843280"/>
                  <a:chExt cx="301680" cy="46332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363528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371160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366084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36990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374796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78612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4" name=""/>
                <p:cNvSpPr/>
                <p:nvPr/>
              </p:nvSpPr>
              <p:spPr>
                <a:xfrm>
                  <a:off x="2508120" y="281772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2508120" y="3483000"/>
                <a:ext cx="1478160" cy="976320"/>
                <a:chOff x="2508120" y="3483000"/>
                <a:chExt cx="1478160" cy="976320"/>
              </a:xfrm>
            </p:grpSpPr>
            <p:grpSp>
              <p:nvGrpSpPr>
                <p:cNvPr id="646" name=""/>
                <p:cNvGrpSpPr/>
                <p:nvPr/>
              </p:nvGrpSpPr>
              <p:grpSpPr>
                <a:xfrm>
                  <a:off x="2908440" y="3483000"/>
                  <a:ext cx="301680" cy="461880"/>
                  <a:chOff x="2908440" y="3483000"/>
                  <a:chExt cx="301680" cy="46188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>
                    <a:off x="290844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98440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V="1">
                    <a:off x="293364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V="1">
                    <a:off x="29718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V="1">
                    <a:off x="30211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V="1">
                    <a:off x="305928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2532240" y="3483000"/>
                  <a:ext cx="289080" cy="461880"/>
                  <a:chOff x="2532240" y="3483000"/>
                  <a:chExt cx="289080" cy="46188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>
                    <a:off x="2532240" y="34830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260820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flipV="1">
                    <a:off x="255744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V="1">
                    <a:off x="25956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V="1">
                    <a:off x="26449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flipV="1">
                    <a:off x="26827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"/>
                <p:cNvGrpSpPr/>
                <p:nvPr/>
              </p:nvGrpSpPr>
              <p:grpSpPr>
                <a:xfrm>
                  <a:off x="3284640" y="3483000"/>
                  <a:ext cx="301680" cy="461880"/>
                  <a:chOff x="3284640" y="3483000"/>
                  <a:chExt cx="301680" cy="461880"/>
                </a:xfrm>
              </p:grpSpPr>
              <p:sp>
                <p:nvSpPr>
                  <p:cNvPr id="661" name=""/>
                  <p:cNvSpPr/>
                  <p:nvPr/>
                </p:nvSpPr>
                <p:spPr>
                  <a:xfrm>
                    <a:off x="328464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336060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flipV="1">
                    <a:off x="33228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flipV="1">
                    <a:off x="33480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flipV="1">
                    <a:off x="33973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flipV="1">
                    <a:off x="344808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3635280" y="3483000"/>
                  <a:ext cx="301680" cy="461880"/>
                  <a:chOff x="3635280" y="3483000"/>
                  <a:chExt cx="301680" cy="46188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363528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371160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V="1">
                    <a:off x="366084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V="1">
                    <a:off x="36990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V="1">
                    <a:off x="374796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V="1">
                    <a:off x="37861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2532240" y="3983040"/>
                  <a:ext cx="289080" cy="476280"/>
                  <a:chOff x="2532240" y="3983040"/>
                  <a:chExt cx="289080" cy="47628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2532240" y="40464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60820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255744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5956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264492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68272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1" name=""/>
                <p:cNvGrpSpPr/>
                <p:nvPr/>
              </p:nvGrpSpPr>
              <p:grpSpPr>
                <a:xfrm>
                  <a:off x="2908440" y="3983040"/>
                  <a:ext cx="301680" cy="476280"/>
                  <a:chOff x="2908440" y="3983040"/>
                  <a:chExt cx="301680" cy="47628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>
                    <a:off x="290844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298440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93364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29718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302112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305928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3284640" y="3983040"/>
                  <a:ext cx="301680" cy="476280"/>
                  <a:chOff x="3284640" y="3983040"/>
                  <a:chExt cx="301680" cy="47628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>
                    <a:off x="328464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336060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33228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33480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339732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344808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3635280" y="3983040"/>
                  <a:ext cx="301680" cy="476280"/>
                  <a:chOff x="3635280" y="3983040"/>
                  <a:chExt cx="301680" cy="47628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>
                    <a:off x="363528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371160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366084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36990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374796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378612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" name=""/>
                <p:cNvSpPr/>
                <p:nvPr/>
              </p:nvSpPr>
              <p:spPr>
                <a:xfrm>
                  <a:off x="2508120" y="395748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08120" y="4622760"/>
                <a:ext cx="1478160" cy="976320"/>
                <a:chOff x="2508120" y="4622760"/>
                <a:chExt cx="1478160" cy="976320"/>
              </a:xfrm>
            </p:grpSpPr>
            <p:grpSp>
              <p:nvGrpSpPr>
                <p:cNvPr id="704" name=""/>
                <p:cNvGrpSpPr/>
                <p:nvPr/>
              </p:nvGrpSpPr>
              <p:grpSpPr>
                <a:xfrm>
                  <a:off x="2908440" y="4622760"/>
                  <a:ext cx="301680" cy="474840"/>
                  <a:chOff x="2908440" y="4622760"/>
                  <a:chExt cx="301680" cy="474840"/>
                </a:xfrm>
              </p:grpSpPr>
              <p:sp>
                <p:nvSpPr>
                  <p:cNvPr id="705" name=""/>
                  <p:cNvSpPr/>
                  <p:nvPr/>
                </p:nvSpPr>
                <p:spPr>
                  <a:xfrm>
                    <a:off x="290844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298440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V="1">
                    <a:off x="293364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flipV="1">
                    <a:off x="29718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V="1">
                    <a:off x="30211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V="1">
                    <a:off x="305928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1" name=""/>
                <p:cNvGrpSpPr/>
                <p:nvPr/>
              </p:nvGrpSpPr>
              <p:grpSpPr>
                <a:xfrm>
                  <a:off x="2532240" y="4622760"/>
                  <a:ext cx="289080" cy="474840"/>
                  <a:chOff x="2532240" y="4622760"/>
                  <a:chExt cx="289080" cy="47484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>
                    <a:off x="2532240" y="462276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260820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flipV="1">
                    <a:off x="255744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 flipV="1">
                    <a:off x="25956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V="1">
                    <a:off x="26449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V="1">
                    <a:off x="26827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3284640" y="4622760"/>
                  <a:ext cx="301680" cy="474840"/>
                  <a:chOff x="3284640" y="4622760"/>
                  <a:chExt cx="301680" cy="47484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328464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336060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flipV="1">
                    <a:off x="33228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V="1">
                    <a:off x="33480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V="1">
                    <a:off x="33973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V="1">
                    <a:off x="344808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" name=""/>
                <p:cNvGrpSpPr/>
                <p:nvPr/>
              </p:nvGrpSpPr>
              <p:grpSpPr>
                <a:xfrm>
                  <a:off x="3635280" y="4622760"/>
                  <a:ext cx="301680" cy="474840"/>
                  <a:chOff x="3635280" y="4622760"/>
                  <a:chExt cx="301680" cy="47484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>
                    <a:off x="363528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371160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flipV="1">
                    <a:off x="366084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V="1">
                    <a:off x="36990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 flipV="1">
                    <a:off x="374796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flipV="1">
                    <a:off x="37861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2" name=""/>
                <p:cNvGrpSpPr/>
                <p:nvPr/>
              </p:nvGrpSpPr>
              <p:grpSpPr>
                <a:xfrm>
                  <a:off x="2532240" y="5135400"/>
                  <a:ext cx="289080" cy="463680"/>
                  <a:chOff x="2532240" y="5135400"/>
                  <a:chExt cx="289080" cy="46368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>
                    <a:off x="2532240" y="519912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60820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55744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5956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264492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268272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9" name=""/>
                <p:cNvGrpSpPr/>
                <p:nvPr/>
              </p:nvGrpSpPr>
              <p:grpSpPr>
                <a:xfrm>
                  <a:off x="2908440" y="5135400"/>
                  <a:ext cx="301680" cy="463680"/>
                  <a:chOff x="2908440" y="5135400"/>
                  <a:chExt cx="301680" cy="46368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>
                    <a:off x="290844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298440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293364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9718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302112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305928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" name=""/>
                <p:cNvGrpSpPr/>
                <p:nvPr/>
              </p:nvGrpSpPr>
              <p:grpSpPr>
                <a:xfrm>
                  <a:off x="3284640" y="5135400"/>
                  <a:ext cx="301680" cy="463680"/>
                  <a:chOff x="3284640" y="5135400"/>
                  <a:chExt cx="301680" cy="46368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>
                    <a:off x="328464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36060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33228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33480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339732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344808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"/>
                <p:cNvGrpSpPr/>
                <p:nvPr/>
              </p:nvGrpSpPr>
              <p:grpSpPr>
                <a:xfrm>
                  <a:off x="3635280" y="5135400"/>
                  <a:ext cx="301680" cy="463680"/>
                  <a:chOff x="3635280" y="5135400"/>
                  <a:chExt cx="301680" cy="46368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>
                    <a:off x="363528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371160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366084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36990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374796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378612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0" name=""/>
                <p:cNvSpPr/>
                <p:nvPr/>
              </p:nvSpPr>
              <p:spPr>
                <a:xfrm>
                  <a:off x="2508120" y="511020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2508120" y="6915240"/>
                <a:ext cx="1478160" cy="976320"/>
                <a:chOff x="2508120" y="6915240"/>
                <a:chExt cx="1478160" cy="976320"/>
              </a:xfrm>
            </p:grpSpPr>
            <p:grpSp>
              <p:nvGrpSpPr>
                <p:cNvPr id="762" name=""/>
                <p:cNvGrpSpPr/>
                <p:nvPr/>
              </p:nvGrpSpPr>
              <p:grpSpPr>
                <a:xfrm>
                  <a:off x="2908440" y="6915240"/>
                  <a:ext cx="301680" cy="474480"/>
                  <a:chOff x="2908440" y="6915240"/>
                  <a:chExt cx="301680" cy="47448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290844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98440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V="1">
                    <a:off x="293364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V="1">
                    <a:off x="29718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V="1">
                    <a:off x="30211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V="1">
                    <a:off x="305928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9" name=""/>
                <p:cNvGrpSpPr/>
                <p:nvPr/>
              </p:nvGrpSpPr>
              <p:grpSpPr>
                <a:xfrm>
                  <a:off x="2532240" y="6915240"/>
                  <a:ext cx="289080" cy="474480"/>
                  <a:chOff x="2532240" y="6915240"/>
                  <a:chExt cx="289080" cy="47448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>
                    <a:off x="2532240" y="691524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260820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V="1">
                    <a:off x="255744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V="1">
                    <a:off x="25956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V="1">
                    <a:off x="26449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V="1">
                    <a:off x="26827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3284640" y="6915240"/>
                  <a:ext cx="301680" cy="474480"/>
                  <a:chOff x="3284640" y="6915240"/>
                  <a:chExt cx="301680" cy="47448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>
                    <a:off x="328464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336060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V="1">
                    <a:off x="33228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V="1">
                    <a:off x="33480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V="1">
                    <a:off x="33973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V="1">
                    <a:off x="344808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3635280" y="6915240"/>
                  <a:ext cx="301680" cy="474480"/>
                  <a:chOff x="3635280" y="6915240"/>
                  <a:chExt cx="301680" cy="47448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363528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371160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V="1">
                    <a:off x="366084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V="1">
                    <a:off x="36990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V="1">
                    <a:off x="374796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V="1">
                    <a:off x="37861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0" name=""/>
                <p:cNvGrpSpPr/>
                <p:nvPr/>
              </p:nvGrpSpPr>
              <p:grpSpPr>
                <a:xfrm>
                  <a:off x="2532240" y="7427880"/>
                  <a:ext cx="289080" cy="463680"/>
                  <a:chOff x="2532240" y="7427880"/>
                  <a:chExt cx="289080" cy="463680"/>
                </a:xfrm>
              </p:grpSpPr>
              <p:sp>
                <p:nvSpPr>
                  <p:cNvPr id="791" name=""/>
                  <p:cNvSpPr/>
                  <p:nvPr/>
                </p:nvSpPr>
                <p:spPr>
                  <a:xfrm>
                    <a:off x="2532240" y="7489800"/>
                    <a:ext cx="289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260820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255744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25956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264492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268272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7" name=""/>
                <p:cNvGrpSpPr/>
                <p:nvPr/>
              </p:nvGrpSpPr>
              <p:grpSpPr>
                <a:xfrm>
                  <a:off x="2908440" y="7427880"/>
                  <a:ext cx="301680" cy="463680"/>
                  <a:chOff x="2908440" y="7427880"/>
                  <a:chExt cx="301680" cy="46368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290844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298440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293364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29718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302112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305928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3284640" y="7427880"/>
                  <a:ext cx="301680" cy="463680"/>
                  <a:chOff x="3284640" y="7427880"/>
                  <a:chExt cx="301680" cy="46368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328464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336060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33228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33480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339732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344808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" name=""/>
                <p:cNvGrpSpPr/>
                <p:nvPr/>
              </p:nvGrpSpPr>
              <p:grpSpPr>
                <a:xfrm>
                  <a:off x="3635280" y="7427880"/>
                  <a:ext cx="301680" cy="463680"/>
                  <a:chOff x="3635280" y="7427880"/>
                  <a:chExt cx="301680" cy="463680"/>
                </a:xfrm>
              </p:grpSpPr>
              <p:sp>
                <p:nvSpPr>
                  <p:cNvPr id="812" name=""/>
                  <p:cNvSpPr/>
                  <p:nvPr/>
                </p:nvSpPr>
                <p:spPr>
                  <a:xfrm>
                    <a:off x="363528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371160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366084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36990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374796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378612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8" name=""/>
                <p:cNvSpPr/>
                <p:nvPr/>
              </p:nvSpPr>
              <p:spPr>
                <a:xfrm>
                  <a:off x="2508120" y="740268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9" name=""/>
            <p:cNvGrpSpPr/>
            <p:nvPr/>
          </p:nvGrpSpPr>
          <p:grpSpPr>
            <a:xfrm>
              <a:off x="927000" y="2330280"/>
              <a:ext cx="1479600" cy="5561280"/>
              <a:chOff x="927000" y="2330280"/>
              <a:chExt cx="1479600" cy="556128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927000" y="5773680"/>
                <a:ext cx="1479600" cy="978120"/>
                <a:chOff x="927000" y="5773680"/>
                <a:chExt cx="1479600" cy="978120"/>
              </a:xfrm>
            </p:grpSpPr>
            <p:grpSp>
              <p:nvGrpSpPr>
                <p:cNvPr id="821" name=""/>
                <p:cNvGrpSpPr/>
                <p:nvPr/>
              </p:nvGrpSpPr>
              <p:grpSpPr>
                <a:xfrm>
                  <a:off x="1328760" y="5773680"/>
                  <a:ext cx="301680" cy="463680"/>
                  <a:chOff x="1328760" y="5773680"/>
                  <a:chExt cx="301680" cy="46368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>
                    <a:off x="13287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140508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V="1">
                    <a:off x="13539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flipV="1">
                    <a:off x="1392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V="1">
                    <a:off x="14414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V="1">
                    <a:off x="14796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952560" y="5773680"/>
                  <a:ext cx="289080" cy="463680"/>
                  <a:chOff x="952560" y="5773680"/>
                  <a:chExt cx="289080" cy="46368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952560" y="5773680"/>
                    <a:ext cx="2890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02888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V="1">
                    <a:off x="9777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V="1">
                    <a:off x="10159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V="1">
                    <a:off x="10652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V="1">
                    <a:off x="11034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"/>
                <p:cNvGrpSpPr/>
                <p:nvPr/>
              </p:nvGrpSpPr>
              <p:grpSpPr>
                <a:xfrm>
                  <a:off x="1704960" y="5773680"/>
                  <a:ext cx="301680" cy="463680"/>
                  <a:chOff x="1704960" y="5773680"/>
                  <a:chExt cx="301680" cy="46368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>
                    <a:off x="1704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17794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flipV="1">
                    <a:off x="1743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V="1">
                    <a:off x="1768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V="1">
                    <a:off x="1817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flipV="1">
                    <a:off x="18684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2055960" y="5773680"/>
                  <a:ext cx="301680" cy="463680"/>
                  <a:chOff x="2055960" y="5773680"/>
                  <a:chExt cx="301680" cy="46368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>
                    <a:off x="2055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213192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flipV="1">
                    <a:off x="20811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flipV="1">
                    <a:off x="2119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V="1">
                    <a:off x="2168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flipV="1">
                    <a:off x="22068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" name=""/>
                <p:cNvGrpSpPr/>
                <p:nvPr/>
              </p:nvGrpSpPr>
              <p:grpSpPr>
                <a:xfrm>
                  <a:off x="952560" y="6275520"/>
                  <a:ext cx="289080" cy="476280"/>
                  <a:chOff x="952560" y="6275520"/>
                  <a:chExt cx="289080" cy="4762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952560" y="633888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102888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9777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10159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10652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11034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6" name=""/>
                <p:cNvGrpSpPr/>
                <p:nvPr/>
              </p:nvGrpSpPr>
              <p:grpSpPr>
                <a:xfrm>
                  <a:off x="1328760" y="6275520"/>
                  <a:ext cx="301680" cy="476280"/>
                  <a:chOff x="1328760" y="6275520"/>
                  <a:chExt cx="301680" cy="47628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>
                    <a:off x="13287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40508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13539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1392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14414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14796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"/>
                <p:cNvGrpSpPr/>
                <p:nvPr/>
              </p:nvGrpSpPr>
              <p:grpSpPr>
                <a:xfrm>
                  <a:off x="1704960" y="6275520"/>
                  <a:ext cx="301680" cy="476280"/>
                  <a:chOff x="1704960" y="6275520"/>
                  <a:chExt cx="301680" cy="4762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1704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17794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1743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1768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1817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18684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2055960" y="6275520"/>
                  <a:ext cx="301680" cy="476280"/>
                  <a:chOff x="2055960" y="6275520"/>
                  <a:chExt cx="301680" cy="47628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>
                    <a:off x="2055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213192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20811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2119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2168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22068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7" name=""/>
                <p:cNvSpPr/>
                <p:nvPr/>
              </p:nvSpPr>
              <p:spPr>
                <a:xfrm>
                  <a:off x="927000" y="624996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8" name=""/>
              <p:cNvGrpSpPr/>
              <p:nvPr/>
            </p:nvGrpSpPr>
            <p:grpSpPr>
              <a:xfrm>
                <a:off x="927000" y="2330280"/>
                <a:ext cx="1479600" cy="976320"/>
                <a:chOff x="927000" y="2330280"/>
                <a:chExt cx="1479600" cy="976320"/>
              </a:xfrm>
            </p:grpSpPr>
            <p:grpSp>
              <p:nvGrpSpPr>
                <p:cNvPr id="879" name=""/>
                <p:cNvGrpSpPr/>
                <p:nvPr/>
              </p:nvGrpSpPr>
              <p:grpSpPr>
                <a:xfrm>
                  <a:off x="1328760" y="2330280"/>
                  <a:ext cx="301680" cy="474840"/>
                  <a:chOff x="1328760" y="2330280"/>
                  <a:chExt cx="301680" cy="474840"/>
                </a:xfrm>
              </p:grpSpPr>
              <p:sp>
                <p:nvSpPr>
                  <p:cNvPr id="880" name=""/>
                  <p:cNvSpPr/>
                  <p:nvPr/>
                </p:nvSpPr>
                <p:spPr>
                  <a:xfrm>
                    <a:off x="13287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140508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flipV="1">
                    <a:off x="13539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flipV="1">
                    <a:off x="1392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flipV="1">
                    <a:off x="14414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flipV="1">
                    <a:off x="14796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952560" y="2330280"/>
                  <a:ext cx="289080" cy="474840"/>
                  <a:chOff x="952560" y="2330280"/>
                  <a:chExt cx="289080" cy="47484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952560" y="233028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102888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flipV="1">
                    <a:off x="9777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 flipV="1">
                    <a:off x="10159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flipV="1">
                    <a:off x="10652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flipV="1">
                    <a:off x="11034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3" name=""/>
                <p:cNvGrpSpPr/>
                <p:nvPr/>
              </p:nvGrpSpPr>
              <p:grpSpPr>
                <a:xfrm>
                  <a:off x="1704960" y="2330280"/>
                  <a:ext cx="301680" cy="474840"/>
                  <a:chOff x="1704960" y="2330280"/>
                  <a:chExt cx="301680" cy="474840"/>
                </a:xfrm>
              </p:grpSpPr>
              <p:sp>
                <p:nvSpPr>
                  <p:cNvPr id="894" name=""/>
                  <p:cNvSpPr/>
                  <p:nvPr/>
                </p:nvSpPr>
                <p:spPr>
                  <a:xfrm>
                    <a:off x="1704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17794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 flipV="1">
                    <a:off x="1743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 flipV="1">
                    <a:off x="1768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 flipV="1">
                    <a:off x="1817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 flipV="1">
                    <a:off x="18684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0" name=""/>
                <p:cNvGrpSpPr/>
                <p:nvPr/>
              </p:nvGrpSpPr>
              <p:grpSpPr>
                <a:xfrm>
                  <a:off x="2055960" y="2330280"/>
                  <a:ext cx="301680" cy="474840"/>
                  <a:chOff x="2055960" y="2330280"/>
                  <a:chExt cx="301680" cy="47484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2055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213192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V="1">
                    <a:off x="20811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V="1">
                    <a:off x="2119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 flipV="1">
                    <a:off x="2168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flipV="1">
                    <a:off x="22068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7" name=""/>
                <p:cNvGrpSpPr/>
                <p:nvPr/>
              </p:nvGrpSpPr>
              <p:grpSpPr>
                <a:xfrm>
                  <a:off x="952560" y="2843280"/>
                  <a:ext cx="289080" cy="463320"/>
                  <a:chOff x="952560" y="2843280"/>
                  <a:chExt cx="289080" cy="46332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>
                    <a:off x="952560" y="290664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102888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9777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10159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10652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11034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4" name=""/>
                <p:cNvGrpSpPr/>
                <p:nvPr/>
              </p:nvGrpSpPr>
              <p:grpSpPr>
                <a:xfrm>
                  <a:off x="1328760" y="2843280"/>
                  <a:ext cx="301680" cy="463320"/>
                  <a:chOff x="1328760" y="2843280"/>
                  <a:chExt cx="301680" cy="46332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>
                    <a:off x="13287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140508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13539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1392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14414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14796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1" name=""/>
                <p:cNvGrpSpPr/>
                <p:nvPr/>
              </p:nvGrpSpPr>
              <p:grpSpPr>
                <a:xfrm>
                  <a:off x="1704960" y="2843280"/>
                  <a:ext cx="301680" cy="463320"/>
                  <a:chOff x="1704960" y="2843280"/>
                  <a:chExt cx="301680" cy="46332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704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7794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1743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768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1817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18684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2055960" y="2843280"/>
                  <a:ext cx="301680" cy="463320"/>
                  <a:chOff x="2055960" y="2843280"/>
                  <a:chExt cx="301680" cy="46332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2055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13192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0811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119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168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2068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5" name=""/>
                <p:cNvSpPr/>
                <p:nvPr/>
              </p:nvSpPr>
              <p:spPr>
                <a:xfrm>
                  <a:off x="927000" y="281772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927000" y="3483000"/>
                <a:ext cx="1479600" cy="976320"/>
                <a:chOff x="927000" y="3483000"/>
                <a:chExt cx="1479600" cy="976320"/>
              </a:xfrm>
            </p:grpSpPr>
            <p:grpSp>
              <p:nvGrpSpPr>
                <p:cNvPr id="937" name=""/>
                <p:cNvGrpSpPr/>
                <p:nvPr/>
              </p:nvGrpSpPr>
              <p:grpSpPr>
                <a:xfrm>
                  <a:off x="1328760" y="3483000"/>
                  <a:ext cx="301680" cy="461880"/>
                  <a:chOff x="1328760" y="3483000"/>
                  <a:chExt cx="301680" cy="461880"/>
                </a:xfrm>
              </p:grpSpPr>
              <p:sp>
                <p:nvSpPr>
                  <p:cNvPr id="938" name=""/>
                  <p:cNvSpPr/>
                  <p:nvPr/>
                </p:nvSpPr>
                <p:spPr>
                  <a:xfrm>
                    <a:off x="13287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140508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 flipV="1">
                    <a:off x="13539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flipV="1">
                    <a:off x="1392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flipV="1">
                    <a:off x="14414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V="1">
                    <a:off x="14796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4" name=""/>
                <p:cNvGrpSpPr/>
                <p:nvPr/>
              </p:nvGrpSpPr>
              <p:grpSpPr>
                <a:xfrm>
                  <a:off x="952560" y="3483000"/>
                  <a:ext cx="289080" cy="461880"/>
                  <a:chOff x="952560" y="3483000"/>
                  <a:chExt cx="289080" cy="46188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>
                    <a:off x="952560" y="34830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102888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V="1">
                    <a:off x="9777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 flipV="1">
                    <a:off x="10159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V="1">
                    <a:off x="10652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 flipV="1">
                    <a:off x="11034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1704960" y="3483000"/>
                  <a:ext cx="301680" cy="461880"/>
                  <a:chOff x="1704960" y="3483000"/>
                  <a:chExt cx="301680" cy="46188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>
                    <a:off x="1704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17794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 flipV="1">
                    <a:off x="1743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V="1">
                    <a:off x="1768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 flipV="1">
                    <a:off x="1817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 flipV="1">
                    <a:off x="18684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2055960" y="3483000"/>
                  <a:ext cx="301680" cy="461880"/>
                  <a:chOff x="2055960" y="3483000"/>
                  <a:chExt cx="301680" cy="46188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2055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213192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 flipV="1">
                    <a:off x="20811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 flipV="1">
                    <a:off x="2119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 flipV="1">
                    <a:off x="2168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 flipV="1">
                    <a:off x="22068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5" name=""/>
                <p:cNvGrpSpPr/>
                <p:nvPr/>
              </p:nvGrpSpPr>
              <p:grpSpPr>
                <a:xfrm>
                  <a:off x="952560" y="3983040"/>
                  <a:ext cx="289080" cy="476280"/>
                  <a:chOff x="952560" y="3983040"/>
                  <a:chExt cx="289080" cy="47628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952560" y="40464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02888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9777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0159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10652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11034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1328760" y="3983040"/>
                  <a:ext cx="301680" cy="476280"/>
                  <a:chOff x="1328760" y="3983040"/>
                  <a:chExt cx="301680" cy="47628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13287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140508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13539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1392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14414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14796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1704960" y="3983040"/>
                  <a:ext cx="301680" cy="476280"/>
                  <a:chOff x="1704960" y="3983040"/>
                  <a:chExt cx="301680" cy="47628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1704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17794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1743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1768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1817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18684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"/>
                <p:cNvGrpSpPr/>
                <p:nvPr/>
              </p:nvGrpSpPr>
              <p:grpSpPr>
                <a:xfrm>
                  <a:off x="2055960" y="3983040"/>
                  <a:ext cx="301680" cy="476280"/>
                  <a:chOff x="2055960" y="3983040"/>
                  <a:chExt cx="301680" cy="476280"/>
                </a:xfrm>
              </p:grpSpPr>
              <p:sp>
                <p:nvSpPr>
                  <p:cNvPr id="987" name=""/>
                  <p:cNvSpPr/>
                  <p:nvPr/>
                </p:nvSpPr>
                <p:spPr>
                  <a:xfrm>
                    <a:off x="2055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213192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20811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119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2168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2068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3" name=""/>
                <p:cNvSpPr/>
                <p:nvPr/>
              </p:nvSpPr>
              <p:spPr>
                <a:xfrm>
                  <a:off x="927000" y="39574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927000" y="4622760"/>
                <a:ext cx="1479600" cy="976320"/>
                <a:chOff x="927000" y="4622760"/>
                <a:chExt cx="1479600" cy="976320"/>
              </a:xfrm>
            </p:grpSpPr>
            <p:grpSp>
              <p:nvGrpSpPr>
                <p:cNvPr id="995" name=""/>
                <p:cNvGrpSpPr/>
                <p:nvPr/>
              </p:nvGrpSpPr>
              <p:grpSpPr>
                <a:xfrm>
                  <a:off x="1328760" y="4622760"/>
                  <a:ext cx="301680" cy="474840"/>
                  <a:chOff x="1328760" y="4622760"/>
                  <a:chExt cx="301680" cy="474840"/>
                </a:xfrm>
              </p:grpSpPr>
              <p:sp>
                <p:nvSpPr>
                  <p:cNvPr id="996" name=""/>
                  <p:cNvSpPr/>
                  <p:nvPr/>
                </p:nvSpPr>
                <p:spPr>
                  <a:xfrm>
                    <a:off x="13287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140508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 flipV="1">
                    <a:off x="13539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flipV="1">
                    <a:off x="1392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flipV="1">
                    <a:off x="14414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 flipV="1">
                    <a:off x="14796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2" name=""/>
                <p:cNvGrpSpPr/>
                <p:nvPr/>
              </p:nvGrpSpPr>
              <p:grpSpPr>
                <a:xfrm>
                  <a:off x="952560" y="4622760"/>
                  <a:ext cx="289080" cy="474840"/>
                  <a:chOff x="952560" y="4622760"/>
                  <a:chExt cx="289080" cy="474840"/>
                </a:xfrm>
              </p:grpSpPr>
              <p:sp>
                <p:nvSpPr>
                  <p:cNvPr id="1003" name=""/>
                  <p:cNvSpPr/>
                  <p:nvPr/>
                </p:nvSpPr>
                <p:spPr>
                  <a:xfrm>
                    <a:off x="952560" y="462276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102888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flipV="1">
                    <a:off x="9777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 flipV="1">
                    <a:off x="10159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flipV="1">
                    <a:off x="10652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V="1">
                    <a:off x="11034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" name=""/>
                <p:cNvGrpSpPr/>
                <p:nvPr/>
              </p:nvGrpSpPr>
              <p:grpSpPr>
                <a:xfrm>
                  <a:off x="1704960" y="4622760"/>
                  <a:ext cx="301680" cy="474840"/>
                  <a:chOff x="1704960" y="4622760"/>
                  <a:chExt cx="301680" cy="47484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704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7794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V="1">
                    <a:off x="1743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 flipV="1">
                    <a:off x="1768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V="1">
                    <a:off x="1817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flipV="1">
                    <a:off x="18684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2055960" y="4622760"/>
                  <a:ext cx="301680" cy="474840"/>
                  <a:chOff x="2055960" y="4622760"/>
                  <a:chExt cx="301680" cy="47484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2055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213192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 flipV="1">
                    <a:off x="20811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 flipV="1">
                    <a:off x="2119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 flipV="1">
                    <a:off x="2168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 flipV="1">
                    <a:off x="22068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952560" y="5135400"/>
                  <a:ext cx="289080" cy="463680"/>
                  <a:chOff x="952560" y="5135400"/>
                  <a:chExt cx="289080" cy="46368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952560" y="519912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102888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9777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10159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10652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11034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0" name=""/>
                <p:cNvGrpSpPr/>
                <p:nvPr/>
              </p:nvGrpSpPr>
              <p:grpSpPr>
                <a:xfrm>
                  <a:off x="1328760" y="5135400"/>
                  <a:ext cx="301680" cy="463680"/>
                  <a:chOff x="1328760" y="5135400"/>
                  <a:chExt cx="301680" cy="46368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13287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140508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3539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1392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4414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14796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7" name=""/>
                <p:cNvGrpSpPr/>
                <p:nvPr/>
              </p:nvGrpSpPr>
              <p:grpSpPr>
                <a:xfrm>
                  <a:off x="1704960" y="5135400"/>
                  <a:ext cx="301680" cy="463680"/>
                  <a:chOff x="1704960" y="5135400"/>
                  <a:chExt cx="301680" cy="463680"/>
                </a:xfrm>
              </p:grpSpPr>
              <p:sp>
                <p:nvSpPr>
                  <p:cNvPr id="1038" name=""/>
                  <p:cNvSpPr/>
                  <p:nvPr/>
                </p:nvSpPr>
                <p:spPr>
                  <a:xfrm>
                    <a:off x="1704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17794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1743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1768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1817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18684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4" name=""/>
                <p:cNvGrpSpPr/>
                <p:nvPr/>
              </p:nvGrpSpPr>
              <p:grpSpPr>
                <a:xfrm>
                  <a:off x="2055960" y="5135400"/>
                  <a:ext cx="301680" cy="463680"/>
                  <a:chOff x="2055960" y="5135400"/>
                  <a:chExt cx="301680" cy="46368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>
                    <a:off x="2055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13192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0811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119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168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2068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"/>
                <p:cNvSpPr/>
                <p:nvPr/>
              </p:nvSpPr>
              <p:spPr>
                <a:xfrm>
                  <a:off x="927000" y="511020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927000" y="6915240"/>
                <a:ext cx="1479600" cy="976320"/>
                <a:chOff x="927000" y="6915240"/>
                <a:chExt cx="1479600" cy="97632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328760" y="6915240"/>
                  <a:ext cx="301680" cy="474480"/>
                  <a:chOff x="1328760" y="6915240"/>
                  <a:chExt cx="301680" cy="47448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3287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40508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 flipV="1">
                    <a:off x="13539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flipV="1">
                    <a:off x="1392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flipV="1">
                    <a:off x="14414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flipV="1">
                    <a:off x="14796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952560" y="6915240"/>
                  <a:ext cx="289080" cy="474480"/>
                  <a:chOff x="952560" y="6915240"/>
                  <a:chExt cx="289080" cy="47448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952560" y="691524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102888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 flipV="1">
                    <a:off x="9777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 flipV="1">
                    <a:off x="10159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 flipV="1">
                    <a:off x="10652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flipV="1">
                    <a:off x="11034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1704960" y="6915240"/>
                  <a:ext cx="301680" cy="474480"/>
                  <a:chOff x="1704960" y="6915240"/>
                  <a:chExt cx="301680" cy="47448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1704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17794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flipV="1">
                    <a:off x="1743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 flipV="1">
                    <a:off x="1768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V="1">
                    <a:off x="1817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 flipV="1">
                    <a:off x="18684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4" name=""/>
                <p:cNvGrpSpPr/>
                <p:nvPr/>
              </p:nvGrpSpPr>
              <p:grpSpPr>
                <a:xfrm>
                  <a:off x="2055960" y="6915240"/>
                  <a:ext cx="301680" cy="474480"/>
                  <a:chOff x="2055960" y="6915240"/>
                  <a:chExt cx="301680" cy="47448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>
                    <a:off x="2055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213192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V="1">
                    <a:off x="20811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 flipV="1">
                    <a:off x="2119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V="1">
                    <a:off x="2168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V="1">
                    <a:off x="22068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952560" y="7427880"/>
                  <a:ext cx="289080" cy="463680"/>
                  <a:chOff x="952560" y="7427880"/>
                  <a:chExt cx="289080" cy="46368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952560" y="7489800"/>
                    <a:ext cx="289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102888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9777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0159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10652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11034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8" name=""/>
                <p:cNvGrpSpPr/>
                <p:nvPr/>
              </p:nvGrpSpPr>
              <p:grpSpPr>
                <a:xfrm>
                  <a:off x="1328760" y="7427880"/>
                  <a:ext cx="301680" cy="463680"/>
                  <a:chOff x="1328760" y="7427880"/>
                  <a:chExt cx="301680" cy="463680"/>
                </a:xfrm>
              </p:grpSpPr>
              <p:sp>
                <p:nvSpPr>
                  <p:cNvPr id="1089" name=""/>
                  <p:cNvSpPr/>
                  <p:nvPr/>
                </p:nvSpPr>
                <p:spPr>
                  <a:xfrm>
                    <a:off x="13287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140508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13539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1392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14414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14796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5" name=""/>
                <p:cNvGrpSpPr/>
                <p:nvPr/>
              </p:nvGrpSpPr>
              <p:grpSpPr>
                <a:xfrm>
                  <a:off x="1704960" y="7427880"/>
                  <a:ext cx="301680" cy="463680"/>
                  <a:chOff x="1704960" y="7427880"/>
                  <a:chExt cx="301680" cy="463680"/>
                </a:xfrm>
              </p:grpSpPr>
              <p:sp>
                <p:nvSpPr>
                  <p:cNvPr id="1096" name=""/>
                  <p:cNvSpPr/>
                  <p:nvPr/>
                </p:nvSpPr>
                <p:spPr>
                  <a:xfrm>
                    <a:off x="1704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17794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1743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768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1817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8684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2" name=""/>
                <p:cNvGrpSpPr/>
                <p:nvPr/>
              </p:nvGrpSpPr>
              <p:grpSpPr>
                <a:xfrm>
                  <a:off x="2055960" y="7427880"/>
                  <a:ext cx="301680" cy="463680"/>
                  <a:chOff x="2055960" y="7427880"/>
                  <a:chExt cx="301680" cy="463680"/>
                </a:xfrm>
              </p:grpSpPr>
              <p:sp>
                <p:nvSpPr>
                  <p:cNvPr id="1103" name=""/>
                  <p:cNvSpPr/>
                  <p:nvPr/>
                </p:nvSpPr>
                <p:spPr>
                  <a:xfrm>
                    <a:off x="2055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213192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20811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2119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2168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22068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9" name=""/>
                <p:cNvSpPr/>
                <p:nvPr/>
              </p:nvSpPr>
              <p:spPr>
                <a:xfrm>
                  <a:off x="927000" y="74026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0" name=""/>
            <p:cNvSpPr/>
            <p:nvPr/>
          </p:nvSpPr>
          <p:spPr>
            <a:xfrm>
              <a:off x="2470320" y="2817720"/>
              <a:ext cx="0" cy="52484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062240" y="2843280"/>
              <a:ext cx="0" cy="45846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2" name=""/>
            <p:cNvGrpSpPr/>
            <p:nvPr/>
          </p:nvGrpSpPr>
          <p:grpSpPr>
            <a:xfrm>
              <a:off x="2281320" y="8142120"/>
              <a:ext cx="301680" cy="262080"/>
              <a:chOff x="2281320" y="8142120"/>
              <a:chExt cx="301680" cy="262080"/>
            </a:xfrm>
          </p:grpSpPr>
          <p:sp>
            <p:nvSpPr>
              <p:cNvPr id="1113" name=""/>
              <p:cNvSpPr/>
              <p:nvPr/>
            </p:nvSpPr>
            <p:spPr>
              <a:xfrm>
                <a:off x="2319480" y="8142120"/>
                <a:ext cx="225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319480" y="8142120"/>
                <a:ext cx="125280" cy="225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2444760" y="8142120"/>
                <a:ext cx="112680" cy="225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281320" y="8404200"/>
                <a:ext cx="3016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7" name=""/>
            <p:cNvSpPr/>
            <p:nvPr/>
          </p:nvSpPr>
          <p:spPr>
            <a:xfrm>
              <a:off x="2470320" y="8467560"/>
              <a:ext cx="0" cy="1000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757600" y="8291520"/>
              <a:ext cx="2582640" cy="0"/>
            </a:xfrm>
            <a:prstGeom prst="line">
              <a:avLst/>
            </a:prstGeom>
            <a:ln w="12708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-108360" bIns="-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 txBox="1"/>
            <p:nvPr/>
          </p:nvSpPr>
          <p:spPr>
            <a:xfrm>
              <a:off x="677880" y="8018640"/>
              <a:ext cx="1604880" cy="51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ts val="2100"/>
                </a:lnSpc>
                <a:tabLst>
                  <a:tab algn="l" pos="452520"/>
                  <a:tab algn="l" pos="905040"/>
                  <a:tab algn="l" pos="1357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 h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now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454040" y="4435560"/>
            <a:ext cx="3322800" cy="14526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817640" y="5899320"/>
            <a:ext cx="576360" cy="1052280"/>
            <a:chOff x="1817640" y="5899320"/>
            <a:chExt cx="576360" cy="1052280"/>
          </a:xfrm>
        </p:grpSpPr>
        <p:grpSp>
          <p:nvGrpSpPr>
            <p:cNvPr id="1123" name=""/>
            <p:cNvGrpSpPr/>
            <p:nvPr/>
          </p:nvGrpSpPr>
          <p:grpSpPr>
            <a:xfrm>
              <a:off x="1817640" y="6213600"/>
              <a:ext cx="576360" cy="425160"/>
              <a:chOff x="1817640" y="6213600"/>
              <a:chExt cx="576360" cy="425160"/>
            </a:xfrm>
          </p:grpSpPr>
          <p:sp>
            <p:nvSpPr>
              <p:cNvPr id="1124" name=""/>
              <p:cNvSpPr/>
              <p:nvPr/>
            </p:nvSpPr>
            <p:spPr>
              <a:xfrm>
                <a:off x="1881360" y="6213600"/>
                <a:ext cx="425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868400" y="6213600"/>
                <a:ext cx="23832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>
                <a:off x="2106720" y="6213600"/>
                <a:ext cx="23796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817640" y="6638760"/>
                <a:ext cx="57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2106720" y="5899320"/>
              <a:ext cx="0" cy="250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119320" y="670068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2895480" y="5867280"/>
            <a:ext cx="577800" cy="1109880"/>
            <a:chOff x="2895480" y="5867280"/>
            <a:chExt cx="577800" cy="1109880"/>
          </a:xfrm>
        </p:grpSpPr>
        <p:grpSp>
          <p:nvGrpSpPr>
            <p:cNvPr id="1131" name=""/>
            <p:cNvGrpSpPr/>
            <p:nvPr/>
          </p:nvGrpSpPr>
          <p:grpSpPr>
            <a:xfrm>
              <a:off x="2895480" y="6197760"/>
              <a:ext cx="577800" cy="449280"/>
              <a:chOff x="2895480" y="6197760"/>
              <a:chExt cx="577800" cy="449280"/>
            </a:xfrm>
          </p:grpSpPr>
          <p:sp>
            <p:nvSpPr>
              <p:cNvPr id="1132" name=""/>
              <p:cNvSpPr/>
              <p:nvPr/>
            </p:nvSpPr>
            <p:spPr>
              <a:xfrm>
                <a:off x="2959200" y="6197760"/>
                <a:ext cx="425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946240" y="6197760"/>
                <a:ext cx="238320" cy="396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3184560" y="6197760"/>
                <a:ext cx="237960" cy="396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895480" y="6647040"/>
                <a:ext cx="577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>
              <a:off x="3184560" y="5867280"/>
              <a:ext cx="0" cy="2653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97160" y="6711840"/>
              <a:ext cx="0" cy="2653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4062240" y="5899320"/>
            <a:ext cx="576360" cy="1052280"/>
            <a:chOff x="4062240" y="5899320"/>
            <a:chExt cx="576360" cy="1052280"/>
          </a:xfrm>
        </p:grpSpPr>
        <p:grpSp>
          <p:nvGrpSpPr>
            <p:cNvPr id="1139" name=""/>
            <p:cNvGrpSpPr/>
            <p:nvPr/>
          </p:nvGrpSpPr>
          <p:grpSpPr>
            <a:xfrm>
              <a:off x="4062240" y="6213600"/>
              <a:ext cx="576360" cy="425160"/>
              <a:chOff x="4062240" y="6213600"/>
              <a:chExt cx="576360" cy="425160"/>
            </a:xfrm>
          </p:grpSpPr>
          <p:sp>
            <p:nvSpPr>
              <p:cNvPr id="1140" name=""/>
              <p:cNvSpPr/>
              <p:nvPr/>
            </p:nvSpPr>
            <p:spPr>
              <a:xfrm>
                <a:off x="4124160" y="6213600"/>
                <a:ext cx="4273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111560" y="6213600"/>
                <a:ext cx="23832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>
                <a:off x="4349880" y="6213600"/>
                <a:ext cx="23976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062240" y="6638760"/>
                <a:ext cx="57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>
              <a:off x="4349880" y="5899320"/>
              <a:ext cx="0" cy="250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362480" y="670068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"/>
          <p:cNvSpPr txBox="1"/>
          <p:nvPr/>
        </p:nvSpPr>
        <p:spPr>
          <a:xfrm>
            <a:off x="1192320" y="6991200"/>
            <a:ext cx="188136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2558880" y="6991200"/>
            <a:ext cx="132876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cC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3700440" y="6991200"/>
            <a:ext cx="142884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d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4049640" y="3732120"/>
            <a:ext cx="576360" cy="426960"/>
            <a:chOff x="4049640" y="3732120"/>
            <a:chExt cx="576360" cy="426960"/>
          </a:xfrm>
        </p:grpSpPr>
        <p:sp>
          <p:nvSpPr>
            <p:cNvPr id="1150" name=""/>
            <p:cNvSpPr/>
            <p:nvPr/>
          </p:nvSpPr>
          <p:spPr>
            <a:xfrm flipH="1">
              <a:off x="4137120" y="4159080"/>
              <a:ext cx="42696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flipV="1">
              <a:off x="4338720" y="3782880"/>
              <a:ext cx="237960" cy="3762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4100400" y="3782880"/>
              <a:ext cx="238320" cy="3762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4049640" y="3732120"/>
              <a:ext cx="57636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4" name=""/>
          <p:cNvSpPr/>
          <p:nvPr/>
        </p:nvSpPr>
        <p:spPr>
          <a:xfrm flipV="1">
            <a:off x="4362480" y="4221000"/>
            <a:ext cx="0" cy="25092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4349880" y="3419640"/>
            <a:ext cx="0" cy="25056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2971800" y="3394080"/>
            <a:ext cx="576360" cy="1052640"/>
            <a:chOff x="2971800" y="3394080"/>
            <a:chExt cx="576360" cy="1052640"/>
          </a:xfrm>
        </p:grpSpPr>
        <p:grpSp>
          <p:nvGrpSpPr>
            <p:cNvPr id="1157" name=""/>
            <p:cNvGrpSpPr/>
            <p:nvPr/>
          </p:nvGrpSpPr>
          <p:grpSpPr>
            <a:xfrm>
              <a:off x="2971800" y="3708360"/>
              <a:ext cx="576360" cy="425520"/>
              <a:chOff x="2971800" y="3708360"/>
              <a:chExt cx="576360" cy="425520"/>
            </a:xfrm>
          </p:grpSpPr>
          <p:sp>
            <p:nvSpPr>
              <p:cNvPr id="1158" name=""/>
              <p:cNvSpPr/>
              <p:nvPr/>
            </p:nvSpPr>
            <p:spPr>
              <a:xfrm flipH="1">
                <a:off x="3059280" y="4133880"/>
                <a:ext cx="4269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 flipV="1">
                <a:off x="3259080" y="3757680"/>
                <a:ext cx="23832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V="1">
                <a:off x="3021120" y="3757680"/>
                <a:ext cx="23796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2971800" y="3708360"/>
                <a:ext cx="57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 flipV="1">
              <a:off x="3284640" y="419580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3271680" y="339408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1805040" y="3419640"/>
            <a:ext cx="577800" cy="1052280"/>
            <a:chOff x="1805040" y="3419640"/>
            <a:chExt cx="577800" cy="1052280"/>
          </a:xfrm>
        </p:grpSpPr>
        <p:grpSp>
          <p:nvGrpSpPr>
            <p:cNvPr id="1165" name=""/>
            <p:cNvGrpSpPr/>
            <p:nvPr/>
          </p:nvGrpSpPr>
          <p:grpSpPr>
            <a:xfrm>
              <a:off x="1805040" y="3732120"/>
              <a:ext cx="577800" cy="426960"/>
              <a:chOff x="1805040" y="3732120"/>
              <a:chExt cx="577800" cy="426960"/>
            </a:xfrm>
          </p:grpSpPr>
          <p:sp>
            <p:nvSpPr>
              <p:cNvPr id="1166" name=""/>
              <p:cNvSpPr/>
              <p:nvPr/>
            </p:nvSpPr>
            <p:spPr>
              <a:xfrm flipH="1">
                <a:off x="1893960" y="4159080"/>
                <a:ext cx="425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 flipV="1">
                <a:off x="2093760" y="3782880"/>
                <a:ext cx="23832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1855800" y="3782880"/>
                <a:ext cx="23796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1805040" y="3732120"/>
                <a:ext cx="577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0" name=""/>
            <p:cNvSpPr/>
            <p:nvPr/>
          </p:nvSpPr>
          <p:spPr>
            <a:xfrm flipV="1">
              <a:off x="2119320" y="422100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2106720" y="3419640"/>
              <a:ext cx="0" cy="250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"/>
          <p:cNvSpPr txBox="1"/>
          <p:nvPr/>
        </p:nvSpPr>
        <p:spPr>
          <a:xfrm>
            <a:off x="3549600" y="2606760"/>
            <a:ext cx="159228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2333520" y="2870280"/>
            <a:ext cx="183024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1292400" y="2870280"/>
            <a:ext cx="156852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4800600" y="4772160"/>
            <a:ext cx="252360" cy="676080"/>
            <a:chOff x="4800600" y="4772160"/>
            <a:chExt cx="252360" cy="676080"/>
          </a:xfrm>
        </p:grpSpPr>
        <p:sp>
          <p:nvSpPr>
            <p:cNvPr id="1176" name=""/>
            <p:cNvSpPr/>
            <p:nvPr/>
          </p:nvSpPr>
          <p:spPr>
            <a:xfrm flipH="1">
              <a:off x="4800600" y="4772160"/>
              <a:ext cx="252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4800600" y="4884840"/>
              <a:ext cx="252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4800600" y="4997520"/>
              <a:ext cx="252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4800600" y="5110200"/>
              <a:ext cx="252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4800600" y="5222880"/>
              <a:ext cx="252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4800600" y="5335560"/>
              <a:ext cx="252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4800600" y="5448240"/>
              <a:ext cx="252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3" name=""/>
          <p:cNvSpPr txBox="1"/>
          <p:nvPr/>
        </p:nvSpPr>
        <p:spPr>
          <a:xfrm>
            <a:off x="4743360" y="4486320"/>
            <a:ext cx="16574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1828800" y="4694400"/>
            <a:ext cx="1222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200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T&amp;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3186000" y="4694400"/>
            <a:ext cx="1405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0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Lu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124080" y="4495680"/>
            <a:ext cx="0" cy="1295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Firewalls -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heap - part of the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Hard to get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an’t get f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Often part of a more-complete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Firewalls -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plication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a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More work to 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equires modified clients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roxy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Firewalls -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rcuit gate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CP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uperior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ome performanc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Modified clients, us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Like </a:t>
            </a:r>
            <a:r>
              <a:rPr b="1" i="1" lang="en-US" sz="3200" spc="-1" strike="noStrike">
                <a:solidFill>
                  <a:srgbClr val="0000ff"/>
                </a:solidFill>
                <a:latin typeface="Courier New"/>
                <a:ea typeface="Courier New"/>
              </a:rPr>
              <a:t>s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ynamic (``Smart’’) 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witches tcp circuits at the packe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High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pplication-like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onfiguration can be tri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My pick for best firewal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ewall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 firewall is often the only secure piece of an Internet arran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Backdoors usually diminish the effectiveness of a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ommercial firewalls are probably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Internet security is more than installing a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net Security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We have an infinite number of monkey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o new Shakespeare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 variety of Bad Guy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ttacks are usually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ompletely anony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here is little personal risk to the hack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 Bad Guys know almost all the tricks, and shar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35160" y="1940040"/>
            <a:ext cx="556560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re Ba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Most people don’t know they have been h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You’re only as strong as your weakest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8000"/>
                </a:solidFill>
                <a:latin typeface="Arial"/>
                <a:ea typeface="Arial"/>
              </a:rPr>
              <a:t>Good security is hard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 common Internet tools are in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 Internet infrastructure is not tru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enial-of-service is alway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Most Unix systems can be subverted by their own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 vendors don’t show much sign of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ITAR is blocking our best tool - 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Wholesale crime is easier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 Internet is now a very important piece of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High-grade encryption is available to anyone who want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g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innish crypto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Goo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Hackers have security problems,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hat if you stumble over an early hop in their connection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You only have to catch them once…or tw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ome are caught via bra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You control your own machines, at least at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re goo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ome tools exist to improv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rypto can help a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urity 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se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sk what an attack would look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ut alarms in for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ecide what to do if you are attacked,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 txBox="1"/>
          <p:nvPr/>
        </p:nvSpPr>
        <p:spPr>
          <a:xfrm>
            <a:off x="533520" y="3048120"/>
            <a:ext cx="57913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o are these hack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" descr=""/>
          <p:cNvPicPr/>
          <p:nvPr/>
        </p:nvPicPr>
        <p:blipFill>
          <a:blip r:embed="rId1"/>
          <a:stretch/>
        </p:blipFill>
        <p:spPr>
          <a:xfrm>
            <a:off x="1779480" y="3579840"/>
            <a:ext cx="32893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o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K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Foreign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ontract h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Ins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533520" y="3048120"/>
            <a:ext cx="57913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tools do we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65400" y="1371600"/>
            <a:ext cx="5160960" cy="7256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394000" y="351000"/>
            <a:ext cx="2690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Bay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mercial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857160" y="2209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One-time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Encrypting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Encrypted tu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IP V6 and IP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raps, alarms, honey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Network mon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Fire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ttention to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 txBox="1"/>
          <p:nvPr/>
        </p:nvSpPr>
        <p:spPr>
          <a:xfrm>
            <a:off x="514440" y="30492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mercial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914400" y="3860640"/>
            <a:ext cx="5257800" cy="26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``What are you talking about?  Those guys aren’t allowed to have munitions!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- Tom D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857160" y="2438280"/>
            <a:ext cx="2857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ni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assword Cra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ttack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orms (strategic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oot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ijac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NS spoof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3828960" y="2438280"/>
            <a:ext cx="2857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ill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race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yp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Exportable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(RC4-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Moderate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(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uper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(triple 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erhaps they’ll let us use stronger cryptography for key distribution, even if the key is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857160" y="2438280"/>
            <a:ext cx="2857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GP and P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Kerb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/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3828960" y="2438280"/>
            <a:ext cx="2857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login re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etscape commerc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ncrypting tunnels in firewalls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re De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857160" y="2438280"/>
            <a:ext cx="2857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ncrypted tel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SL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.. lots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SL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f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828960" y="2438280"/>
            <a:ext cx="2857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ncrypted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umerous cryp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P/SEC and, later, IP 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Bell 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telnet - Bellovin and Bl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get/cput - Ranum and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mall, suspicious file transf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tage -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irror directories to a machine in a hostil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yptographic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http://www.cs.hut.fi/crypto/software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cking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Network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race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Network swe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A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cep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Bug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Guest/visitor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FTP passwd file with c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login/rsh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ortmopper [sic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...make up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42880" y="2286000"/>
            <a:ext cx="4998960" cy="6019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346480" y="579600"/>
            <a:ext cx="2871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isco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neyp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Like a camera inside the v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heap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My home page: http://cm.bell-labs.com/who/ch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Email: ches@bell-lab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Firewalls and Internet Security: Repelling the Wily H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swick and Bell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SBN 0-201-63357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ddison Wesley,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lso in German, Japanese, and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al of Servic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-763560" y="2843280"/>
            <a:ext cx="8410680" cy="33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ll the packets are encryp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ll the users are strongly authentic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ll the protocols are flaw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ll the servers are bug-f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ill still have denial of service att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rack and 2600 publish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’s abou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left this attack out of our book, because we didn’t see a complete solution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mitigation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We Deal with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 arms race i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ge capacity can tak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-purchase net, kernel, and CPU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tter software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entirely satisfactory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the Last Security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the C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857160" y="2438280"/>
            <a:ext cx="5829480" cy="56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new:  the cops are probably more clueless than the 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cops can get the ISP’s attention, though I know of no legal compulsion they ca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od news:  it is easy to show economic damage, which is a trigger for thei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d news:  economic damage is easy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l a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mage is obvious, and pretty easy to put a price ta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st gets the attention of law enforce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company law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857160" y="24382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CP/IP code is hard to test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CP layer has other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require highly-clueful att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don’t plan to help them beyond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S-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ual targets are likely, though popular services have hard-to-kill capa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6120" y="2286000"/>
            <a:ext cx="4905360" cy="5931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703520" y="655560"/>
            <a:ext cx="36180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abletr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71680" y="279360"/>
            <a:ext cx="5829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58960" y="2637000"/>
            <a:ext cx="497988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90520" y="2392200"/>
            <a:ext cx="55911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Securities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Babson-United Bld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101 Prescott 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Wellesley Hills, 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02181-7528     U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048120"/>
            <a:ext cx="57913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’s all the fuss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out Internet secur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/>
  <dc:language>en-US</dc:language>
  <cp:lastModifiedBy>Bill Cheswick</cp:lastModifiedBy>
  <cp:revision>0</cp:revision>
  <dc:subject/>
  <dc:title>Internet Questions and Answers</dc:title>
</cp:coreProperties>
</file>