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739C1-3908-4239-A456-01B5CF51C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ike gold, or a picnic bas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problems,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ts val="2801"/>
              </a:lnSpc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HA costs $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challenge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s with a DES key in the HHA and on r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give dk for redial or tcp! for r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w over the internet - eavesdropp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2801"/>
              </a:lnSpc>
              <a:spcBef>
                <a:spcPts val="601"/>
              </a:spcBef>
              <a:buClr>
                <a:srgbClr val="0041ff"/>
              </a:buClr>
              <a:buFont typeface="Helvetica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s are stored on a security server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right, m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ight to think of cryptography as a mu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highway is a vital infrastructure now, and the tools you use daily can be attacked, and def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Web for ‘rootkit’ to find the netdungeons and seedy by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exportable is worth it:  real-time attacks defeated, if it takes a weekend for exhaustive search of the ke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two use secret keys and D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tage to update our external ftp directory. Could update a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joint ventures problem - smb and I will collaborate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linquishes permissions, after chro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publicly available - both companies say release will be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000" y="1211400"/>
            <a:ext cx="680724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Firewalls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astles 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1994040" y="624852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801720" y="438120"/>
            <a:ext cx="5241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edicated sim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: castle-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731960" y="3044880"/>
            <a:ext cx="2782800" cy="2104920"/>
            <a:chOff x="1731960" y="3044880"/>
            <a:chExt cx="2782800" cy="2104920"/>
          </a:xfrm>
        </p:grpSpPr>
        <p:sp>
          <p:nvSpPr>
            <p:cNvPr id="1170" name=""/>
            <p:cNvSpPr/>
            <p:nvPr/>
          </p:nvSpPr>
          <p:spPr>
            <a:xfrm>
              <a:off x="1731960" y="3044880"/>
              <a:ext cx="2782800" cy="210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2359080" y="3746520"/>
              <a:ext cx="16286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77960" y="438120"/>
            <a:ext cx="530208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 with network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176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1911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4197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4648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39625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6576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32004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718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266688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362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394000" y="1090440"/>
            <a:ext cx="20574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98600" y="2630520"/>
            <a:ext cx="511488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uns on Ethernet/ATM/F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with every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can def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in a nice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og da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19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"/>
          <p:cNvSpPr/>
          <p:nvPr/>
        </p:nvSpPr>
        <p:spPr>
          <a:xfrm flipH="1" flipV="1">
            <a:off x="1066680" y="5638680"/>
            <a:ext cx="129564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1676520" y="5638680"/>
            <a:ext cx="121896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2286000" y="5638680"/>
            <a:ext cx="129528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2971800" y="5638680"/>
            <a:ext cx="121932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1554120" y="1090440"/>
            <a:ext cx="3736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01680" y="263520"/>
            <a:ext cx="7846920" cy="83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      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root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root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  stream tcp   nowait root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    stream tcp nowait root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/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eb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a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650880" y="240192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get/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, stel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24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09680" y="51814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1779480" y="1090440"/>
            <a:ext cx="32986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498600" y="2630520"/>
            <a:ext cx="590220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choose a good p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95360" y="3855960"/>
            <a:ext cx="5842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NS or rou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3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 flipV="1">
            <a:off x="3429000" y="37339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3429000" y="5791320"/>
            <a:ext cx="1905120" cy="609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4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H="1" flipV="1">
            <a:off x="1523880" y="4419720"/>
            <a:ext cx="2057400" cy="2743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 hij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257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1523880" y="4419720"/>
            <a:ext cx="1905120" cy="1371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Web Serv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825480" y="251460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1349280" y="277020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25480" y="55627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461960" y="5818320"/>
            <a:ext cx="137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209680" y="3733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59092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01800" y="723888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003320" y="7494480"/>
            <a:ext cx="244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209680" y="67816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160880" y="7116840"/>
            <a:ext cx="2498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7696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300560" y="5592600"/>
            <a:ext cx="176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3657600" y="624852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677880" y="4273560"/>
            <a:ext cx="5505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1717560" y="334800"/>
            <a:ext cx="3119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always a question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usually inconvenient and isn’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fense in dep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good - 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t be designed in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al security truisms are still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27200" y="1090440"/>
            <a:ext cx="540396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 Firewall Shie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-bas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77880" y="2330280"/>
            <a:ext cx="4889520" cy="6237360"/>
            <a:chOff x="677880" y="2330280"/>
            <a:chExt cx="4889520" cy="6237360"/>
          </a:xfrm>
        </p:grpSpPr>
        <p:grpSp>
          <p:nvGrpSpPr>
            <p:cNvPr id="1291" name=""/>
            <p:cNvGrpSpPr/>
            <p:nvPr/>
          </p:nvGrpSpPr>
          <p:grpSpPr>
            <a:xfrm>
              <a:off x="4087800" y="2330280"/>
              <a:ext cx="1479600" cy="5561280"/>
              <a:chOff x="4087800" y="2330280"/>
              <a:chExt cx="1479600" cy="5561280"/>
            </a:xfrm>
          </p:grpSpPr>
          <p:grpSp>
            <p:nvGrpSpPr>
              <p:cNvPr id="1292" name=""/>
              <p:cNvGrpSpPr/>
              <p:nvPr/>
            </p:nvGrpSpPr>
            <p:grpSpPr>
              <a:xfrm>
                <a:off x="4087800" y="5773680"/>
                <a:ext cx="1479600" cy="978120"/>
                <a:chOff x="4087800" y="5773680"/>
                <a:chExt cx="1479600" cy="97812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4487760" y="5773680"/>
                  <a:ext cx="301680" cy="463680"/>
                  <a:chOff x="4487760" y="5773680"/>
                  <a:chExt cx="301680" cy="46368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4487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45640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V="1">
                    <a:off x="4513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>
                    <a:off x="45514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V="1">
                    <a:off x="4600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V="1">
                    <a:off x="4638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4111560" y="5773680"/>
                  <a:ext cx="289080" cy="463680"/>
                  <a:chOff x="4111560" y="5773680"/>
                  <a:chExt cx="289080" cy="46368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4111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41878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V="1">
                    <a:off x="4137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V="1">
                    <a:off x="41752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V="1">
                    <a:off x="4224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V="1">
                    <a:off x="4262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4863960" y="5773680"/>
                  <a:ext cx="301680" cy="463680"/>
                  <a:chOff x="4863960" y="5773680"/>
                  <a:chExt cx="301680" cy="46368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>
                    <a:off x="4863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4940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V="1">
                    <a:off x="490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49276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V="1">
                    <a:off x="4976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50277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5214960" y="5773680"/>
                  <a:ext cx="301680" cy="463680"/>
                  <a:chOff x="5214960" y="5773680"/>
                  <a:chExt cx="301680" cy="46368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521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291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V="1">
                    <a:off x="5240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V="1">
                    <a:off x="527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V="1">
                    <a:off x="532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V="1">
                    <a:off x="5365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4111560" y="6275520"/>
                  <a:ext cx="289080" cy="476280"/>
                  <a:chOff x="4111560" y="6275520"/>
                  <a:chExt cx="289080" cy="47628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111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1878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137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1752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224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262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4487760" y="6275520"/>
                  <a:ext cx="301680" cy="476280"/>
                  <a:chOff x="4487760" y="6275520"/>
                  <a:chExt cx="301680" cy="476280"/>
                </a:xfrm>
              </p:grpSpPr>
              <p:sp>
                <p:nvSpPr>
                  <p:cNvPr id="1329" name=""/>
                  <p:cNvSpPr/>
                  <p:nvPr/>
                </p:nvSpPr>
                <p:spPr>
                  <a:xfrm>
                    <a:off x="4487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5640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513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5514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600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638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4863960" y="6275520"/>
                  <a:ext cx="301680" cy="476280"/>
                  <a:chOff x="4863960" y="6275520"/>
                  <a:chExt cx="301680" cy="47628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4863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940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90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9276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976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02776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214960" y="6275520"/>
                  <a:ext cx="301680" cy="476280"/>
                  <a:chOff x="5214960" y="6275520"/>
                  <a:chExt cx="301680" cy="47628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21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291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5240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527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32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5365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40878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4087800" y="2330280"/>
                <a:ext cx="1479600" cy="976320"/>
                <a:chOff x="4087800" y="2330280"/>
                <a:chExt cx="1479600" cy="976320"/>
              </a:xfrm>
            </p:grpSpPr>
            <p:grpSp>
              <p:nvGrpSpPr>
                <p:cNvPr id="1351" name=""/>
                <p:cNvGrpSpPr/>
                <p:nvPr/>
              </p:nvGrpSpPr>
              <p:grpSpPr>
                <a:xfrm>
                  <a:off x="4487760" y="2330280"/>
                  <a:ext cx="301680" cy="474840"/>
                  <a:chOff x="4487760" y="2330280"/>
                  <a:chExt cx="301680" cy="47484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4487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45640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V="1">
                    <a:off x="4513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V="1">
                    <a:off x="45514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flipV="1">
                    <a:off x="4600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4638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4111560" y="2330280"/>
                  <a:ext cx="289080" cy="474840"/>
                  <a:chOff x="4111560" y="2330280"/>
                  <a:chExt cx="289080" cy="47484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>
                    <a:off x="4111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878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V="1">
                    <a:off x="4137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V="1">
                    <a:off x="41752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V="1">
                    <a:off x="4224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V="1">
                    <a:off x="4262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4863960" y="2330280"/>
                  <a:ext cx="301680" cy="474840"/>
                  <a:chOff x="4863960" y="2330280"/>
                  <a:chExt cx="301680" cy="47484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>
                    <a:off x="4863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4940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V="1">
                    <a:off x="490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49276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V="1">
                    <a:off x="4976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V="1">
                    <a:off x="50277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214960" y="2330280"/>
                  <a:ext cx="301680" cy="474840"/>
                  <a:chOff x="5214960" y="2330280"/>
                  <a:chExt cx="301680" cy="47484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21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291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flipV="1">
                    <a:off x="5240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flipV="1">
                    <a:off x="527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 flipV="1">
                    <a:off x="532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V="1">
                    <a:off x="5365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4111560" y="2843280"/>
                  <a:ext cx="289080" cy="463320"/>
                  <a:chOff x="4111560" y="2843280"/>
                  <a:chExt cx="289080" cy="46332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>
                    <a:off x="4111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41878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4137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41752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224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262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6" name=""/>
                <p:cNvGrpSpPr/>
                <p:nvPr/>
              </p:nvGrpSpPr>
              <p:grpSpPr>
                <a:xfrm>
                  <a:off x="4487760" y="2843280"/>
                  <a:ext cx="301680" cy="463320"/>
                  <a:chOff x="4487760" y="2843280"/>
                  <a:chExt cx="301680" cy="463320"/>
                </a:xfrm>
              </p:grpSpPr>
              <p:sp>
                <p:nvSpPr>
                  <p:cNvPr id="1387" name=""/>
                  <p:cNvSpPr/>
                  <p:nvPr/>
                </p:nvSpPr>
                <p:spPr>
                  <a:xfrm>
                    <a:off x="4487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5640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513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5514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600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638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4863960" y="2843280"/>
                  <a:ext cx="301680" cy="463320"/>
                  <a:chOff x="4863960" y="2843280"/>
                  <a:chExt cx="301680" cy="46332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4863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4940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490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276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976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502776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0" name=""/>
                <p:cNvGrpSpPr/>
                <p:nvPr/>
              </p:nvGrpSpPr>
              <p:grpSpPr>
                <a:xfrm>
                  <a:off x="5214960" y="2843280"/>
                  <a:ext cx="301680" cy="463320"/>
                  <a:chOff x="5214960" y="2843280"/>
                  <a:chExt cx="301680" cy="463320"/>
                </a:xfrm>
              </p:grpSpPr>
              <p:sp>
                <p:nvSpPr>
                  <p:cNvPr id="1401" name=""/>
                  <p:cNvSpPr/>
                  <p:nvPr/>
                </p:nvSpPr>
                <p:spPr>
                  <a:xfrm>
                    <a:off x="521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5291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5240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527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532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365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7" name=""/>
                <p:cNvSpPr/>
                <p:nvPr/>
              </p:nvSpPr>
              <p:spPr>
                <a:xfrm>
                  <a:off x="40878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087800" y="3483000"/>
                <a:ext cx="1479600" cy="976320"/>
                <a:chOff x="4087800" y="3483000"/>
                <a:chExt cx="1479600" cy="976320"/>
              </a:xfrm>
            </p:grpSpPr>
            <p:grpSp>
              <p:nvGrpSpPr>
                <p:cNvPr id="1409" name=""/>
                <p:cNvGrpSpPr/>
                <p:nvPr/>
              </p:nvGrpSpPr>
              <p:grpSpPr>
                <a:xfrm>
                  <a:off x="4487760" y="3483000"/>
                  <a:ext cx="301680" cy="461880"/>
                  <a:chOff x="4487760" y="3483000"/>
                  <a:chExt cx="301680" cy="46188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4487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45640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 flipV="1">
                    <a:off x="4513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 flipV="1">
                    <a:off x="45514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 flipV="1">
                    <a:off x="4600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V="1">
                    <a:off x="4638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4111560" y="3483000"/>
                  <a:ext cx="289080" cy="461880"/>
                  <a:chOff x="4111560" y="3483000"/>
                  <a:chExt cx="289080" cy="46188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>
                    <a:off x="4111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1878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V="1">
                    <a:off x="4137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V="1">
                    <a:off x="41752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V="1">
                    <a:off x="4224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 flipV="1">
                    <a:off x="4262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4863960" y="3483000"/>
                  <a:ext cx="301680" cy="461880"/>
                  <a:chOff x="4863960" y="3483000"/>
                  <a:chExt cx="301680" cy="4618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4863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940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flipV="1">
                    <a:off x="490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 flipV="1">
                    <a:off x="49276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 flipV="1">
                    <a:off x="4976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50277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214960" y="3483000"/>
                  <a:ext cx="301680" cy="461880"/>
                  <a:chOff x="5214960" y="3483000"/>
                  <a:chExt cx="301680" cy="46188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21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5291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 flipV="1">
                    <a:off x="5240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V="1">
                    <a:off x="527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532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V="1">
                    <a:off x="5365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" name=""/>
                <p:cNvGrpSpPr/>
                <p:nvPr/>
              </p:nvGrpSpPr>
              <p:grpSpPr>
                <a:xfrm>
                  <a:off x="4111560" y="3983040"/>
                  <a:ext cx="289080" cy="476280"/>
                  <a:chOff x="4111560" y="3983040"/>
                  <a:chExt cx="289080" cy="476280"/>
                </a:xfrm>
              </p:grpSpPr>
              <p:sp>
                <p:nvSpPr>
                  <p:cNvPr id="1438" name=""/>
                  <p:cNvSpPr/>
                  <p:nvPr/>
                </p:nvSpPr>
                <p:spPr>
                  <a:xfrm>
                    <a:off x="4111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1878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137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1752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224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62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4487760" y="3983040"/>
                  <a:ext cx="301680" cy="476280"/>
                  <a:chOff x="4487760" y="3983040"/>
                  <a:chExt cx="301680" cy="47628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4487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5640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513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5514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600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638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"/>
                <p:cNvGrpSpPr/>
                <p:nvPr/>
              </p:nvGrpSpPr>
              <p:grpSpPr>
                <a:xfrm>
                  <a:off x="4863960" y="3983040"/>
                  <a:ext cx="301680" cy="476280"/>
                  <a:chOff x="4863960" y="3983040"/>
                  <a:chExt cx="301680" cy="476280"/>
                </a:xfrm>
              </p:grpSpPr>
              <p:sp>
                <p:nvSpPr>
                  <p:cNvPr id="1452" name=""/>
                  <p:cNvSpPr/>
                  <p:nvPr/>
                </p:nvSpPr>
                <p:spPr>
                  <a:xfrm>
                    <a:off x="4863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940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490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49276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4976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502776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5214960" y="3983040"/>
                  <a:ext cx="301680" cy="476280"/>
                  <a:chOff x="5214960" y="3983040"/>
                  <a:chExt cx="301680" cy="47628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521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5291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5240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527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532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5365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5" name=""/>
                <p:cNvSpPr/>
                <p:nvPr/>
              </p:nvSpPr>
              <p:spPr>
                <a:xfrm>
                  <a:off x="40878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4087800" y="4622760"/>
                <a:ext cx="1479600" cy="976320"/>
                <a:chOff x="4087800" y="4622760"/>
                <a:chExt cx="1479600" cy="976320"/>
              </a:xfrm>
            </p:grpSpPr>
            <p:grpSp>
              <p:nvGrpSpPr>
                <p:cNvPr id="1467" name=""/>
                <p:cNvGrpSpPr/>
                <p:nvPr/>
              </p:nvGrpSpPr>
              <p:grpSpPr>
                <a:xfrm>
                  <a:off x="4487760" y="4622760"/>
                  <a:ext cx="301680" cy="474840"/>
                  <a:chOff x="4487760" y="4622760"/>
                  <a:chExt cx="301680" cy="47484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>
                    <a:off x="4487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45640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4513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V="1">
                    <a:off x="45514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4600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4638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4111560" y="4622760"/>
                  <a:ext cx="289080" cy="474840"/>
                  <a:chOff x="4111560" y="4622760"/>
                  <a:chExt cx="289080" cy="4748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4111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41878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4137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V="1">
                    <a:off x="41752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V="1">
                    <a:off x="4224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 flipV="1">
                    <a:off x="4262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"/>
                <p:cNvGrpSpPr/>
                <p:nvPr/>
              </p:nvGrpSpPr>
              <p:grpSpPr>
                <a:xfrm>
                  <a:off x="4863960" y="4622760"/>
                  <a:ext cx="301680" cy="474840"/>
                  <a:chOff x="4863960" y="4622760"/>
                  <a:chExt cx="301680" cy="47484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4863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940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V="1">
                    <a:off x="490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V="1">
                    <a:off x="49276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flipV="1">
                    <a:off x="4976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V="1">
                    <a:off x="50277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5214960" y="4622760"/>
                  <a:ext cx="301680" cy="474840"/>
                  <a:chOff x="5214960" y="4622760"/>
                  <a:chExt cx="301680" cy="47484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>
                    <a:off x="521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291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5240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V="1">
                    <a:off x="527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V="1">
                    <a:off x="532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V="1">
                    <a:off x="5365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4111560" y="5135400"/>
                  <a:ext cx="289080" cy="463680"/>
                  <a:chOff x="4111560" y="5135400"/>
                  <a:chExt cx="289080" cy="46368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>
                    <a:off x="4111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41878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137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1752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224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4262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4487760" y="5135400"/>
                  <a:ext cx="301680" cy="463680"/>
                  <a:chOff x="4487760" y="5135400"/>
                  <a:chExt cx="301680" cy="46368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487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5640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513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5514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4600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638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4863960" y="5135400"/>
                  <a:ext cx="301680" cy="463680"/>
                  <a:chOff x="4863960" y="5135400"/>
                  <a:chExt cx="301680" cy="46368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>
                    <a:off x="4863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940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490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49276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4976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502776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5214960" y="5135400"/>
                  <a:ext cx="301680" cy="463680"/>
                  <a:chOff x="5214960" y="5135400"/>
                  <a:chExt cx="301680" cy="46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521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5291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5240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527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532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5365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40878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4087800" y="6915240"/>
                <a:ext cx="1479600" cy="976320"/>
                <a:chOff x="4087800" y="6915240"/>
                <a:chExt cx="1479600" cy="976320"/>
              </a:xfrm>
            </p:grpSpPr>
            <p:grpSp>
              <p:nvGrpSpPr>
                <p:cNvPr id="1525" name=""/>
                <p:cNvGrpSpPr/>
                <p:nvPr/>
              </p:nvGrpSpPr>
              <p:grpSpPr>
                <a:xfrm>
                  <a:off x="4487760" y="6915240"/>
                  <a:ext cx="301680" cy="474480"/>
                  <a:chOff x="4487760" y="6915240"/>
                  <a:chExt cx="301680" cy="4744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4487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45640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V="1">
                    <a:off x="4513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V="1">
                    <a:off x="45514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V="1">
                    <a:off x="4600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V="1">
                    <a:off x="4638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2" name=""/>
                <p:cNvGrpSpPr/>
                <p:nvPr/>
              </p:nvGrpSpPr>
              <p:grpSpPr>
                <a:xfrm>
                  <a:off x="4111560" y="6915240"/>
                  <a:ext cx="289080" cy="474480"/>
                  <a:chOff x="4111560" y="6915240"/>
                  <a:chExt cx="289080" cy="47448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>
                    <a:off x="4111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41878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V="1">
                    <a:off x="4137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flipV="1">
                    <a:off x="41752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V="1">
                    <a:off x="4224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V="1">
                    <a:off x="4262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9" name=""/>
                <p:cNvGrpSpPr/>
                <p:nvPr/>
              </p:nvGrpSpPr>
              <p:grpSpPr>
                <a:xfrm>
                  <a:off x="4863960" y="6915240"/>
                  <a:ext cx="301680" cy="474480"/>
                  <a:chOff x="4863960" y="6915240"/>
                  <a:chExt cx="301680" cy="47448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4863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4940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V="1">
                    <a:off x="490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flipV="1">
                    <a:off x="49276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V="1">
                    <a:off x="4976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V="1">
                    <a:off x="50277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5214960" y="6915240"/>
                  <a:ext cx="301680" cy="474480"/>
                  <a:chOff x="5214960" y="6915240"/>
                  <a:chExt cx="301680" cy="47448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521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5291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V="1">
                    <a:off x="5240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V="1">
                    <a:off x="527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V="1">
                    <a:off x="532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V="1">
                    <a:off x="5365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4111560" y="7427880"/>
                  <a:ext cx="289080" cy="463680"/>
                  <a:chOff x="4111560" y="7427880"/>
                  <a:chExt cx="289080" cy="46368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>
                    <a:off x="4111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41878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4137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41752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4224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4262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4487760" y="7427880"/>
                  <a:ext cx="301680" cy="463680"/>
                  <a:chOff x="4487760" y="7427880"/>
                  <a:chExt cx="301680" cy="46368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4487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45640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4513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5514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600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4638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4863960" y="7427880"/>
                  <a:ext cx="301680" cy="463680"/>
                  <a:chOff x="4863960" y="7427880"/>
                  <a:chExt cx="301680" cy="46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4863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4940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90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9276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976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502776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5214960" y="7427880"/>
                  <a:ext cx="301680" cy="463680"/>
                  <a:chOff x="5214960" y="7427880"/>
                  <a:chExt cx="301680" cy="46368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521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5291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5240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527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532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5365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40878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2" name=""/>
            <p:cNvGrpSpPr/>
            <p:nvPr/>
          </p:nvGrpSpPr>
          <p:grpSpPr>
            <a:xfrm>
              <a:off x="2508120" y="2330280"/>
              <a:ext cx="1478160" cy="5561280"/>
              <a:chOff x="2508120" y="2330280"/>
              <a:chExt cx="1478160" cy="556128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2508120" y="5773680"/>
                <a:ext cx="1478160" cy="978120"/>
                <a:chOff x="2508120" y="5773680"/>
                <a:chExt cx="1478160" cy="97812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2908440" y="5773680"/>
                  <a:ext cx="301680" cy="463680"/>
                  <a:chOff x="2908440" y="5773680"/>
                  <a:chExt cx="301680" cy="46368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29084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29844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 flipV="1">
                    <a:off x="29336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 flipV="1">
                    <a:off x="2971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>
                    <a:off x="3021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>
                    <a:off x="30592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1" name=""/>
                <p:cNvGrpSpPr/>
                <p:nvPr/>
              </p:nvGrpSpPr>
              <p:grpSpPr>
                <a:xfrm>
                  <a:off x="2532240" y="5773680"/>
                  <a:ext cx="289080" cy="463680"/>
                  <a:chOff x="2532240" y="5773680"/>
                  <a:chExt cx="289080" cy="46368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253224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26082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V="1">
                    <a:off x="25574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V="1">
                    <a:off x="25956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>
                    <a:off x="26449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V="1">
                    <a:off x="26827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3284640" y="5773680"/>
                  <a:ext cx="301680" cy="463680"/>
                  <a:chOff x="3284640" y="5773680"/>
                  <a:chExt cx="301680" cy="46368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32846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36060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V="1">
                    <a:off x="3322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V="1">
                    <a:off x="3348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V="1">
                    <a:off x="33973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>
                    <a:off x="34480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3635280" y="5773680"/>
                  <a:ext cx="301680" cy="463680"/>
                  <a:chOff x="3635280" y="5773680"/>
                  <a:chExt cx="301680" cy="4636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363528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7116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V="1">
                    <a:off x="36608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V="1">
                    <a:off x="3699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V="1">
                    <a:off x="37479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>
                    <a:off x="3786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2532240" y="6275520"/>
                  <a:ext cx="289080" cy="476280"/>
                  <a:chOff x="2532240" y="6275520"/>
                  <a:chExt cx="289080" cy="4762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253224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26082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25574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25956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26449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26827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2908440" y="6275520"/>
                  <a:ext cx="301680" cy="476280"/>
                  <a:chOff x="2908440" y="6275520"/>
                  <a:chExt cx="301680" cy="47628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29084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29844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29336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2971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30211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30592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"/>
                <p:cNvGrpSpPr/>
                <p:nvPr/>
              </p:nvGrpSpPr>
              <p:grpSpPr>
                <a:xfrm>
                  <a:off x="3284640" y="6275520"/>
                  <a:ext cx="301680" cy="476280"/>
                  <a:chOff x="3284640" y="6275520"/>
                  <a:chExt cx="301680" cy="47628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>
                    <a:off x="32846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336060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322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3348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33973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4480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635280" y="6275520"/>
                  <a:ext cx="301680" cy="476280"/>
                  <a:chOff x="3635280" y="6275520"/>
                  <a:chExt cx="301680" cy="47628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63528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7116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36608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699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74796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37861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0" name=""/>
                <p:cNvSpPr/>
                <p:nvPr/>
              </p:nvSpPr>
              <p:spPr>
                <a:xfrm>
                  <a:off x="2508120" y="624996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2508120" y="2330280"/>
                <a:ext cx="1478160" cy="976320"/>
                <a:chOff x="2508120" y="2330280"/>
                <a:chExt cx="1478160" cy="9763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2908440" y="2330280"/>
                  <a:ext cx="301680" cy="474840"/>
                  <a:chOff x="2908440" y="2330280"/>
                  <a:chExt cx="301680" cy="4748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29084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29844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V="1">
                    <a:off x="29336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V="1">
                    <a:off x="2971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V="1">
                    <a:off x="3021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 flipV="1">
                    <a:off x="30592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"/>
                <p:cNvGrpSpPr/>
                <p:nvPr/>
              </p:nvGrpSpPr>
              <p:grpSpPr>
                <a:xfrm>
                  <a:off x="2532240" y="2330280"/>
                  <a:ext cx="289080" cy="474840"/>
                  <a:chOff x="2532240" y="2330280"/>
                  <a:chExt cx="289080" cy="47484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253224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26082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V="1">
                    <a:off x="25574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flipV="1">
                    <a:off x="25956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V="1">
                    <a:off x="26449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V="1">
                    <a:off x="26827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3284640" y="2330280"/>
                  <a:ext cx="301680" cy="474840"/>
                  <a:chOff x="3284640" y="2330280"/>
                  <a:chExt cx="301680" cy="47484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>
                    <a:off x="32846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336060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 flipV="1">
                    <a:off x="3322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 flipV="1">
                    <a:off x="3348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V="1">
                    <a:off x="33973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V="1">
                    <a:off x="34480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635280" y="2330280"/>
                  <a:ext cx="301680" cy="474840"/>
                  <a:chOff x="3635280" y="2330280"/>
                  <a:chExt cx="301680" cy="47484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63528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7116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V="1">
                    <a:off x="36608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3699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V="1">
                    <a:off x="37479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3786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0" name=""/>
                <p:cNvGrpSpPr/>
                <p:nvPr/>
              </p:nvGrpSpPr>
              <p:grpSpPr>
                <a:xfrm>
                  <a:off x="2532240" y="2843280"/>
                  <a:ext cx="289080" cy="463320"/>
                  <a:chOff x="2532240" y="2843280"/>
                  <a:chExt cx="289080" cy="4633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53224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6082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5574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5956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6449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6827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08440" y="2843280"/>
                  <a:ext cx="301680" cy="463320"/>
                  <a:chOff x="2908440" y="2843280"/>
                  <a:chExt cx="301680" cy="4633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29084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29844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29336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2971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211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592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4" name=""/>
                <p:cNvGrpSpPr/>
                <p:nvPr/>
              </p:nvGrpSpPr>
              <p:grpSpPr>
                <a:xfrm>
                  <a:off x="3284640" y="2843280"/>
                  <a:ext cx="301680" cy="463320"/>
                  <a:chOff x="3284640" y="2843280"/>
                  <a:chExt cx="301680" cy="46332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32846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36060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322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348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3973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4480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3635280" y="2843280"/>
                  <a:ext cx="301680" cy="463320"/>
                  <a:chOff x="3635280" y="2843280"/>
                  <a:chExt cx="301680" cy="46332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>
                    <a:off x="363528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7116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608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99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74796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7861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508120" y="281772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2508120" y="3483000"/>
                <a:ext cx="1478160" cy="976320"/>
                <a:chOff x="2508120" y="3483000"/>
                <a:chExt cx="1478160" cy="976320"/>
              </a:xfrm>
            </p:grpSpPr>
            <p:grpSp>
              <p:nvGrpSpPr>
                <p:cNvPr id="1700" name=""/>
                <p:cNvGrpSpPr/>
                <p:nvPr/>
              </p:nvGrpSpPr>
              <p:grpSpPr>
                <a:xfrm>
                  <a:off x="2908440" y="3483000"/>
                  <a:ext cx="301680" cy="461880"/>
                  <a:chOff x="2908440" y="3483000"/>
                  <a:chExt cx="301680" cy="46188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29084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29844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V="1">
                    <a:off x="29336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2971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>
                    <a:off x="3021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flipV="1">
                    <a:off x="30592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2532240" y="3483000"/>
                  <a:ext cx="289080" cy="461880"/>
                  <a:chOff x="2532240" y="3483000"/>
                  <a:chExt cx="289080" cy="46188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>
                    <a:off x="253224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26082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flipV="1">
                    <a:off x="25574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V="1">
                    <a:off x="25956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 flipV="1">
                    <a:off x="26449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V="1">
                    <a:off x="26827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4" name=""/>
                <p:cNvGrpSpPr/>
                <p:nvPr/>
              </p:nvGrpSpPr>
              <p:grpSpPr>
                <a:xfrm>
                  <a:off x="3284640" y="3483000"/>
                  <a:ext cx="301680" cy="461880"/>
                  <a:chOff x="3284640" y="3483000"/>
                  <a:chExt cx="301680" cy="461880"/>
                </a:xfrm>
              </p:grpSpPr>
              <p:sp>
                <p:nvSpPr>
                  <p:cNvPr id="1715" name=""/>
                  <p:cNvSpPr/>
                  <p:nvPr/>
                </p:nvSpPr>
                <p:spPr>
                  <a:xfrm>
                    <a:off x="32846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36060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V="1">
                    <a:off x="3322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flipV="1">
                    <a:off x="3348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 flipV="1">
                    <a:off x="33973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V="1">
                    <a:off x="34480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3635280" y="3483000"/>
                  <a:ext cx="301680" cy="461880"/>
                  <a:chOff x="3635280" y="3483000"/>
                  <a:chExt cx="301680" cy="46188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363528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37116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flipV="1">
                    <a:off x="36608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flipV="1">
                    <a:off x="3699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37479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3786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"/>
                <p:cNvGrpSpPr/>
                <p:nvPr/>
              </p:nvGrpSpPr>
              <p:grpSpPr>
                <a:xfrm>
                  <a:off x="2532240" y="3983040"/>
                  <a:ext cx="289080" cy="476280"/>
                  <a:chOff x="2532240" y="3983040"/>
                  <a:chExt cx="289080" cy="4762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253224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6082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5574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5956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26449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26827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5" name=""/>
                <p:cNvGrpSpPr/>
                <p:nvPr/>
              </p:nvGrpSpPr>
              <p:grpSpPr>
                <a:xfrm>
                  <a:off x="2908440" y="3983040"/>
                  <a:ext cx="301680" cy="476280"/>
                  <a:chOff x="2908440" y="3983040"/>
                  <a:chExt cx="301680" cy="47628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29084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29844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29336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971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0211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30592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3284640" y="3983040"/>
                  <a:ext cx="301680" cy="476280"/>
                  <a:chOff x="3284640" y="3983040"/>
                  <a:chExt cx="301680" cy="47628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2846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36060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322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348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33973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480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9" name=""/>
                <p:cNvGrpSpPr/>
                <p:nvPr/>
              </p:nvGrpSpPr>
              <p:grpSpPr>
                <a:xfrm>
                  <a:off x="3635280" y="3983040"/>
                  <a:ext cx="301680" cy="476280"/>
                  <a:chOff x="3635280" y="3983040"/>
                  <a:chExt cx="301680" cy="47628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363528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7116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36608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3699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374796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37861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6" name=""/>
                <p:cNvSpPr/>
                <p:nvPr/>
              </p:nvSpPr>
              <p:spPr>
                <a:xfrm>
                  <a:off x="2508120" y="39574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2508120" y="4622760"/>
                <a:ext cx="1478160" cy="976320"/>
                <a:chOff x="2508120" y="4622760"/>
                <a:chExt cx="1478160" cy="976320"/>
              </a:xfrm>
            </p:grpSpPr>
            <p:grpSp>
              <p:nvGrpSpPr>
                <p:cNvPr id="1758" name=""/>
                <p:cNvGrpSpPr/>
                <p:nvPr/>
              </p:nvGrpSpPr>
              <p:grpSpPr>
                <a:xfrm>
                  <a:off x="2908440" y="4622760"/>
                  <a:ext cx="301680" cy="474840"/>
                  <a:chOff x="2908440" y="4622760"/>
                  <a:chExt cx="301680" cy="474840"/>
                </a:xfrm>
              </p:grpSpPr>
              <p:sp>
                <p:nvSpPr>
                  <p:cNvPr id="1759" name=""/>
                  <p:cNvSpPr/>
                  <p:nvPr/>
                </p:nvSpPr>
                <p:spPr>
                  <a:xfrm>
                    <a:off x="29084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9844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29336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V="1">
                    <a:off x="2971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V="1">
                    <a:off x="3021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V="1">
                    <a:off x="30592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2532240" y="4622760"/>
                  <a:ext cx="289080" cy="474840"/>
                  <a:chOff x="2532240" y="4622760"/>
                  <a:chExt cx="289080" cy="474840"/>
                </a:xfrm>
              </p:grpSpPr>
              <p:sp>
                <p:nvSpPr>
                  <p:cNvPr id="1766" name=""/>
                  <p:cNvSpPr/>
                  <p:nvPr/>
                </p:nvSpPr>
                <p:spPr>
                  <a:xfrm>
                    <a:off x="253224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26082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V="1">
                    <a:off x="25574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V="1">
                    <a:off x="25956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V="1">
                    <a:off x="26449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V="1">
                    <a:off x="26827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3284640" y="4622760"/>
                  <a:ext cx="301680" cy="474840"/>
                  <a:chOff x="3284640" y="4622760"/>
                  <a:chExt cx="301680" cy="47484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>
                    <a:off x="32846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336060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V="1">
                    <a:off x="3322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flipV="1">
                    <a:off x="3348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V="1">
                    <a:off x="33973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 flipV="1">
                    <a:off x="34480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9" name=""/>
                <p:cNvGrpSpPr/>
                <p:nvPr/>
              </p:nvGrpSpPr>
              <p:grpSpPr>
                <a:xfrm>
                  <a:off x="3635280" y="4622760"/>
                  <a:ext cx="301680" cy="474840"/>
                  <a:chOff x="3635280" y="4622760"/>
                  <a:chExt cx="301680" cy="474840"/>
                </a:xfrm>
              </p:grpSpPr>
              <p:sp>
                <p:nvSpPr>
                  <p:cNvPr id="1780" name=""/>
                  <p:cNvSpPr/>
                  <p:nvPr/>
                </p:nvSpPr>
                <p:spPr>
                  <a:xfrm>
                    <a:off x="363528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37116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36608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3699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 flipV="1">
                    <a:off x="37479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 flipV="1">
                    <a:off x="3786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6" name=""/>
                <p:cNvGrpSpPr/>
                <p:nvPr/>
              </p:nvGrpSpPr>
              <p:grpSpPr>
                <a:xfrm>
                  <a:off x="2532240" y="5135400"/>
                  <a:ext cx="289080" cy="463680"/>
                  <a:chOff x="2532240" y="5135400"/>
                  <a:chExt cx="289080" cy="463680"/>
                </a:xfrm>
              </p:grpSpPr>
              <p:sp>
                <p:nvSpPr>
                  <p:cNvPr id="1787" name=""/>
                  <p:cNvSpPr/>
                  <p:nvPr/>
                </p:nvSpPr>
                <p:spPr>
                  <a:xfrm>
                    <a:off x="253224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26082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25574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25956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26449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26827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"/>
                <p:cNvGrpSpPr/>
                <p:nvPr/>
              </p:nvGrpSpPr>
              <p:grpSpPr>
                <a:xfrm>
                  <a:off x="2908440" y="5135400"/>
                  <a:ext cx="301680" cy="463680"/>
                  <a:chOff x="2908440" y="5135400"/>
                  <a:chExt cx="301680" cy="4636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29084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29844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29336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2971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30211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30592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0" name=""/>
                <p:cNvGrpSpPr/>
                <p:nvPr/>
              </p:nvGrpSpPr>
              <p:grpSpPr>
                <a:xfrm>
                  <a:off x="3284640" y="5135400"/>
                  <a:ext cx="301680" cy="463680"/>
                  <a:chOff x="3284640" y="5135400"/>
                  <a:chExt cx="301680" cy="463680"/>
                </a:xfrm>
              </p:grpSpPr>
              <p:sp>
                <p:nvSpPr>
                  <p:cNvPr id="1801" name=""/>
                  <p:cNvSpPr/>
                  <p:nvPr/>
                </p:nvSpPr>
                <p:spPr>
                  <a:xfrm>
                    <a:off x="32846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336060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3322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3348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33973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34480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3635280" y="5135400"/>
                  <a:ext cx="301680" cy="463680"/>
                  <a:chOff x="3635280" y="5135400"/>
                  <a:chExt cx="301680" cy="46368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>
                    <a:off x="363528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37116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36608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3699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374796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37861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4" name=""/>
                <p:cNvSpPr/>
                <p:nvPr/>
              </p:nvSpPr>
              <p:spPr>
                <a:xfrm>
                  <a:off x="2508120" y="511020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2508120" y="6915240"/>
                <a:ext cx="1478160" cy="976320"/>
                <a:chOff x="2508120" y="6915240"/>
                <a:chExt cx="1478160" cy="976320"/>
              </a:xfrm>
            </p:grpSpPr>
            <p:grpSp>
              <p:nvGrpSpPr>
                <p:cNvPr id="1816" name=""/>
                <p:cNvGrpSpPr/>
                <p:nvPr/>
              </p:nvGrpSpPr>
              <p:grpSpPr>
                <a:xfrm>
                  <a:off x="2908440" y="6915240"/>
                  <a:ext cx="301680" cy="474480"/>
                  <a:chOff x="2908440" y="6915240"/>
                  <a:chExt cx="301680" cy="4744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29084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29844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flipV="1">
                    <a:off x="29336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 flipV="1">
                    <a:off x="2971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flipV="1">
                    <a:off x="3021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 flipV="1">
                    <a:off x="30592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3" name=""/>
                <p:cNvGrpSpPr/>
                <p:nvPr/>
              </p:nvGrpSpPr>
              <p:grpSpPr>
                <a:xfrm>
                  <a:off x="2532240" y="6915240"/>
                  <a:ext cx="289080" cy="474480"/>
                  <a:chOff x="2532240" y="6915240"/>
                  <a:chExt cx="289080" cy="47448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>
                    <a:off x="253224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6082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V="1">
                    <a:off x="25574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flipV="1">
                    <a:off x="25956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flipV="1">
                    <a:off x="26449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V="1">
                    <a:off x="26827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0" name=""/>
                <p:cNvGrpSpPr/>
                <p:nvPr/>
              </p:nvGrpSpPr>
              <p:grpSpPr>
                <a:xfrm>
                  <a:off x="3284640" y="6915240"/>
                  <a:ext cx="301680" cy="474480"/>
                  <a:chOff x="3284640" y="6915240"/>
                  <a:chExt cx="301680" cy="474480"/>
                </a:xfrm>
              </p:grpSpPr>
              <p:sp>
                <p:nvSpPr>
                  <p:cNvPr id="1831" name=""/>
                  <p:cNvSpPr/>
                  <p:nvPr/>
                </p:nvSpPr>
                <p:spPr>
                  <a:xfrm>
                    <a:off x="32846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336060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V="1">
                    <a:off x="3322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3348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flipV="1">
                    <a:off x="33973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 flipV="1">
                    <a:off x="34480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3635280" y="6915240"/>
                  <a:ext cx="301680" cy="474480"/>
                  <a:chOff x="3635280" y="6915240"/>
                  <a:chExt cx="301680" cy="47448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363528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37116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36608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 flipV="1">
                    <a:off x="3699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flipV="1">
                    <a:off x="37479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 flipV="1">
                    <a:off x="3786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4" name=""/>
                <p:cNvGrpSpPr/>
                <p:nvPr/>
              </p:nvGrpSpPr>
              <p:grpSpPr>
                <a:xfrm>
                  <a:off x="2532240" y="7427880"/>
                  <a:ext cx="289080" cy="463680"/>
                  <a:chOff x="2532240" y="7427880"/>
                  <a:chExt cx="289080" cy="463680"/>
                </a:xfrm>
              </p:grpSpPr>
              <p:sp>
                <p:nvSpPr>
                  <p:cNvPr id="1845" name=""/>
                  <p:cNvSpPr/>
                  <p:nvPr/>
                </p:nvSpPr>
                <p:spPr>
                  <a:xfrm>
                    <a:off x="253224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26082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25574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25956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26449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26827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1" name=""/>
                <p:cNvGrpSpPr/>
                <p:nvPr/>
              </p:nvGrpSpPr>
              <p:grpSpPr>
                <a:xfrm>
                  <a:off x="2908440" y="7427880"/>
                  <a:ext cx="301680" cy="463680"/>
                  <a:chOff x="2908440" y="7427880"/>
                  <a:chExt cx="301680" cy="46368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>
                    <a:off x="29084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9844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9336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2971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30211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30592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8" name=""/>
                <p:cNvGrpSpPr/>
                <p:nvPr/>
              </p:nvGrpSpPr>
              <p:grpSpPr>
                <a:xfrm>
                  <a:off x="3284640" y="7427880"/>
                  <a:ext cx="301680" cy="463680"/>
                  <a:chOff x="3284640" y="7427880"/>
                  <a:chExt cx="301680" cy="463680"/>
                </a:xfrm>
              </p:grpSpPr>
              <p:sp>
                <p:nvSpPr>
                  <p:cNvPr id="1859" name=""/>
                  <p:cNvSpPr/>
                  <p:nvPr/>
                </p:nvSpPr>
                <p:spPr>
                  <a:xfrm>
                    <a:off x="32846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336060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3322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3348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33973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34480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5" name=""/>
                <p:cNvGrpSpPr/>
                <p:nvPr/>
              </p:nvGrpSpPr>
              <p:grpSpPr>
                <a:xfrm>
                  <a:off x="3635280" y="7427880"/>
                  <a:ext cx="301680" cy="463680"/>
                  <a:chOff x="3635280" y="7427880"/>
                  <a:chExt cx="301680" cy="46368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363528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7116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6608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3699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374796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37861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2" name=""/>
                <p:cNvSpPr/>
                <p:nvPr/>
              </p:nvSpPr>
              <p:spPr>
                <a:xfrm>
                  <a:off x="2508120" y="74026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3" name=""/>
            <p:cNvGrpSpPr/>
            <p:nvPr/>
          </p:nvGrpSpPr>
          <p:grpSpPr>
            <a:xfrm>
              <a:off x="927000" y="2330280"/>
              <a:ext cx="1479600" cy="5561280"/>
              <a:chOff x="927000" y="2330280"/>
              <a:chExt cx="1479600" cy="556128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927000" y="5773680"/>
                <a:ext cx="1479600" cy="978120"/>
                <a:chOff x="927000" y="5773680"/>
                <a:chExt cx="1479600" cy="978120"/>
              </a:xfrm>
            </p:grpSpPr>
            <p:grpSp>
              <p:nvGrpSpPr>
                <p:cNvPr id="1875" name=""/>
                <p:cNvGrpSpPr/>
                <p:nvPr/>
              </p:nvGrpSpPr>
              <p:grpSpPr>
                <a:xfrm>
                  <a:off x="1328760" y="5773680"/>
                  <a:ext cx="301680" cy="463680"/>
                  <a:chOff x="1328760" y="5773680"/>
                  <a:chExt cx="301680" cy="46368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1328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4050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 flipV="1">
                    <a:off x="13539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 flipV="1">
                    <a:off x="139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 flipV="1">
                    <a:off x="1441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V="1">
                    <a:off x="1479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2" name=""/>
                <p:cNvGrpSpPr/>
                <p:nvPr/>
              </p:nvGrpSpPr>
              <p:grpSpPr>
                <a:xfrm>
                  <a:off x="952560" y="5773680"/>
                  <a:ext cx="289080" cy="463680"/>
                  <a:chOff x="952560" y="5773680"/>
                  <a:chExt cx="289080" cy="46368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952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0288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 flipV="1">
                    <a:off x="9777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V="1">
                    <a:off x="10159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 flipV="1">
                    <a:off x="1065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V="1">
                    <a:off x="1103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1704960" y="5773680"/>
                  <a:ext cx="301680" cy="463680"/>
                  <a:chOff x="1704960" y="5773680"/>
                  <a:chExt cx="301680" cy="46368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170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17794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 flipV="1">
                    <a:off x="1743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 flipV="1">
                    <a:off x="176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 flipV="1">
                    <a:off x="181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1868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6" name=""/>
                <p:cNvGrpSpPr/>
                <p:nvPr/>
              </p:nvGrpSpPr>
              <p:grpSpPr>
                <a:xfrm>
                  <a:off x="2055960" y="5773680"/>
                  <a:ext cx="301680" cy="463680"/>
                  <a:chOff x="2055960" y="5773680"/>
                  <a:chExt cx="301680" cy="46368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2055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213192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flipV="1">
                    <a:off x="2081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 flipV="1">
                    <a:off x="2119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 flipV="1">
                    <a:off x="2168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V="1">
                    <a:off x="2206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952560" y="6275520"/>
                  <a:ext cx="289080" cy="476280"/>
                  <a:chOff x="952560" y="6275520"/>
                  <a:chExt cx="289080" cy="47628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952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10288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9777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10159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1065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1103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1328760" y="6275520"/>
                  <a:ext cx="301680" cy="476280"/>
                  <a:chOff x="1328760" y="6275520"/>
                  <a:chExt cx="301680" cy="47628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1328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14050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13539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139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441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1479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7" name=""/>
                <p:cNvGrpSpPr/>
                <p:nvPr/>
              </p:nvGrpSpPr>
              <p:grpSpPr>
                <a:xfrm>
                  <a:off x="1704960" y="6275520"/>
                  <a:ext cx="301680" cy="476280"/>
                  <a:chOff x="1704960" y="6275520"/>
                  <a:chExt cx="301680" cy="47628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170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17794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743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76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81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868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4" name=""/>
                <p:cNvGrpSpPr/>
                <p:nvPr/>
              </p:nvGrpSpPr>
              <p:grpSpPr>
                <a:xfrm>
                  <a:off x="2055960" y="6275520"/>
                  <a:ext cx="301680" cy="476280"/>
                  <a:chOff x="2055960" y="6275520"/>
                  <a:chExt cx="301680" cy="476280"/>
                </a:xfrm>
              </p:grpSpPr>
              <p:sp>
                <p:nvSpPr>
                  <p:cNvPr id="1925" name=""/>
                  <p:cNvSpPr/>
                  <p:nvPr/>
                </p:nvSpPr>
                <p:spPr>
                  <a:xfrm>
                    <a:off x="2055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213192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2081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2119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2168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2206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1" name=""/>
                <p:cNvSpPr/>
                <p:nvPr/>
              </p:nvSpPr>
              <p:spPr>
                <a:xfrm>
                  <a:off x="9270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2" name=""/>
              <p:cNvGrpSpPr/>
              <p:nvPr/>
            </p:nvGrpSpPr>
            <p:grpSpPr>
              <a:xfrm>
                <a:off x="927000" y="2330280"/>
                <a:ext cx="1479600" cy="976320"/>
                <a:chOff x="927000" y="2330280"/>
                <a:chExt cx="1479600" cy="976320"/>
              </a:xfrm>
            </p:grpSpPr>
            <p:grpSp>
              <p:nvGrpSpPr>
                <p:cNvPr id="1933" name=""/>
                <p:cNvGrpSpPr/>
                <p:nvPr/>
              </p:nvGrpSpPr>
              <p:grpSpPr>
                <a:xfrm>
                  <a:off x="1328760" y="2330280"/>
                  <a:ext cx="301680" cy="474840"/>
                  <a:chOff x="1328760" y="2330280"/>
                  <a:chExt cx="301680" cy="47484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>
                    <a:off x="1328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14050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V="1">
                    <a:off x="13539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V="1">
                    <a:off x="139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V="1">
                    <a:off x="1441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 flipV="1">
                    <a:off x="1479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0" name=""/>
                <p:cNvGrpSpPr/>
                <p:nvPr/>
              </p:nvGrpSpPr>
              <p:grpSpPr>
                <a:xfrm>
                  <a:off x="952560" y="2330280"/>
                  <a:ext cx="289080" cy="474840"/>
                  <a:chOff x="952560" y="2330280"/>
                  <a:chExt cx="289080" cy="47484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952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0288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 flipV="1">
                    <a:off x="9777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V="1">
                    <a:off x="10159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V="1">
                    <a:off x="1065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1103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7" name=""/>
                <p:cNvGrpSpPr/>
                <p:nvPr/>
              </p:nvGrpSpPr>
              <p:grpSpPr>
                <a:xfrm>
                  <a:off x="1704960" y="2330280"/>
                  <a:ext cx="301680" cy="474840"/>
                  <a:chOff x="1704960" y="2330280"/>
                  <a:chExt cx="301680" cy="474840"/>
                </a:xfrm>
              </p:grpSpPr>
              <p:sp>
                <p:nvSpPr>
                  <p:cNvPr id="1948" name=""/>
                  <p:cNvSpPr/>
                  <p:nvPr/>
                </p:nvSpPr>
                <p:spPr>
                  <a:xfrm>
                    <a:off x="170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17794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V="1">
                    <a:off x="1743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 flipV="1">
                    <a:off x="176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 flipV="1">
                    <a:off x="181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V="1">
                    <a:off x="1868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4" name=""/>
                <p:cNvGrpSpPr/>
                <p:nvPr/>
              </p:nvGrpSpPr>
              <p:grpSpPr>
                <a:xfrm>
                  <a:off x="2055960" y="2330280"/>
                  <a:ext cx="301680" cy="474840"/>
                  <a:chOff x="2055960" y="2330280"/>
                  <a:chExt cx="301680" cy="474840"/>
                </a:xfrm>
              </p:grpSpPr>
              <p:sp>
                <p:nvSpPr>
                  <p:cNvPr id="1955" name=""/>
                  <p:cNvSpPr/>
                  <p:nvPr/>
                </p:nvSpPr>
                <p:spPr>
                  <a:xfrm>
                    <a:off x="2055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213192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 flipV="1">
                    <a:off x="2081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 flipV="1">
                    <a:off x="2119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V="1">
                    <a:off x="2168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V="1">
                    <a:off x="2206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1" name=""/>
                <p:cNvGrpSpPr/>
                <p:nvPr/>
              </p:nvGrpSpPr>
              <p:grpSpPr>
                <a:xfrm>
                  <a:off x="952560" y="2843280"/>
                  <a:ext cx="289080" cy="463320"/>
                  <a:chOff x="952560" y="2843280"/>
                  <a:chExt cx="289080" cy="46332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952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10288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9777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10159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1065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1103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8" name=""/>
                <p:cNvGrpSpPr/>
                <p:nvPr/>
              </p:nvGrpSpPr>
              <p:grpSpPr>
                <a:xfrm>
                  <a:off x="1328760" y="2843280"/>
                  <a:ext cx="301680" cy="463320"/>
                  <a:chOff x="1328760" y="2843280"/>
                  <a:chExt cx="301680" cy="46332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1328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14050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3539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39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1441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1479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1704960" y="2843280"/>
                  <a:ext cx="301680" cy="463320"/>
                  <a:chOff x="1704960" y="2843280"/>
                  <a:chExt cx="301680" cy="46332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170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7794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743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176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81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868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"/>
                <p:cNvGrpSpPr/>
                <p:nvPr/>
              </p:nvGrpSpPr>
              <p:grpSpPr>
                <a:xfrm>
                  <a:off x="2055960" y="2843280"/>
                  <a:ext cx="301680" cy="463320"/>
                  <a:chOff x="2055960" y="2843280"/>
                  <a:chExt cx="301680" cy="46332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2055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213192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2081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2119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2168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2206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9" name=""/>
                <p:cNvSpPr/>
                <p:nvPr/>
              </p:nvSpPr>
              <p:spPr>
                <a:xfrm>
                  <a:off x="9270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927000" y="3483000"/>
                <a:ext cx="1479600" cy="976320"/>
                <a:chOff x="927000" y="3483000"/>
                <a:chExt cx="1479600" cy="976320"/>
              </a:xfrm>
            </p:grpSpPr>
            <p:grpSp>
              <p:nvGrpSpPr>
                <p:cNvPr id="1991" name=""/>
                <p:cNvGrpSpPr/>
                <p:nvPr/>
              </p:nvGrpSpPr>
              <p:grpSpPr>
                <a:xfrm>
                  <a:off x="1328760" y="3483000"/>
                  <a:ext cx="301680" cy="461880"/>
                  <a:chOff x="1328760" y="3483000"/>
                  <a:chExt cx="301680" cy="46188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1328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14050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V="1">
                    <a:off x="13539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V="1">
                    <a:off x="139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V="1">
                    <a:off x="1441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V="1">
                    <a:off x="1479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8" name=""/>
                <p:cNvGrpSpPr/>
                <p:nvPr/>
              </p:nvGrpSpPr>
              <p:grpSpPr>
                <a:xfrm>
                  <a:off x="952560" y="3483000"/>
                  <a:ext cx="289080" cy="461880"/>
                  <a:chOff x="952560" y="3483000"/>
                  <a:chExt cx="289080" cy="46188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>
                    <a:off x="952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10288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9777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V="1">
                    <a:off x="10159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V="1">
                    <a:off x="1065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1103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5" name=""/>
                <p:cNvGrpSpPr/>
                <p:nvPr/>
              </p:nvGrpSpPr>
              <p:grpSpPr>
                <a:xfrm>
                  <a:off x="1704960" y="3483000"/>
                  <a:ext cx="301680" cy="461880"/>
                  <a:chOff x="1704960" y="3483000"/>
                  <a:chExt cx="301680" cy="46188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170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17794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1743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>
                    <a:off x="176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V="1">
                    <a:off x="181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1868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2" name=""/>
                <p:cNvGrpSpPr/>
                <p:nvPr/>
              </p:nvGrpSpPr>
              <p:grpSpPr>
                <a:xfrm>
                  <a:off x="2055960" y="3483000"/>
                  <a:ext cx="301680" cy="461880"/>
                  <a:chOff x="2055960" y="3483000"/>
                  <a:chExt cx="301680" cy="46188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2055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213192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2081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2119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2168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2206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952560" y="3983040"/>
                  <a:ext cx="289080" cy="476280"/>
                  <a:chOff x="952560" y="3983040"/>
                  <a:chExt cx="289080" cy="47628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952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10288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9777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10159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1065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1103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6" name=""/>
                <p:cNvGrpSpPr/>
                <p:nvPr/>
              </p:nvGrpSpPr>
              <p:grpSpPr>
                <a:xfrm>
                  <a:off x="1328760" y="3983040"/>
                  <a:ext cx="301680" cy="476280"/>
                  <a:chOff x="1328760" y="3983040"/>
                  <a:chExt cx="301680" cy="47628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1328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14050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13539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39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441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479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3" name=""/>
                <p:cNvGrpSpPr/>
                <p:nvPr/>
              </p:nvGrpSpPr>
              <p:grpSpPr>
                <a:xfrm>
                  <a:off x="1704960" y="3983040"/>
                  <a:ext cx="301680" cy="476280"/>
                  <a:chOff x="1704960" y="3983040"/>
                  <a:chExt cx="301680" cy="476280"/>
                </a:xfrm>
              </p:grpSpPr>
              <p:sp>
                <p:nvSpPr>
                  <p:cNvPr id="2034" name=""/>
                  <p:cNvSpPr/>
                  <p:nvPr/>
                </p:nvSpPr>
                <p:spPr>
                  <a:xfrm>
                    <a:off x="170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7794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743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76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81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868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2055960" y="3983040"/>
                  <a:ext cx="301680" cy="476280"/>
                  <a:chOff x="2055960" y="3983040"/>
                  <a:chExt cx="301680" cy="47628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2055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13192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2081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2119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2168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2206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7" name=""/>
                <p:cNvSpPr/>
                <p:nvPr/>
              </p:nvSpPr>
              <p:spPr>
                <a:xfrm>
                  <a:off x="9270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8" name=""/>
              <p:cNvGrpSpPr/>
              <p:nvPr/>
            </p:nvGrpSpPr>
            <p:grpSpPr>
              <a:xfrm>
                <a:off x="927000" y="4622760"/>
                <a:ext cx="1479600" cy="976320"/>
                <a:chOff x="927000" y="4622760"/>
                <a:chExt cx="1479600" cy="976320"/>
              </a:xfrm>
            </p:grpSpPr>
            <p:grpSp>
              <p:nvGrpSpPr>
                <p:cNvPr id="2049" name=""/>
                <p:cNvGrpSpPr/>
                <p:nvPr/>
              </p:nvGrpSpPr>
              <p:grpSpPr>
                <a:xfrm>
                  <a:off x="1328760" y="4622760"/>
                  <a:ext cx="301680" cy="474840"/>
                  <a:chOff x="1328760" y="4622760"/>
                  <a:chExt cx="301680" cy="47484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1328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14050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V="1">
                    <a:off x="13539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V="1">
                    <a:off x="139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flipV="1">
                    <a:off x="1441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1479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952560" y="4622760"/>
                  <a:ext cx="289080" cy="474840"/>
                  <a:chOff x="952560" y="4622760"/>
                  <a:chExt cx="289080" cy="47484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952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0288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 flipV="1">
                    <a:off x="9777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V="1">
                    <a:off x="10159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V="1">
                    <a:off x="1065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V="1">
                    <a:off x="1103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3" name=""/>
                <p:cNvGrpSpPr/>
                <p:nvPr/>
              </p:nvGrpSpPr>
              <p:grpSpPr>
                <a:xfrm>
                  <a:off x="1704960" y="4622760"/>
                  <a:ext cx="301680" cy="474840"/>
                  <a:chOff x="1704960" y="4622760"/>
                  <a:chExt cx="301680" cy="474840"/>
                </a:xfrm>
              </p:grpSpPr>
              <p:sp>
                <p:nvSpPr>
                  <p:cNvPr id="2064" name=""/>
                  <p:cNvSpPr/>
                  <p:nvPr/>
                </p:nvSpPr>
                <p:spPr>
                  <a:xfrm>
                    <a:off x="170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17794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V="1">
                    <a:off x="1743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V="1">
                    <a:off x="176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V="1">
                    <a:off x="181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V="1">
                    <a:off x="1868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2055960" y="4622760"/>
                  <a:ext cx="301680" cy="474840"/>
                  <a:chOff x="2055960" y="4622760"/>
                  <a:chExt cx="301680" cy="47484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2055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213192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2081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V="1">
                    <a:off x="2119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>
                    <a:off x="2168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 flipV="1">
                    <a:off x="2206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7" name=""/>
                <p:cNvGrpSpPr/>
                <p:nvPr/>
              </p:nvGrpSpPr>
              <p:grpSpPr>
                <a:xfrm>
                  <a:off x="952560" y="5135400"/>
                  <a:ext cx="289080" cy="463680"/>
                  <a:chOff x="952560" y="5135400"/>
                  <a:chExt cx="289080" cy="46368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952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10288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9777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10159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1065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1103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4" name=""/>
                <p:cNvGrpSpPr/>
                <p:nvPr/>
              </p:nvGrpSpPr>
              <p:grpSpPr>
                <a:xfrm>
                  <a:off x="1328760" y="5135400"/>
                  <a:ext cx="301680" cy="463680"/>
                  <a:chOff x="1328760" y="5135400"/>
                  <a:chExt cx="301680" cy="463680"/>
                </a:xfrm>
              </p:grpSpPr>
              <p:sp>
                <p:nvSpPr>
                  <p:cNvPr id="2085" name=""/>
                  <p:cNvSpPr/>
                  <p:nvPr/>
                </p:nvSpPr>
                <p:spPr>
                  <a:xfrm>
                    <a:off x="1328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14050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13539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139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1441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1479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1704960" y="5135400"/>
                  <a:ext cx="301680" cy="463680"/>
                  <a:chOff x="1704960" y="5135400"/>
                  <a:chExt cx="301680" cy="46368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170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7794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1743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176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181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1868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8" name=""/>
                <p:cNvGrpSpPr/>
                <p:nvPr/>
              </p:nvGrpSpPr>
              <p:grpSpPr>
                <a:xfrm>
                  <a:off x="2055960" y="5135400"/>
                  <a:ext cx="301680" cy="463680"/>
                  <a:chOff x="2055960" y="5135400"/>
                  <a:chExt cx="301680" cy="46368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2055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213192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2081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2119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2168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2206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5" name=""/>
                <p:cNvSpPr/>
                <p:nvPr/>
              </p:nvSpPr>
              <p:spPr>
                <a:xfrm>
                  <a:off x="9270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927000" y="6915240"/>
                <a:ext cx="1479600" cy="976320"/>
                <a:chOff x="927000" y="6915240"/>
                <a:chExt cx="1479600" cy="97632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1328760" y="6915240"/>
                  <a:ext cx="301680" cy="474480"/>
                  <a:chOff x="1328760" y="6915240"/>
                  <a:chExt cx="301680" cy="47448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>
                    <a:off x="1328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14050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V="1">
                    <a:off x="13539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 flipV="1">
                    <a:off x="139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 flipV="1">
                    <a:off x="1441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 flipV="1">
                    <a:off x="1479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"/>
                <p:cNvGrpSpPr/>
                <p:nvPr/>
              </p:nvGrpSpPr>
              <p:grpSpPr>
                <a:xfrm>
                  <a:off x="952560" y="6915240"/>
                  <a:ext cx="289080" cy="474480"/>
                  <a:chOff x="952560" y="6915240"/>
                  <a:chExt cx="289080" cy="47448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952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10288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flipV="1">
                    <a:off x="9777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flipV="1">
                    <a:off x="10159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1065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flipV="1">
                    <a:off x="1103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1" name=""/>
                <p:cNvGrpSpPr/>
                <p:nvPr/>
              </p:nvGrpSpPr>
              <p:grpSpPr>
                <a:xfrm>
                  <a:off x="1704960" y="6915240"/>
                  <a:ext cx="301680" cy="474480"/>
                  <a:chOff x="1704960" y="6915240"/>
                  <a:chExt cx="301680" cy="474480"/>
                </a:xfrm>
              </p:grpSpPr>
              <p:sp>
                <p:nvSpPr>
                  <p:cNvPr id="2122" name=""/>
                  <p:cNvSpPr/>
                  <p:nvPr/>
                </p:nvSpPr>
                <p:spPr>
                  <a:xfrm>
                    <a:off x="170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17794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V="1">
                    <a:off x="1743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V="1">
                    <a:off x="176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 flipV="1">
                    <a:off x="181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 flipV="1">
                    <a:off x="1868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8" name=""/>
                <p:cNvGrpSpPr/>
                <p:nvPr/>
              </p:nvGrpSpPr>
              <p:grpSpPr>
                <a:xfrm>
                  <a:off x="2055960" y="6915240"/>
                  <a:ext cx="301680" cy="474480"/>
                  <a:chOff x="2055960" y="6915240"/>
                  <a:chExt cx="301680" cy="474480"/>
                </a:xfrm>
              </p:grpSpPr>
              <p:sp>
                <p:nvSpPr>
                  <p:cNvPr id="2129" name=""/>
                  <p:cNvSpPr/>
                  <p:nvPr/>
                </p:nvSpPr>
                <p:spPr>
                  <a:xfrm>
                    <a:off x="2055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213192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V="1">
                    <a:off x="2081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V="1">
                    <a:off x="2119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V="1">
                    <a:off x="2168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2206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5" name=""/>
                <p:cNvGrpSpPr/>
                <p:nvPr/>
              </p:nvGrpSpPr>
              <p:grpSpPr>
                <a:xfrm>
                  <a:off x="952560" y="7427880"/>
                  <a:ext cx="289080" cy="463680"/>
                  <a:chOff x="952560" y="7427880"/>
                  <a:chExt cx="289080" cy="46368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952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10288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9777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10159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1065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1103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2" name=""/>
                <p:cNvGrpSpPr/>
                <p:nvPr/>
              </p:nvGrpSpPr>
              <p:grpSpPr>
                <a:xfrm>
                  <a:off x="1328760" y="7427880"/>
                  <a:ext cx="301680" cy="463680"/>
                  <a:chOff x="1328760" y="7427880"/>
                  <a:chExt cx="301680" cy="463680"/>
                </a:xfrm>
              </p:grpSpPr>
              <p:sp>
                <p:nvSpPr>
                  <p:cNvPr id="2143" name=""/>
                  <p:cNvSpPr/>
                  <p:nvPr/>
                </p:nvSpPr>
                <p:spPr>
                  <a:xfrm>
                    <a:off x="1328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14050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13539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139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1441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1479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9" name=""/>
                <p:cNvGrpSpPr/>
                <p:nvPr/>
              </p:nvGrpSpPr>
              <p:grpSpPr>
                <a:xfrm>
                  <a:off x="1704960" y="7427880"/>
                  <a:ext cx="301680" cy="463680"/>
                  <a:chOff x="1704960" y="7427880"/>
                  <a:chExt cx="301680" cy="463680"/>
                </a:xfrm>
              </p:grpSpPr>
              <p:sp>
                <p:nvSpPr>
                  <p:cNvPr id="2150" name=""/>
                  <p:cNvSpPr/>
                  <p:nvPr/>
                </p:nvSpPr>
                <p:spPr>
                  <a:xfrm>
                    <a:off x="170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17794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743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176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181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868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2055960" y="7427880"/>
                  <a:ext cx="301680" cy="463680"/>
                  <a:chOff x="2055960" y="7427880"/>
                  <a:chExt cx="301680" cy="46368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>
                    <a:off x="2055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13192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2081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2119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2168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2206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3" name=""/>
                <p:cNvSpPr/>
                <p:nvPr/>
              </p:nvSpPr>
              <p:spPr>
                <a:xfrm>
                  <a:off x="9270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4" name=""/>
            <p:cNvSpPr/>
            <p:nvPr/>
          </p:nvSpPr>
          <p:spPr>
            <a:xfrm>
              <a:off x="2470320" y="2817720"/>
              <a:ext cx="0" cy="52484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062240" y="2843280"/>
              <a:ext cx="0" cy="45846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2281320" y="8142120"/>
              <a:ext cx="301680" cy="262080"/>
              <a:chOff x="2281320" y="8142120"/>
              <a:chExt cx="301680" cy="262080"/>
            </a:xfrm>
          </p:grpSpPr>
          <p:sp>
            <p:nvSpPr>
              <p:cNvPr id="2167" name=""/>
              <p:cNvSpPr/>
              <p:nvPr/>
            </p:nvSpPr>
            <p:spPr>
              <a:xfrm>
                <a:off x="2319480" y="8142120"/>
                <a:ext cx="225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319480" y="8142120"/>
                <a:ext cx="1252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2444760" y="8142120"/>
                <a:ext cx="1126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281320" y="8404200"/>
                <a:ext cx="3016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1" name=""/>
            <p:cNvSpPr/>
            <p:nvPr/>
          </p:nvSpPr>
          <p:spPr>
            <a:xfrm>
              <a:off x="2470320" y="8467560"/>
              <a:ext cx="0" cy="100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757600" y="8291520"/>
              <a:ext cx="2582640" cy="0"/>
            </a:xfrm>
            <a:prstGeom prst="line">
              <a:avLst/>
            </a:prstGeom>
            <a:ln w="20304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 txBox="1"/>
            <p:nvPr/>
          </p:nvSpPr>
          <p:spPr>
            <a:xfrm>
              <a:off x="677880" y="8018640"/>
              <a:ext cx="160488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1917720" y="1090440"/>
            <a:ext cx="30225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nd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1619280" y="4849920"/>
            <a:ext cx="3021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170,000 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530360" y="4435560"/>
            <a:ext cx="3322800" cy="14526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1817640" y="5899320"/>
            <a:ext cx="576360" cy="1052280"/>
            <a:chOff x="1817640" y="5899320"/>
            <a:chExt cx="576360" cy="1052280"/>
          </a:xfrm>
        </p:grpSpPr>
        <p:grpSp>
          <p:nvGrpSpPr>
            <p:cNvPr id="2180" name=""/>
            <p:cNvGrpSpPr/>
            <p:nvPr/>
          </p:nvGrpSpPr>
          <p:grpSpPr>
            <a:xfrm>
              <a:off x="1817640" y="6213600"/>
              <a:ext cx="576360" cy="425160"/>
              <a:chOff x="1817640" y="6213600"/>
              <a:chExt cx="576360" cy="425160"/>
            </a:xfrm>
          </p:grpSpPr>
          <p:sp>
            <p:nvSpPr>
              <p:cNvPr id="2181" name=""/>
              <p:cNvSpPr/>
              <p:nvPr/>
            </p:nvSpPr>
            <p:spPr>
              <a:xfrm>
                <a:off x="1881360" y="6213600"/>
                <a:ext cx="425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86840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2106720" y="6213600"/>
                <a:ext cx="2379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176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210672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1932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2895480" y="5924520"/>
            <a:ext cx="577800" cy="1052640"/>
            <a:chOff x="2895480" y="5924520"/>
            <a:chExt cx="577800" cy="1052640"/>
          </a:xfrm>
        </p:grpSpPr>
        <p:grpSp>
          <p:nvGrpSpPr>
            <p:cNvPr id="2188" name=""/>
            <p:cNvGrpSpPr/>
            <p:nvPr/>
          </p:nvGrpSpPr>
          <p:grpSpPr>
            <a:xfrm>
              <a:off x="2895480" y="6237360"/>
              <a:ext cx="577800" cy="426960"/>
              <a:chOff x="2895480" y="6237360"/>
              <a:chExt cx="577800" cy="426960"/>
            </a:xfrm>
          </p:grpSpPr>
          <p:sp>
            <p:nvSpPr>
              <p:cNvPr id="2189" name=""/>
              <p:cNvSpPr/>
              <p:nvPr/>
            </p:nvSpPr>
            <p:spPr>
              <a:xfrm>
                <a:off x="2959200" y="623736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946240" y="623736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3184560" y="623736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895480" y="66643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3184560" y="592452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197160" y="672624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4062240" y="5899320"/>
            <a:ext cx="576360" cy="1052280"/>
            <a:chOff x="4062240" y="5899320"/>
            <a:chExt cx="576360" cy="1052280"/>
          </a:xfrm>
        </p:grpSpPr>
        <p:grpSp>
          <p:nvGrpSpPr>
            <p:cNvPr id="2196" name=""/>
            <p:cNvGrpSpPr/>
            <p:nvPr/>
          </p:nvGrpSpPr>
          <p:grpSpPr>
            <a:xfrm>
              <a:off x="4062240" y="6213600"/>
              <a:ext cx="576360" cy="425160"/>
              <a:chOff x="4062240" y="6213600"/>
              <a:chExt cx="576360" cy="425160"/>
            </a:xfrm>
          </p:grpSpPr>
          <p:sp>
            <p:nvSpPr>
              <p:cNvPr id="2197" name=""/>
              <p:cNvSpPr/>
              <p:nvPr/>
            </p:nvSpPr>
            <p:spPr>
              <a:xfrm>
                <a:off x="4124160" y="6213600"/>
                <a:ext cx="427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11156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4349880" y="6213600"/>
                <a:ext cx="2397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622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1" name=""/>
            <p:cNvSpPr/>
            <p:nvPr/>
          </p:nvSpPr>
          <p:spPr>
            <a:xfrm>
              <a:off x="434988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36248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3" name=""/>
          <p:cNvSpPr txBox="1"/>
          <p:nvPr/>
        </p:nvSpPr>
        <p:spPr>
          <a:xfrm>
            <a:off x="1192320" y="6991200"/>
            <a:ext cx="18813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2558880" y="6991200"/>
            <a:ext cx="13287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3700440" y="6991200"/>
            <a:ext cx="14288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4049640" y="3732120"/>
            <a:ext cx="576360" cy="426960"/>
            <a:chOff x="4049640" y="3732120"/>
            <a:chExt cx="576360" cy="426960"/>
          </a:xfrm>
        </p:grpSpPr>
        <p:sp>
          <p:nvSpPr>
            <p:cNvPr id="2207" name=""/>
            <p:cNvSpPr/>
            <p:nvPr/>
          </p:nvSpPr>
          <p:spPr>
            <a:xfrm flipH="1">
              <a:off x="4137120" y="4159080"/>
              <a:ext cx="4269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4338720" y="3782880"/>
              <a:ext cx="23796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100400" y="3782880"/>
              <a:ext cx="23832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4049640" y="3732120"/>
              <a:ext cx="5763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1" name=""/>
          <p:cNvSpPr/>
          <p:nvPr/>
        </p:nvSpPr>
        <p:spPr>
          <a:xfrm flipV="1">
            <a:off x="4362480" y="4221000"/>
            <a:ext cx="0" cy="250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4349880" y="3419640"/>
            <a:ext cx="0" cy="2505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2971800" y="3394080"/>
            <a:ext cx="576360" cy="1052640"/>
            <a:chOff x="2971800" y="3394080"/>
            <a:chExt cx="576360" cy="1052640"/>
          </a:xfrm>
        </p:grpSpPr>
        <p:grpSp>
          <p:nvGrpSpPr>
            <p:cNvPr id="2214" name=""/>
            <p:cNvGrpSpPr/>
            <p:nvPr/>
          </p:nvGrpSpPr>
          <p:grpSpPr>
            <a:xfrm>
              <a:off x="2971800" y="3708360"/>
              <a:ext cx="576360" cy="425520"/>
              <a:chOff x="2971800" y="3708360"/>
              <a:chExt cx="576360" cy="425520"/>
            </a:xfrm>
          </p:grpSpPr>
          <p:sp>
            <p:nvSpPr>
              <p:cNvPr id="2215" name=""/>
              <p:cNvSpPr/>
              <p:nvPr/>
            </p:nvSpPr>
            <p:spPr>
              <a:xfrm flipH="1">
                <a:off x="3059280" y="4133880"/>
                <a:ext cx="4269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 flipV="1">
                <a:off x="3259080" y="37576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3021120" y="37576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>
                <a:off x="2971800" y="37083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9" name=""/>
            <p:cNvSpPr/>
            <p:nvPr/>
          </p:nvSpPr>
          <p:spPr>
            <a:xfrm flipV="1">
              <a:off x="3284640" y="41958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271680" y="33940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1805040" y="3419640"/>
            <a:ext cx="577800" cy="1052280"/>
            <a:chOff x="1805040" y="3419640"/>
            <a:chExt cx="577800" cy="1052280"/>
          </a:xfrm>
        </p:grpSpPr>
        <p:grpSp>
          <p:nvGrpSpPr>
            <p:cNvPr id="2222" name=""/>
            <p:cNvGrpSpPr/>
            <p:nvPr/>
          </p:nvGrpSpPr>
          <p:grpSpPr>
            <a:xfrm>
              <a:off x="1805040" y="3732120"/>
              <a:ext cx="577800" cy="426960"/>
              <a:chOff x="1805040" y="3732120"/>
              <a:chExt cx="577800" cy="426960"/>
            </a:xfrm>
          </p:grpSpPr>
          <p:sp>
            <p:nvSpPr>
              <p:cNvPr id="2223" name=""/>
              <p:cNvSpPr/>
              <p:nvPr/>
            </p:nvSpPr>
            <p:spPr>
              <a:xfrm flipH="1">
                <a:off x="1893960" y="415908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 flipV="1">
                <a:off x="2093760" y="37828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1855800" y="37828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1805040" y="37321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7" name=""/>
            <p:cNvSpPr/>
            <p:nvPr/>
          </p:nvSpPr>
          <p:spPr>
            <a:xfrm flipV="1">
              <a:off x="2119320" y="42210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2106720" y="341964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9" name=""/>
          <p:cNvSpPr txBox="1"/>
          <p:nvPr/>
        </p:nvSpPr>
        <p:spPr>
          <a:xfrm>
            <a:off x="3549600" y="2606760"/>
            <a:ext cx="15922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2333520" y="2870280"/>
            <a:ext cx="18302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1292400" y="2870280"/>
            <a:ext cx="15685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4838760" y="47721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4838760" y="48848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4838760" y="499752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4838760" y="511020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4838760" y="522288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4838760" y="53355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4838760" y="54482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4514760" y="4410000"/>
            <a:ext cx="22320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d to ge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’t get 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ten part of a fancier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(log sca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495360" y="3833640"/>
            <a:ext cx="5842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work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quires modfied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ior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performanc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ified clients, 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</a:t>
            </a:r>
            <a:r>
              <a:rPr b="0" i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495360" y="814320"/>
            <a:ext cx="586728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Firewalls 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-lik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guration can be t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witches tcp circuits at the packe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pick for best firewal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n infinite number of mon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ew Shakespear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bad gu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are usually completely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d Guys know almost all the tricks, and shar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don’t know they have been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’re only as strong as your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Good 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mmon Internet tools are in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ternet infrastructure is not tr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is alway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Unix systems can be subverted by their ow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ndors don’t show much sign of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AR seems to block our bes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lesale crime i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s have security problem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ontrol your own machines, at least at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ools exist to improv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 can help a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what an attack w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t alarms in for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ide what to do if you are attacked,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Path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1974960" y="2595600"/>
            <a:ext cx="2882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1792440" y="438120"/>
            <a:ext cx="3260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614520" y="2305080"/>
            <a:ext cx="61182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UMIPS) 4.0 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 1986, MIPS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1154160" y="438120"/>
            <a:ext cx="453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927000" y="2330280"/>
            <a:ext cx="351144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2570040" y="1090440"/>
            <a:ext cx="17175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mmer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u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727200" y="2630520"/>
            <a:ext cx="536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-time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V6 and IP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ps, alarms, honey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ention t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 txBox="1"/>
          <p:nvPr/>
        </p:nvSpPr>
        <p:spPr>
          <a:xfrm>
            <a:off x="514440" y="30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914400" y="3860640"/>
            <a:ext cx="5257800" cy="26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``What are you talking about?  They’re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716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ademy Award Winner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4" name="" descr=""/>
          <p:cNvPicPr/>
          <p:nvPr/>
        </p:nvPicPr>
        <p:blipFill>
          <a:blip r:embed="rId1"/>
          <a:stretch/>
        </p:blipFill>
        <p:spPr>
          <a:xfrm>
            <a:off x="1779480" y="35798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227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Talk not sponsor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r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 commer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lnet - Bellovin and B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get/cput - Ranum and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ll, suspicious file transf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e -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482760" y="530280"/>
            <a:ext cx="5867280" cy="82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1303200" y="1090440"/>
            <a:ext cx="42386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ack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727200" y="2630520"/>
            <a:ext cx="4764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2544840" y="1089000"/>
            <a:ext cx="17557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727200" y="2630520"/>
            <a:ext cx="4162320" cy="34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1805040" y="1089000"/>
            <a:ext cx="3235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neyp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498600" y="2630520"/>
            <a:ext cx="46134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a camera inside the v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303120" y="1216080"/>
            <a:ext cx="6243480" cy="70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rewal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lling the Wily H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lliam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ven Bello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BN  0-201-63357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son Wesley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Also in Germ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pane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French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se slides: ftp://ftp.research.att.com/dist/ches/karlruhe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home page: http://cm.bell-labs.com/who/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ail: 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78000" y="1003320"/>
            <a:ext cx="606420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469800" y="1104840"/>
            <a:ext cx="58816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58960" y="263700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28760" y="3382920"/>
            <a:ext cx="600084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curities Research 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bson-United Bld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01 Prescott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llesley Hills,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2181-7528     U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7000" y="2268360"/>
            <a:ext cx="6754680" cy="26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’s all the F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bou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 the Intern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Alan Berenbaum</cp:lastModifiedBy>
  <cp:revision>0</cp:revision>
  <dc:subject/>
  <dc:title>Internet Questions and Answers</dc:title>
</cp:coreProperties>
</file>