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media/image29.png" ContentType="image/png"/>
  <Override PartName="/ppt/media/image3.wmf" ContentType="image/x-wmf"/>
  <Override PartName="/ppt/media/image10.png" ContentType="image/png"/>
  <Override PartName="/ppt/media/image1.jpeg" ContentType="image/jpeg"/>
  <Override PartName="/ppt/media/image47.png" ContentType="image/png"/>
  <Override PartName="/ppt/media/image35.png" ContentType="image/png"/>
  <Override PartName="/ppt/media/image36.wmf" ContentType="image/x-wmf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7.png" ContentType="image/png"/>
  <Override PartName="/ppt/media/image31.png" ContentType="image/png"/>
  <Override PartName="/ppt/media/image6.png" ContentType="image/png"/>
  <Override PartName="/ppt/media/image30.png" ContentType="image/png"/>
  <Override PartName="/ppt/media/image4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97ECF14-EACF-472F-A163-B632DF60A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153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48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60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800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60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800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48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6521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E082-B27E-4FFE-9C85-DD7AE25C0716}" type="slidenum"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of 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31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1352-FE0D-4A9A-9C45-E1CEE659CF48}" type="datetime3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the Internet and Intran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ranigan, Hal Bur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@lumet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3D536-2D9F-496B-ABB9-73384D68406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- dat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reliable host connected at the company 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full scan of 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partial scan of Internet, monthly full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ine of text per network sc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9DE71-D0B6-461B-9B68-AE75948FE692}" type="datetime3">
              <a:rPr lang="en-US"/>
              <a:t>July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- network sc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master networ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ists from Merit, RIPE, APNIC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P data or routing data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-assembled list of Yugoslavia/Bos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 traceroute-style scan towards each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on error, completion, n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natives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CDE12-9CA0-4E5E-B09E-ADC64EEC326A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s toward each target network with increasing T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s are ICMP, UDP, TCP to port 80, 25, 139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block UDP, others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8F7FB-5F0A-4805-9AC8-5B2CEAB30930}" type="datetime3">
              <a:rPr lang="en-US"/>
              <a:t>July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62120" y="2514600"/>
            <a:ext cx="1571400" cy="1448640"/>
            <a:chOff x="762120" y="2514600"/>
            <a:chExt cx="1571400" cy="1448640"/>
          </a:xfrm>
        </p:grpSpPr>
        <p:sp>
          <p:nvSpPr>
            <p:cNvPr id="74" name=""/>
            <p:cNvSpPr/>
            <p:nvPr/>
          </p:nvSpPr>
          <p:spPr>
            <a:xfrm>
              <a:off x="909000" y="281916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811240"/>
              <a:ext cx="157140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3089160"/>
              <a:ext cx="157140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366552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5960" y="312408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160" y="335268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64880" y="365760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61800" y="251460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00600" y="3048120"/>
            <a:ext cx="1571400" cy="915480"/>
            <a:chOff x="4800600" y="3048120"/>
            <a:chExt cx="1571400" cy="915480"/>
          </a:xfrm>
        </p:grpSpPr>
        <p:sp>
          <p:nvSpPr>
            <p:cNvPr id="83" name=""/>
            <p:cNvSpPr/>
            <p:nvPr/>
          </p:nvSpPr>
          <p:spPr>
            <a:xfrm>
              <a:off x="480060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0936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336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5564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819520" y="3048120"/>
            <a:ext cx="1571400" cy="915480"/>
            <a:chOff x="2819520" y="3048120"/>
            <a:chExt cx="1571400" cy="915480"/>
          </a:xfrm>
        </p:grpSpPr>
        <p:sp>
          <p:nvSpPr>
            <p:cNvPr id="89" name=""/>
            <p:cNvSpPr/>
            <p:nvPr/>
          </p:nvSpPr>
          <p:spPr>
            <a:xfrm>
              <a:off x="281952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828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228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7456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629400" y="3048120"/>
            <a:ext cx="1571400" cy="915480"/>
            <a:chOff x="6629400" y="3048120"/>
            <a:chExt cx="1571400" cy="915480"/>
          </a:xfrm>
        </p:grpSpPr>
        <p:sp>
          <p:nvSpPr>
            <p:cNvPr id="95" name=""/>
            <p:cNvSpPr/>
            <p:nvPr/>
          </p:nvSpPr>
          <p:spPr>
            <a:xfrm>
              <a:off x="6629400" y="335304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366588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160" y="335304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2160" y="365796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4440" y="304812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876920" y="4952880"/>
            <a:ext cx="1571400" cy="915480"/>
            <a:chOff x="4876920" y="4952880"/>
            <a:chExt cx="1571400" cy="915480"/>
          </a:xfrm>
        </p:grpSpPr>
        <p:sp>
          <p:nvSpPr>
            <p:cNvPr id="101" name=""/>
            <p:cNvSpPr/>
            <p:nvPr/>
          </p:nvSpPr>
          <p:spPr>
            <a:xfrm>
              <a:off x="4876920" y="52578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55706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568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7968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1960" y="49528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48120" y="4952880"/>
            <a:ext cx="1571400" cy="915480"/>
            <a:chOff x="3048120" y="4952880"/>
            <a:chExt cx="1571400" cy="915480"/>
          </a:xfrm>
        </p:grpSpPr>
        <p:sp>
          <p:nvSpPr>
            <p:cNvPr id="107" name=""/>
            <p:cNvSpPr/>
            <p:nvPr/>
          </p:nvSpPr>
          <p:spPr>
            <a:xfrm>
              <a:off x="3048120" y="52578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8120" y="55706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688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088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3160" y="49528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781680" y="4419720"/>
            <a:ext cx="1571760" cy="1448640"/>
            <a:chOff x="6781680" y="4419720"/>
            <a:chExt cx="1571760" cy="1448640"/>
          </a:xfrm>
        </p:grpSpPr>
        <p:sp>
          <p:nvSpPr>
            <p:cNvPr id="113" name=""/>
            <p:cNvSpPr/>
            <p:nvPr/>
          </p:nvSpPr>
          <p:spPr>
            <a:xfrm>
              <a:off x="6928920" y="472428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81680" y="4716360"/>
              <a:ext cx="157176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1680" y="4994280"/>
              <a:ext cx="157176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81680" y="5570640"/>
              <a:ext cx="157176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85880" y="502920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90440" y="52578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4800" y="55627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47880" y="441972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47920" y="3048120"/>
            <a:ext cx="7007040" cy="3149640"/>
          </a:xfrm>
          <a:custGeom>
            <a:avLst/>
            <a:gdLst/>
            <a:ahLst/>
            <a:rect l="l" t="t" r="r" b="b"/>
            <a:pathLst>
              <a:path w="4414" h="1984">
                <a:moveTo>
                  <a:pt x="0" y="0"/>
                </a:moveTo>
                <a:cubicBezTo>
                  <a:pt x="66" y="109"/>
                  <a:pt x="235" y="545"/>
                  <a:pt x="398" y="654"/>
                </a:cubicBezTo>
                <a:cubicBezTo>
                  <a:pt x="561" y="763"/>
                  <a:pt x="820" y="716"/>
                  <a:pt x="977" y="654"/>
                </a:cubicBezTo>
                <a:cubicBezTo>
                  <a:pt x="1134" y="592"/>
                  <a:pt x="1213" y="282"/>
                  <a:pt x="1339" y="282"/>
                </a:cubicBezTo>
                <a:cubicBezTo>
                  <a:pt x="1465" y="282"/>
                  <a:pt x="1584" y="592"/>
                  <a:pt x="1732" y="654"/>
                </a:cubicBezTo>
                <a:cubicBezTo>
                  <a:pt x="1880" y="716"/>
                  <a:pt x="2086" y="715"/>
                  <a:pt x="2229" y="654"/>
                </a:cubicBezTo>
                <a:cubicBezTo>
                  <a:pt x="2372" y="593"/>
                  <a:pt x="2468" y="290"/>
                  <a:pt x="2592" y="288"/>
                </a:cubicBezTo>
                <a:cubicBezTo>
                  <a:pt x="2716" y="286"/>
                  <a:pt x="2845" y="585"/>
                  <a:pt x="2974" y="644"/>
                </a:cubicBezTo>
                <a:cubicBezTo>
                  <a:pt x="3103" y="703"/>
                  <a:pt x="3239" y="703"/>
                  <a:pt x="3367" y="644"/>
                </a:cubicBezTo>
                <a:cubicBezTo>
                  <a:pt x="3495" y="585"/>
                  <a:pt x="3646" y="276"/>
                  <a:pt x="3744" y="288"/>
                </a:cubicBezTo>
                <a:cubicBezTo>
                  <a:pt x="3842" y="300"/>
                  <a:pt x="4414" y="567"/>
                  <a:pt x="3956" y="716"/>
                </a:cubicBezTo>
                <a:cubicBezTo>
                  <a:pt x="3498" y="865"/>
                  <a:pt x="1487" y="987"/>
                  <a:pt x="998" y="1182"/>
                </a:cubicBezTo>
                <a:cubicBezTo>
                  <a:pt x="509" y="1377"/>
                  <a:pt x="937" y="1834"/>
                  <a:pt x="1019" y="1885"/>
                </a:cubicBezTo>
                <a:cubicBezTo>
                  <a:pt x="1101" y="1936"/>
                  <a:pt x="1347" y="1493"/>
                  <a:pt x="1488" y="1488"/>
                </a:cubicBezTo>
                <a:cubicBezTo>
                  <a:pt x="1629" y="1483"/>
                  <a:pt x="1735" y="1793"/>
                  <a:pt x="1867" y="1854"/>
                </a:cubicBezTo>
                <a:cubicBezTo>
                  <a:pt x="1999" y="1915"/>
                  <a:pt x="2152" y="1923"/>
                  <a:pt x="2281" y="1854"/>
                </a:cubicBezTo>
                <a:cubicBezTo>
                  <a:pt x="2410" y="1785"/>
                  <a:pt x="2513" y="1440"/>
                  <a:pt x="2640" y="1440"/>
                </a:cubicBezTo>
                <a:cubicBezTo>
                  <a:pt x="2767" y="1440"/>
                  <a:pt x="2914" y="1782"/>
                  <a:pt x="3046" y="1854"/>
                </a:cubicBezTo>
                <a:cubicBezTo>
                  <a:pt x="3178" y="1926"/>
                  <a:pt x="3305" y="1984"/>
                  <a:pt x="3429" y="1875"/>
                </a:cubicBezTo>
                <a:cubicBezTo>
                  <a:pt x="3553" y="1766"/>
                  <a:pt x="3717" y="1341"/>
                  <a:pt x="3792" y="12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74840" y="26049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Ho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56280" y="26049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Ho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5080" y="252900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Ho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03440" y="458640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Ho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32240" y="44337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Ho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FE826-1374-44D2-AA7D-7BE18E64B595}" type="datetime3">
              <a:rPr lang="en-US"/>
              <a:t>July 29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-200MB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es to 5-10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Internet results available from mapping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t checked to see who gets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d to different partition, and offloaded to other secur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316A5-F859-4365-99B5-7AF00C25B3E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 sc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rently scans towards 500 net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ttled to 400 packets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p/s over dialup mod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daily scan for host on destin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8FE07-7D43-4893-827E-955E335C38C7}" type="datetime3">
              <a:rPr lang="en-US"/>
              <a:t>July 29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view of the Internet, not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shifts when our ISP situatio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 path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a while to collect alternat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e mapping means missed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v. 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867D0-EBD7-4D2E-A5BD-CF810576B07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llection compl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parliament was the first to com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whiners (25 n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notic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Northcu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ments/warnings to DISA and C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CB0F-7D44-4001-AACF-EBC10E69C89E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EC77E-6C62-4EFB-9ABC-02F34179A2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ualizat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nteres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our database and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fol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doesn’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lors to show further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CEF85-26B0-448D-818B-82BDF2BC605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448920" cy="69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CD68F-D405-4843-9E60-A6F94050A191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8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s are out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have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x DO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y to trace anonymous packets ba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ands “day after”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8520" y="1447560"/>
            <a:ext cx="418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tom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iosity about size and growth of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tools are useful for understanding any large network, including intr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544B8-5EFC-4F3A-82AF-CD057C1D8A7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cock smashed on a windshield” - Dave Preso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8520" y="1447560"/>
            <a:ext cx="418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taliz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or shows ISPs (colored by IP addres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trace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even find the prob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828800"/>
          <a:ext cx="449604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4496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898C9-9C1D-4D3C-8E48-CD813E3B89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ata is inconvenient, throw some 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distance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ity, not actual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et more information out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other paths to show fur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6F5C7-E49F-40E5-9C8F-4C08F69F5BD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ualizat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nteres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our database and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fol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doesn’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lors to show further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883A5-5EC7-4F02-AB76-668A871F69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asn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81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4400"/>
            <a:ext cx="14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329E2-7EC9-44E0-A94B-0A99D246BD2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B38B-B96B-4652-87F8-9BDDF73BFDA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03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9457D-6309-4C72-BF48-A404D4623E7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04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56CE9-F0C5-4946-B244-27B0013F55D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05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D278E-788D-40D0-B5E7-8580CCC3678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06" descr=""/>
          <p:cNvPicPr/>
          <p:nvPr/>
        </p:nvPicPr>
        <p:blipFill>
          <a:blip r:embed="rId1"/>
          <a:stretch/>
        </p:blipFill>
        <p:spPr>
          <a:xfrm>
            <a:off x="0" y="-1440"/>
            <a:ext cx="9524880" cy="708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E1142-766B-4401-A598-C22F2775E95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07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495F6-95D5-4C9F-9CAD-E68A9F2765B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riginal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8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reliable collection of Internet and Lucent connectiv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annoying too man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some simple visualizations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8520" y="1447560"/>
            <a:ext cx="418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 of Internet grow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ools to probe intr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database for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7791B-F3A8-4D16-99F2-753F5BB058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08" descr=""/>
          <p:cNvPicPr/>
          <p:nvPr/>
        </p:nvPicPr>
        <p:blipFill>
          <a:blip r:embed="rId1"/>
          <a:stretch/>
        </p:blipFill>
        <p:spPr>
          <a:xfrm>
            <a:off x="0" y="-1440"/>
            <a:ext cx="960120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C335C-70A9-4DEF-A158-FF87003104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09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100C5-91A5-4C1B-BD5B-77300E5F25E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10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B87EE-23C2-411D-B023-73674922893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11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6A686-38D1-4B69-A4F0-C530120D881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12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33F41-0B19-494C-A37B-7A389559D1F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13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CF53A-E1D9-4068-A4CF-D153DB5931E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4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A9F87-77B5-40AE-8BD1-AB311D3F4C2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15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90DC0-CD8D-44E9-824E-97D2196260F6}" type="datetime3">
              <a:rPr lang="en-US"/>
              <a:t>July 29, 20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16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CE8C9-F9C3-4B51-9066-AF57B6C234A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8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8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AC7C8-B738-4CF9-9775-5F9CFD7CE9CE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s for the Internet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graph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routing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ly availabl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“open source”) for sp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database for graph theor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with other mappers to make an actual map of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59A22-CCB6-40E0-B0AB-1E56FB7EEB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21" descr=""/>
          <p:cNvPicPr/>
          <p:nvPr/>
        </p:nvPicPr>
        <p:blipFill>
          <a:blip r:embed="rId1"/>
          <a:stretch/>
        </p:blipFill>
        <p:spPr>
          <a:xfrm>
            <a:off x="0" y="-1440"/>
            <a:ext cx="9448920" cy="70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CDCE8-93A9-4D93-A68E-29E821D4FD2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maps c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6B124-FB9E-44C0-8CB7-6E2CE26911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Col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est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al (by T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, firewalls, LSRR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96D49-9DC9-4612-AD41-46FA411B4C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p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97560" y="144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IP addr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D14AC-AB1F-4E59-BF54-3A0A70641E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geo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97560" y="24300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g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9313B-1623-4072-9D53-3A857D2FA94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sp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94680" y="-6192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BBFEC-0328-4CA3-BCE8-C7EE7B8150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epth-big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7240" y="-61920"/>
            <a:ext cx="22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ored by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scanning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DA41D-E52F-47AF-99E0-C4B9150EB94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mil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96120" y="1440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S mil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ached by ICMP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F0D53-7FCA-49C3-A744-F7B72498F2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mil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10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96120" y="-61920"/>
            <a:ext cx="23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military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d by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8C680-A61B-494E-8ACB-B1B5ACB2196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eo.gif" descr=""/>
          <p:cNvPicPr/>
          <p:nvPr/>
        </p:nvPicPr>
        <p:blipFill>
          <a:blip r:embed="rId1"/>
          <a:stretch/>
        </p:blipFill>
        <p:spPr>
          <a:xfrm>
            <a:off x="0" y="-4680"/>
            <a:ext cx="9448920" cy="7091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981520" y="562932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op level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275DE-EB27-4E02-A8A7-EB1F083F2F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s for intranet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“inside” the security 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census of company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hosts that have unauthorized access to both the intranet and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ega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perly configured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perly configured telecommuters and branch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3ADB8-B295-4663-AA20-3468316D054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au.gif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68847-54CC-41AC-A295-4C4111F797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yu.gif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05129-6DBD-4DFA-A831-DB591499116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bia and Bos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7C5AB-D8CE-4F07-A981-C5702646EE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y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13CEB-2620-4D8E-BD8E-58DF837FDA2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448920" cy="64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E4BA0-AAE8-4C41-BF1E-14AEBB6C12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- Internet 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,000 of the world’s most important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150 routes to one destin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goslavia bombing of power infrastructure is ap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4877C-4DA8-4774-9803-6203B23C157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150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FD494-7898-4096-8DD9-0B513A3C921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5 October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000" y="123840"/>
          <a:ext cx="9090000" cy="59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123840"/>
                    <a:ext cx="90900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9B5F8-1674-4114-BAC6-F73FE92D517B}" type="datetime3">
              <a:rPr lang="en-US"/>
              <a:t>July 29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58680" y="63360"/>
          <a:ext cx="9070920" cy="676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63360"/>
                    <a:ext cx="9070920" cy="67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2DAA9-0DAE-4F0D-BC6E-F97A09A30F22}" type="datetime3">
              <a:rPr lang="en-US"/>
              <a:t>July 29, 20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ything large enough to be called an “intranet” i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 of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olling the Intranet 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8F684-EF8D-4843-B4E6-72FE3759630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y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August 1998 at Bell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-June 1999: Yugoslavia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00: first customer intranet sc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2000: spun off Lumeta from Lucent/Bell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4F229-BC1C-4661-A5EB-E3EF1F6AF06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the fault of network administrato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internet design frustrates centr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rs and acquisitions frustrate long-term network planning and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Os and auditors already know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4CCC2-AED9-41C7-85AB-75865516DE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new tools give new views of intran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s are mostly f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 can show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is bad, blue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olor the maps in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 value in the reports is the list of anomo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eaks, routing loops, open rout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D6242-3C74-4403-8E45-B4755C2A83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depth-screen-all" descr=""/>
          <p:cNvPicPr/>
          <p:nvPr/>
        </p:nvPicPr>
        <p:blipFill>
          <a:blip r:embed="rId1"/>
          <a:stretch/>
        </p:blipFill>
        <p:spPr>
          <a:xfrm>
            <a:off x="0" y="1440"/>
            <a:ext cx="9524880" cy="708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348DA-43BC-461E-B7F8-0AE0462F4A0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special0-screen-all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70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9A637-9619-45E8-B3B8-09CCE61C7E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special0-screen-mdst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70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4375E-76A3-467F-8860-81471104CBB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pecial1-screen-all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70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9CC72-DB5C-4BE8-BDD6-11D0EBD98C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lu2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70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A8C3-CABE-490B-BBA7-DD4402CCF80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lu4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3D59D-0660-4C15-A4CB-1E3C736BC7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spincodomains-screen-all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12040" y="41400"/>
            <a:ext cx="18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- av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 - B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89160" y="-349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-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13F65-8325-493B-8931-4C5C99C9274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1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70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0F7E1-E23E-4178-B47C-CE7CE641F8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Martin Dodge’s cyber geography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S - John Quart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IDA - kc claf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“internet map” in your search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39B6E-7C32-4BFA-92D4-4C1641F4DE9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m2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70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2620F-FB1E-4B0E-BE66-92C65B03A9E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m3" descr=""/>
          <p:cNvPicPr/>
          <p:nvPr/>
        </p:nvPicPr>
        <p:blipFill>
          <a:blip r:embed="rId1"/>
          <a:stretch/>
        </p:blipFill>
        <p:spPr>
          <a:xfrm>
            <a:off x="0" y="1440"/>
            <a:ext cx="9448920" cy="700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6FE20-852C-4DAC-83CD-99197712B1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1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139B9-7ACB-43D7-8F18-882CBAC3066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A5D46-9ED9-4716-AF7B-194C37D564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ps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94240" y="-187200"/>
            <a:ext cx="61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per second through newfangled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31FF8-049B-4724-9D6D-38A95084448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Just Pretty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are mostly f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network path, routing, and host anomo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5DC47-F694-4832-95A1-BDBBB4A7CAD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 rationalization (“routera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network routes (user suppli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scan: traceroute scan informa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can for perimeter l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BE2DD-37DA-40D6-A4D6-764846D6FC2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572240" cy="702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080AD-435A-4025-ADCD-5C8F3CFA66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ut Lum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utgrowth of 3 years of research &amp; development 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y and 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rule simulation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for risk, change and asset management for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6A827-B576-4253-B211-FEDD78B52E7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web and mai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route squ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s susceptible to broadcast st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unauthorized firewalls and interne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-configured telecommuting and branch office h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095B2-259F-4E3D-8842-EF2CA3CDAE6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363F8-9076-48B0-B378-991328F9BB42}" type="datetime3">
              <a:rPr lang="en-US"/>
              <a:t>July 29, 20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address spac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with busine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diligence tool for joint ventures, mergers, divestiture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508AE-55AD-43B0-A5C0-0FEBD623214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e s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dialup, using RA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tunnel, if you pre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D9BC8-8C81-4FB2-BDB3-861AC386FC5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a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end you a 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ccess a we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BS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time password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aranoi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8CB85-6338-4C96-BB88-2FBCD4067D2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ercial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 shi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p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gsaw puzz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k sca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68F81-F0E2-4B75-8DA7-9036E825F235}" type="datetime3">
              <a:rPr lang="en-US"/>
              <a:t>July 29, 20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: vis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te force works pretty nic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working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ing for 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: OpenGL and modern VGA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81FA9-E294-43EF-B70D-916317FAF93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work: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from multiple place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tch together the center into a full m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 in:  work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er Internet scan using GRE tu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how to make a time-lapse movie from the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F50E0-168A-4A51-8131-6E0340BD3B1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to get one of those cool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ockmap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the LISA quiz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eta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 for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on’t whine to us about your deadlines. We are a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maps for museums, research center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CA886-2711-481E-8B4B-02E7C36374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the Internet and Intran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ranigan, Hal Bur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@lumet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DD282-46A9-4EB4-9752-98943C960BD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52FF2-4BBA-414D-A1F2-9439F2AEEE55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4:38:07Z</dcterms:created>
  <dc:creator>Bill Cheswick</dc:creator>
  <dc:description/>
  <dc:language>en-US</dc:language>
  <cp:lastModifiedBy>Bill Cheswick</cp:lastModifiedBy>
  <cp:lastPrinted>2000-09-12T21:06:26Z</cp:lastPrinted>
  <dcterms:modified xsi:type="dcterms:W3CDTF">2000-12-07T21:57:43Z</dcterms:modified>
  <cp:revision>31</cp:revision>
  <dc:subject/>
  <dc:title>Mapping the Internet and Intranets</dc:title>
</cp:coreProperties>
</file>