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B9B18-20CB-43F5-817B-34E253D8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D6D0E-1E7C-4A33-BFCF-F1C3774F9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8A0EC-4380-44C5-87A7-DC30AEC9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CCC86-FF24-43B7-B46B-F1ED69860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DEF3-00D0-47BA-8FAE-AC02E5D17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935D-6494-4A86-B07D-40E61B45A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39CE-A740-47B2-9ED4-18373170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999A-9EE4-4CE8-BC55-C7361F5C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3FF1-5549-4F2C-89DA-00A7CE10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7193A-C656-4B7A-B9AE-057518C74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3D6F-80AD-410E-9E9E-BED638CC3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6057E-469A-48D2-B237-8AF8C8D13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B945-23A6-4C04-99C3-F467E33C78D8}"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2811-D788-434E-BF2E-7B8EFB71D5C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ion: is Windows NT suitable for a TC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0EF3B-C78D-4D26-B750-9CA93E1998DC}" type="slidenum">
              <a:t>1</a:t>
            </a:fld>
          </a:p>
        </p:txBody>
      </p:sp>
      <p:sp>
        <p:nvSpPr>
          <p:cNvPr id="5" name="PlaceHolder 4"/>
          <p:cNvSpPr>
            <a:spLocks noGrp="1"/>
          </p:cNvSpPr>
          <p:nvPr>
            <p:ph type="dt" idx="1"/>
          </p:nvPr>
        </p:nvSpPr>
        <p:spPr/>
        <p:txBody>
          <a:bodyPr/>
          <a:p>
            <a:fld id="{A879538F-A03F-4A7C-B760-4E3F5D5E469E}" type="datetime3">
              <a:rPr lang="en-US"/>
              <a:t>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le system has “stream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taught many of us that a file should be an array of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s are hidden byte sequences, as part of the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ive surprising information lea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not learn appear to learn the lessons of the proprietary software of the 70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2BFAD-C42D-48D6-ACFC-06F1DF539CB4}" type="slidenum">
              <a:t>10</a:t>
            </a:fld>
          </a:p>
        </p:txBody>
      </p:sp>
      <p:sp>
        <p:nvSpPr>
          <p:cNvPr id="5" name="PlaceHolder 4"/>
          <p:cNvSpPr>
            <a:spLocks noGrp="1"/>
          </p:cNvSpPr>
          <p:nvPr>
            <p:ph type="dt" idx="1"/>
          </p:nvPr>
        </p:nvSpPr>
        <p:spPr/>
        <p:txBody>
          <a:bodyPr/>
          <a:p>
            <a:fld id="{AF01C3D1-9A17-4678-AD0D-B13FB695E7AE}"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Ls are operating system extension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er is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r is sa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omplaint with shared libraries, dynamic kerne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AFCEE-D878-4393-A9A2-5F85AFC892F9}" type="slidenum">
              <a:t>11</a:t>
            </a:fld>
          </a:p>
        </p:txBody>
      </p:sp>
      <p:sp>
        <p:nvSpPr>
          <p:cNvPr id="5" name="PlaceHolder 4"/>
          <p:cNvSpPr>
            <a:spLocks noGrp="1"/>
          </p:cNvSpPr>
          <p:nvPr>
            <p:ph type="dt" idx="1"/>
          </p:nvPr>
        </p:nvSpPr>
        <p:spPr/>
        <p:txBody>
          <a:bodyPr/>
          <a:p>
            <a:fld id="{05EDE1AB-4206-4DAB-BDB3-38E28683FFDD}"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 code for NT is expensive and rarely see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s have source code widely available for inspection and com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ADA2B-B480-4881-BA0D-C95BBADB0BD1}" type="slidenum">
              <a:t>12</a:t>
            </a:fld>
          </a:p>
        </p:txBody>
      </p:sp>
      <p:sp>
        <p:nvSpPr>
          <p:cNvPr id="5" name="PlaceHolder 4"/>
          <p:cNvSpPr>
            <a:spLocks noGrp="1"/>
          </p:cNvSpPr>
          <p:nvPr>
            <p:ph type="dt" idx="1"/>
          </p:nvPr>
        </p:nvSpPr>
        <p:spPr/>
        <p:txBody>
          <a:bodyPr/>
          <a:p>
            <a:fld id="{424215C9-3FEB-4835-B8A2-5D425AF015A4}"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code is new</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ture” code is sa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experience in a hostile environment to increase confidence in a security 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8BE54B-F253-40FF-ABE7-883FA4106A85}" type="slidenum">
              <a:t>13</a:t>
            </a:fld>
          </a:p>
        </p:txBody>
      </p:sp>
      <p:sp>
        <p:nvSpPr>
          <p:cNvPr id="5" name="PlaceHolder 4"/>
          <p:cNvSpPr>
            <a:spLocks noGrp="1"/>
          </p:cNvSpPr>
          <p:nvPr>
            <p:ph type="dt" idx="1"/>
          </p:nvPr>
        </p:nvSpPr>
        <p:spPr/>
        <p:txBody>
          <a:bodyPr/>
          <a:p>
            <a:fld id="{30B328C0-0642-4A36-B905-50C6C46510A5}"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their admission: security is not MSFT’s main go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ay their customers aren’t asking for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don’t seem to be getting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program on purpose to get something approaching secur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0543AD-1509-458D-BAD3-A445399F7305}" type="slidenum">
              <a:t>14</a:t>
            </a:fld>
          </a:p>
        </p:txBody>
      </p:sp>
      <p:sp>
        <p:nvSpPr>
          <p:cNvPr id="5" name="PlaceHolder 4"/>
          <p:cNvSpPr>
            <a:spLocks noGrp="1"/>
          </p:cNvSpPr>
          <p:nvPr>
            <p:ph type="dt" idx="1"/>
          </p:nvPr>
        </p:nvSpPr>
        <p:spPr/>
        <p:txBody>
          <a:bodyPr/>
          <a:p>
            <a:fld id="{6345DA37-EAE3-422E-911C-03089185170B}"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ion: is Windows NT suitable for a TCB?</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D-based opinion: It appears that the best security perimeter around NT is the shrink-wrap on the box</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BB115-8901-4BC3-9CD5-85B548B9AC5B}" type="slidenum">
              <a:t>15</a:t>
            </a:fld>
          </a:p>
        </p:txBody>
      </p:sp>
      <p:sp>
        <p:nvSpPr>
          <p:cNvPr id="5" name="PlaceHolder 4"/>
          <p:cNvSpPr>
            <a:spLocks noGrp="1"/>
          </p:cNvSpPr>
          <p:nvPr>
            <p:ph type="dt" idx="1"/>
          </p:nvPr>
        </p:nvSpPr>
        <p:spPr/>
        <p:txBody>
          <a:bodyPr/>
          <a:p>
            <a:fld id="{F6E3DE8F-700C-47D4-AFDD-61CD69325B8B}"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1</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a satisfied stockholder of MSF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ne of the world’s best growth stocks, a likely to remain so</a:t>
            </a:r>
            <a:endParaRPr b="0" lang="en-US" sz="3200" spc="-1" strike="noStrike">
              <a:solidFill>
                <a:srgbClr val="000000"/>
              </a:solidFill>
              <a:latin typeface="Times New Roman"/>
            </a:endParaRPr>
          </a:p>
          <a:p>
            <a:pPr lvl="1" marL="735480" indent="-28296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a:t>
            </a:r>
            <a:r>
              <a:rPr b="0" lang="en-US" sz="2000" spc="-1" strike="noStrike">
                <a:solidFill>
                  <a:srgbClr val="000000"/>
                </a:solidFill>
                <a:latin typeface="Times New Roman"/>
              </a:rPr>
              <a:t> </a:t>
            </a:r>
            <a:r>
              <a:rPr b="0" lang="en-US" sz="2400" spc="-1" strike="noStrike">
                <a:solidFill>
                  <a:srgbClr val="000000"/>
                </a:solidFill>
                <a:latin typeface="Times New Roman"/>
              </a:rPr>
              <a:t>is not</a:t>
            </a:r>
            <a:r>
              <a:rPr b="0" lang="en-US" sz="2000" spc="-1" strike="noStrike">
                <a:solidFill>
                  <a:srgbClr val="000000"/>
                </a:solidFill>
                <a:latin typeface="Times New Roman"/>
              </a:rPr>
              <a:t> </a:t>
            </a:r>
            <a:r>
              <a:rPr b="0" lang="en-US" sz="2400" spc="-1" strike="noStrike">
                <a:solidFill>
                  <a:srgbClr val="000000"/>
                </a:solidFill>
                <a:latin typeface="Times New Roman"/>
              </a:rPr>
              <a:t>a solicitation</a:t>
            </a:r>
            <a:r>
              <a:rPr b="0" lang="en-US" sz="1600" spc="-1" strike="noStrike">
                <a:solidFill>
                  <a:srgbClr val="000000"/>
                </a:solidFill>
                <a:latin typeface="Times New Roman"/>
              </a:rPr>
              <a:t> </a:t>
            </a:r>
            <a:r>
              <a:rPr b="0" lang="en-US" sz="1800" spc="-1" strike="noStrike">
                <a:solidFill>
                  <a:srgbClr val="000000"/>
                </a:solidFill>
                <a:latin typeface="Times New Roman"/>
              </a:rPr>
              <a:t>to buy, nor an offer</a:t>
            </a:r>
            <a:r>
              <a:rPr b="0" lang="en-US" sz="1600" spc="-1" strike="noStrike">
                <a:solidFill>
                  <a:srgbClr val="000000"/>
                </a:solidFill>
                <a:latin typeface="Times New Roman"/>
              </a:rPr>
              <a:t> to sell</a:t>
            </a:r>
            <a:r>
              <a:rPr b="0" lang="en-US" sz="1200" spc="-1" strike="noStrike">
                <a:solidFill>
                  <a:srgbClr val="000000"/>
                </a:solidFill>
                <a:latin typeface="Times New Roman"/>
              </a:rPr>
              <a:t> </a:t>
            </a:r>
            <a:r>
              <a:rPr b="0" lang="en-US" sz="1400" spc="-1" strike="noStrike">
                <a:solidFill>
                  <a:srgbClr val="000000"/>
                </a:solidFill>
                <a:latin typeface="Times New Roman"/>
              </a:rPr>
              <a:t>this stock</a:t>
            </a:r>
            <a:r>
              <a:rPr b="0" lang="en-US" sz="1200" spc="-1" strike="noStrike">
                <a:solidFill>
                  <a:srgbClr val="000000"/>
                </a:solidFill>
                <a:latin typeface="Times New Roman"/>
              </a:rPr>
              <a:t>, which in the US may only be made by the prospectus.  Read the prospectus carefully. Your mileage may vary.  See dealer for details. Offer may not be valid in some areas. Offer subject to availability.  Some conditions apply. Past performance does not guarantee future results, </a:t>
            </a:r>
            <a:r>
              <a:rPr b="0" lang="en-US" sz="1000" spc="-1" strike="noStrike">
                <a:solidFill>
                  <a:srgbClr val="000000"/>
                </a:solidFill>
                <a:latin typeface="Times New Roman"/>
              </a:rPr>
              <a:t>but it sure as hell may give a strong indication, as any decent growth stock investor can sure tell you. I am not sure how you buy an American stock here in the UK.  There must be ADRs, or some such mechanism. There must be a way, and if you buy the company now, I strongly believe that you will be glad you did in 2005, which isn’t that long an investment horizon.  Even if the US Justice Department splits the company into little pieces, the pieces are likely to continue their growth, as the records of other divestitures, like both of AT&amp;T’s, has shown.  Can you imagine what the world would be like today if the IBM suit in the 1970s ended in the split of IBM?  What monster offspring they would likely be today! Perhaps MSFT and INTC would not be the giants they are today, with smaller motivated IBM shards competing for the then-new PC market.  A hardware company to make the chips. A software company that didn’t ask two guys in a garage for their operating system! Imagine the effect on the US GNP.  Perhaps they would have chosen Motorola for their CPUs, which was a much saner and more regular architecture. Did you know that the INTC chips still have circuitry and design choices made in the 8088 and earlier?! Granted, it is not much in terms of silicon real estate, but there it 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236F99C-395A-4D31-B25F-EE4371E65A8F}" type="slidenum">
              <a:t>2</a:t>
            </a:fld>
          </a:p>
        </p:txBody>
      </p:sp>
      <p:sp>
        <p:nvSpPr>
          <p:cNvPr id="5" name="PlaceHolder 4"/>
          <p:cNvSpPr>
            <a:spLocks noGrp="1"/>
          </p:cNvSpPr>
          <p:nvPr>
            <p:ph type="dt" idx="1"/>
          </p:nvPr>
        </p:nvSpPr>
        <p:spPr/>
        <p:txBody>
          <a:bodyPr/>
          <a:p>
            <a:fld id="{3041EF7F-6882-4CAE-BDB2-5F75D92FDB3A}"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2</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rk in the CSRG in Bell La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invented Unix, Plan 9, Infer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s m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5F269B-98D6-4E89-9CBA-5D41BE91DB0A}" type="slidenum">
              <a:t>3</a:t>
            </a:fld>
          </a:p>
        </p:txBody>
      </p:sp>
      <p:sp>
        <p:nvSpPr>
          <p:cNvPr id="5" name="PlaceHolder 4"/>
          <p:cNvSpPr>
            <a:spLocks noGrp="1"/>
          </p:cNvSpPr>
          <p:nvPr>
            <p:ph type="dt" idx="1"/>
          </p:nvPr>
        </p:nvSpPr>
        <p:spPr/>
        <p:txBody>
          <a:bodyPr/>
          <a:p>
            <a:fld id="{7A74EFDF-1E58-478E-86F4-7E42BA4D5489}"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3</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much about Windows 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logged less than two hours actually using Windows 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49D0C5-153F-4992-895E-DDA598437F1B}" type="slidenum">
              <a:t>4</a:t>
            </a:fld>
          </a:p>
        </p:txBody>
      </p:sp>
      <p:sp>
        <p:nvSpPr>
          <p:cNvPr id="5" name="PlaceHolder 4"/>
          <p:cNvSpPr>
            <a:spLocks noGrp="1"/>
          </p:cNvSpPr>
          <p:nvPr>
            <p:ph type="dt" idx="1"/>
          </p:nvPr>
        </p:nvSpPr>
        <p:spPr/>
        <p:txBody>
          <a:bodyPr/>
          <a:p>
            <a:fld id="{EE6DEB02-BE01-4B28-B770-DEDDAA28D91A}"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I have been told about Windows NT</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74EE17-97B1-4B48-BBE9-3C29BA86EB86}" type="slidenum">
              <a:t>5</a:t>
            </a:fld>
          </a:p>
        </p:txBody>
      </p:sp>
      <p:sp>
        <p:nvSpPr>
          <p:cNvPr id="5" name="PlaceHolder 4"/>
          <p:cNvSpPr>
            <a:spLocks noGrp="1"/>
          </p:cNvSpPr>
          <p:nvPr>
            <p:ph type="dt" idx="1"/>
          </p:nvPr>
        </p:nvSpPr>
        <p:spPr/>
        <p:txBody>
          <a:bodyPr/>
          <a:p>
            <a:fld id="{82FE7AF5-924A-4E86-9DEC-F956D4E794A6}"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5.0 has 16,000,000 lines of new cod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is safer, easier to und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new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new security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no plus firewall fits on a floppy d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66AA53-DD59-405D-847E-786889421193}" type="slidenum">
              <a:t>6</a:t>
            </a:fld>
          </a:p>
        </p:txBody>
      </p:sp>
      <p:sp>
        <p:nvSpPr>
          <p:cNvPr id="5" name="PlaceHolder 4"/>
          <p:cNvSpPr>
            <a:spLocks noGrp="1"/>
          </p:cNvSpPr>
          <p:nvPr>
            <p:ph type="dt" idx="1"/>
          </p:nvPr>
        </p:nvSpPr>
        <p:spPr/>
        <p:txBody>
          <a:bodyPr/>
          <a:p>
            <a:fld id="{25EB6784-9A62-4229-B65D-2D7DC5798A25}"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is uns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advised to reboot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of memory leaks and other programming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of code out of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operating systems run for months, until power interrup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C8E87F-6C9E-4A0B-85BA-22AA1E441006}" type="slidenum">
              <a:t>7</a:t>
            </a:fld>
          </a:p>
        </p:txBody>
      </p:sp>
      <p:sp>
        <p:nvSpPr>
          <p:cNvPr id="5" name="PlaceHolder 4"/>
          <p:cNvSpPr>
            <a:spLocks noGrp="1"/>
          </p:cNvSpPr>
          <p:nvPr>
            <p:ph type="dt" idx="1"/>
          </p:nvPr>
        </p:nvSpPr>
        <p:spPr/>
        <p:txBody>
          <a:bodyPr/>
          <a:p>
            <a:fld id="{766515F9-EDE2-450C-A98B-4A28FBB556F7}"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is inefficient</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to universal MS usage reminds me of IBM in the 70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ne site, 20 4-CPU Compaqs running NT replaced by two Unix boxes</a:t>
            </a:r>
            <a:endParaRPr b="0" lang="en-US" sz="28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NT, Linux, etc. requires configuration to achieve a reasonable TC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remove software from Linux to make it more sec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inspire confidence in the co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B364163-9CF4-492B-B8BE-025829BA2F9A}" type="slidenum">
              <a:t>8</a:t>
            </a:fld>
          </a:p>
        </p:txBody>
      </p:sp>
      <p:sp>
        <p:nvSpPr>
          <p:cNvPr id="6" name="PlaceHolder 5"/>
          <p:cNvSpPr>
            <a:spLocks noGrp="1"/>
          </p:cNvSpPr>
          <p:nvPr>
            <p:ph type="dt" idx="1"/>
          </p:nvPr>
        </p:nvSpPr>
        <p:spPr/>
        <p:txBody>
          <a:bodyPr/>
          <a:p>
            <a:fld id="{955F43D0-95C4-4221-A542-2BAE6A8B5CA9}"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kie errors in MS authorization over PPTP</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uce Schneier’s ACM CCS-5 paper last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as been fi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FT has world-class cryptographers, but clearly didn’t us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r attitude tells me more about software than tiger teams and certific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DB267E-67E3-4A60-BA37-BBBE4343C0D0}" type="slidenum">
              <a:t>9</a:t>
            </a:fld>
          </a:p>
        </p:txBody>
      </p:sp>
      <p:sp>
        <p:nvSpPr>
          <p:cNvPr id="5" name="PlaceHolder 4"/>
          <p:cNvSpPr>
            <a:spLocks noGrp="1"/>
          </p:cNvSpPr>
          <p:nvPr>
            <p:ph type="dt" idx="1"/>
          </p:nvPr>
        </p:nvSpPr>
        <p:spPr/>
        <p:txBody>
          <a:bodyPr/>
          <a:p>
            <a:fld id="{2A8A4DF2-7819-463A-A239-304764114695}"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2T07:43:40Z</dcterms:created>
  <dc:creator>Bill Cheswick</dc:creator>
  <dc:description/>
  <dc:language>en-US</dc:language>
  <cp:lastModifiedBy>Bill Cheswick</cp:lastModifiedBy>
  <dcterms:modified xsi:type="dcterms:W3CDTF">1998-11-12T10:38:24Z</dcterms:modified>
  <cp:revision>9</cp:revision>
  <dc:subject/>
  <dc:title>The Case Against Windows NT Security</dc:title>
</cp:coreProperties>
</file>