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6.xml.rels" ContentType="application/vnd.openxmlformats-package.relationships+xml"/>
  <Override PartName="/ppt/notesSlides/_rels/notesSlide95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D0442-1A97-4A81-9CD3-354AADCB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ghly increasing order of risk/time/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ly debatable and changeable, but order of magnitude is abou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 Microsoft spelling checker suggested ‘cyaniding’ as the correct spelling for ‘sysadmi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00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651880" y="6485040"/>
            <a:ext cx="401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437BB7E-422C-4AED-A10D-E3F5E0C6B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6334200"/>
            <a:ext cx="428760" cy="419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net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320" y="3505320"/>
            <a:ext cx="9066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cs.bell-labs.com/~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ks to a host with so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CP supplies a reliable connection to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one can invent a new protocol between two h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s up “circuit” between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s a stream of data into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ssembles packets into a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1 -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l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table for some network services that don’t have to be reliable, lik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are nu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42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kets have limited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ropped in transit i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arrive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u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ressing by IP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49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rdwar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able if on sam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attacks that fiddle at thi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56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ion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less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w enforcement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made them k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 - I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hanged with Border Gateway Protocol (BGP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1,000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s most n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incentives are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 the backbones get fa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ow is the Internet Different From the Telephone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lain Old Tel. System (PO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authority - the phon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nection base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ing records available per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 understood by leg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ized provisions for law enfor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retapping, t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 hoc collection of TCP/IP inter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real central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entral knowledge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er-packet billing, in most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e equipment too busy to help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g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Remote Attacks are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s can be “laundered” through many ho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anonym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verage defender is clu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back can be ver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less I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norant 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aties with foreig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not be against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Weakest Link Compromises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many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ity requires discipline: not found in marke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nocul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mall set of targe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planting Kansas with a single strain of wheat, or vineyards with a single root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ers develop attack software for the rest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Uses These Atta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ng people with too much time and no girl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fessional consul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Unsaf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safe services are found in many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safe protocols are subject to wire-tapping and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afer services and protocols are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ost with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Network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28960" y="1943280"/>
            <a:ext cx="3692520" cy="91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92680" y="213516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28960" y="4343400"/>
            <a:ext cx="3692520" cy="912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9880" y="4535640"/>
            <a:ext cx="176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775040" y="2857680"/>
            <a:ext cx="0" cy="1485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13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4008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4864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99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4704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1655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591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969240" y="3351240"/>
            <a:ext cx="1758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29400" y="3733920"/>
            <a:ext cx="533520" cy="304560"/>
          </a:xfrm>
          <a:prstGeom prst="line">
            <a:avLst/>
          </a:prstGeom>
          <a:ln w="7632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au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security is usually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fault service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GI work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defaul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96960" y="2332080"/>
            <a:ext cx="79088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Excuse me, waiter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but I think my me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s still aliv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angerou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ctiv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y are they insec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gs in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handle give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fo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graphically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y are they insec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login, rsh, 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ed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ear text leaks sec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rminal can be taken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al keystr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che wrong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 address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bug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 to set up saf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GI scripts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Java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ere do Program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18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is model is wro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25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76320"/>
            <a:ext cx="8991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plets run in an incompletel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ined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590920"/>
            <a:ext cx="213372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1752480"/>
            <a:ext cx="388620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790800" y="1935000"/>
            <a:ext cx="156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606840" y="3306600"/>
            <a:ext cx="193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ava’s “sandbox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incomplet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different for each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ten optimized for speed, no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“native methods”, which can break the 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eX^H^H^H^H^H^H^H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Java, but no sandbox at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other problem with strang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af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hentic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ge/un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stom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niff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“eavesdropp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76240" y="1762200"/>
            <a:ext cx="7353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iffing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249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4572000" y="2800440"/>
            <a:ext cx="0" cy="2571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46240" y="3886200"/>
            <a:ext cx="162576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thernet and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never secure from eavesd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ing” tools a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b host name, user name,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dit card numbers are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1,000,000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It doesn’t matter how good your password is if it can be sniff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 - eve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igital Pathway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79760" y="1946160"/>
            <a:ext cx="21654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81120" y="1881360"/>
            <a:ext cx="649620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usted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eats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ddress-base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rlogin, rsh, tcp w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vailable to the hackers, they don’t have to be TCP/IP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Normal TCP connection,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nitial SYN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Response to Open, connection is “half ope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lient completes handshake, TCP connection is now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228600"/>
            <a:ext cx="7772400" cy="159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termine Likely </a:t>
            </a:r>
            <a:r>
              <a:rPr b="0" lang="en-US" sz="4400" spc="-1" strike="noStrike">
                <a:solidFill>
                  <a:srgbClr val="3333ff"/>
                </a:solidFill>
                <a:latin typeface="Book Antiqua"/>
                <a:ea typeface="Book Antiqua"/>
              </a:rPr>
              <a:t>SEQ</a:t>
            </a:r>
            <a:r>
              <a:rPr b="0" lang="en-US" sz="4400" spc="-1" strike="noStrike" baseline="-25000">
                <a:solidFill>
                  <a:srgbClr val="3333ff"/>
                </a:solidFill>
                <a:latin typeface="Book Antiqua"/>
                <a:ea typeface="Book Antiqu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724280" y="327672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029200" y="358128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1160" y="2179800"/>
            <a:ext cx="67928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No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 do not wish 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rent your hou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uppress the Truste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243828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222720" y="3351240"/>
            <a:ext cx="30052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uppress the Truste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22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ttacker opens connection “from” truste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32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pen seems to come from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rusted cl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44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er responds to dea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57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poof final open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70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19400" y="446580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“Open” is 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84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pen Server to outsid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98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191120"/>
            <a:ext cx="1752840" cy="1143360"/>
          </a:xfrm>
          <a:custGeom>
            <a:avLst/>
            <a:gdLst/>
            <a:ahLst/>
            <a:rect l="0" t="0" r="r" b="b"/>
            <a:pathLst>
              <a:path fill="none" w="4869" h="3176">
                <a:moveTo>
                  <a:pt x="4869" y="0"/>
                </a:moveTo>
                <a:lnTo>
                  <a:pt x="4869" y="0"/>
                </a:lnTo>
                <a:cubicBezTo>
                  <a:pt x="4014" y="0"/>
                  <a:pt x="3175" y="147"/>
                  <a:pt x="2434" y="426"/>
                </a:cubicBezTo>
                <a:cubicBezTo>
                  <a:pt x="1694" y="704"/>
                  <a:pt x="1080" y="1105"/>
                  <a:pt x="652" y="1588"/>
                </a:cubicBezTo>
                <a:cubicBezTo>
                  <a:pt x="22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46560" y="477036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reventing 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oofing can be stopped at the 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inside addresses may come from the outs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to have a coherent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can prevent access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-based authentication is a BA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ttacker is watching a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Kill the client connec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43828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5360" y="4494240"/>
            <a:ext cx="2598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…</a:t>
            </a: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nd continue th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2743200"/>
            <a:ext cx="2667240" cy="2591280"/>
          </a:xfrm>
          <a:custGeom>
            <a:avLst/>
            <a:gdLst/>
            <a:ahLst/>
            <a:rect l="0" t="0" r="r" b="b"/>
            <a:pathLst>
              <a:path fill="none" w="7409" h="7198">
                <a:moveTo>
                  <a:pt x="7409" y="0"/>
                </a:moveTo>
                <a:lnTo>
                  <a:pt x="7409" y="0"/>
                </a:lnTo>
                <a:cubicBezTo>
                  <a:pt x="6108" y="0"/>
                  <a:pt x="4831" y="333"/>
                  <a:pt x="3704" y="964"/>
                </a:cubicBezTo>
                <a:cubicBezTo>
                  <a:pt x="2578" y="1596"/>
                  <a:pt x="1643" y="2505"/>
                  <a:pt x="993" y="3599"/>
                </a:cubicBezTo>
                <a:cubicBezTo>
                  <a:pt x="342" y="4693"/>
                  <a:pt x="0" y="5934"/>
                  <a:pt x="0" y="7198"/>
                </a:cubicBezTo>
              </a:path>
            </a:pathLst>
          </a:cu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36232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custDash>
              <a:ds d="198592" sp="198592"/>
              <a:ds d="100000" sp="198592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057400" y="2438280"/>
            <a:ext cx="685800" cy="685800"/>
            <a:chOff x="2057400" y="2438280"/>
            <a:chExt cx="685800" cy="685800"/>
          </a:xfrm>
        </p:grpSpPr>
        <p:sp>
          <p:nvSpPr>
            <p:cNvPr id="439" name=""/>
            <p:cNvSpPr/>
            <p:nvPr/>
          </p:nvSpPr>
          <p:spPr>
            <a:xfrm>
              <a:off x="2057400" y="2438280"/>
              <a:ext cx="685800" cy="6858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 hi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es over an existing, authenticated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 access to the packet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re available to the hacker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yptographic authentication can defea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nial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44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4775040" y="1771560"/>
            <a:ext cx="3149640" cy="3600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572000" y="2343240"/>
            <a:ext cx="3657600" cy="30290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2031840" y="2286000"/>
            <a:ext cx="264168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1930320" y="3371760"/>
            <a:ext cx="2743200" cy="1943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320840" y="4514760"/>
            <a:ext cx="3251160" cy="800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673520" y="2914560"/>
            <a:ext cx="914400" cy="2400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72000" y="2286000"/>
            <a:ext cx="233676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4165560" y="3200400"/>
            <a:ext cx="507960" cy="2171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72000" y="2914560"/>
            <a:ext cx="3657600" cy="2457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673520" y="3600360"/>
            <a:ext cx="3353040" cy="17719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775040" y="4114800"/>
            <a:ext cx="3962520" cy="1257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75040" y="571680"/>
            <a:ext cx="2438640" cy="4800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641680" y="1542960"/>
            <a:ext cx="2133360" cy="3829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609480" y="3543480"/>
            <a:ext cx="416556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nial-of-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ers can exploit poor local software o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 with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CP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CP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781680" y="2765520"/>
            <a:ext cx="22096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ff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3440" y="2103480"/>
            <a:ext cx="41497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Tantal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pentox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Ta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ng f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dentify ping generator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rigger packets with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poofed return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3733920"/>
            <a:ext cx="1981440" cy="1448280"/>
          </a:xfrm>
          <a:custGeom>
            <a:avLst/>
            <a:gdLst/>
            <a:ahLst/>
            <a:rect l="0" t="0" r="r" b="b"/>
            <a:pathLst>
              <a:path fill="none" w="5504" h="4023">
                <a:moveTo>
                  <a:pt x="5504" y="4023"/>
                </a:moveTo>
                <a:lnTo>
                  <a:pt x="5504" y="4023"/>
                </a:lnTo>
                <a:lnTo>
                  <a:pt x="5504" y="4023"/>
                </a:lnTo>
                <a:cubicBezTo>
                  <a:pt x="5504" y="3317"/>
                  <a:pt x="5250" y="2623"/>
                  <a:pt x="4767" y="2011"/>
                </a:cubicBezTo>
                <a:cubicBezTo>
                  <a:pt x="4284" y="1400"/>
                  <a:pt x="3589" y="892"/>
                  <a:pt x="2752" y="539"/>
                </a:cubicBezTo>
                <a:cubicBezTo>
                  <a:pt x="1915" y="186"/>
                  <a:pt x="966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742840" y="3886200"/>
            <a:ext cx="3811320" cy="1328760"/>
          </a:xfrm>
          <a:custGeom>
            <a:avLst/>
            <a:gdLst/>
            <a:ahLst/>
            <a:rect l="0" t="0" r="r" b="b"/>
            <a:pathLst>
              <a:path fill="none" w="10587" h="3691">
                <a:moveTo>
                  <a:pt x="10587" y="3691"/>
                </a:moveTo>
                <a:lnTo>
                  <a:pt x="10587" y="3691"/>
                </a:lnTo>
                <a:cubicBezTo>
                  <a:pt x="10515" y="3099"/>
                  <a:pt x="10254" y="2526"/>
                  <a:pt x="9821" y="2012"/>
                </a:cubicBezTo>
                <a:cubicBezTo>
                  <a:pt x="9306" y="1400"/>
                  <a:pt x="8565" y="893"/>
                  <a:pt x="7673" y="539"/>
                </a:cubicBezTo>
                <a:cubicBezTo>
                  <a:pt x="6781" y="186"/>
                  <a:pt x="5770" y="0"/>
                  <a:pt x="4740" y="0"/>
                </a:cubicBezTo>
                <a:cubicBezTo>
                  <a:pt x="3710" y="0"/>
                  <a:pt x="2698" y="186"/>
                  <a:pt x="1806" y="539"/>
                </a:cubicBezTo>
                <a:cubicBezTo>
                  <a:pt x="1097" y="820"/>
                  <a:pt x="482" y="1199"/>
                  <a:pt x="0" y="1652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3505320"/>
            <a:ext cx="3734280" cy="1752840"/>
          </a:xfrm>
          <a:custGeom>
            <a:avLst/>
            <a:gdLst/>
            <a:ahLst/>
            <a:rect l="0" t="0" r="r" b="b"/>
            <a:pathLst>
              <a:path fill="none" w="10373" h="4869">
                <a:moveTo>
                  <a:pt x="10373" y="4869"/>
                </a:moveTo>
                <a:lnTo>
                  <a:pt x="10373" y="4869"/>
                </a:lnTo>
                <a:lnTo>
                  <a:pt x="10373" y="4869"/>
                </a:lnTo>
                <a:cubicBezTo>
                  <a:pt x="10373" y="4014"/>
                  <a:pt x="9894" y="3175"/>
                  <a:pt x="8983" y="2434"/>
                </a:cubicBezTo>
                <a:cubicBezTo>
                  <a:pt x="8073" y="1694"/>
                  <a:pt x="6763" y="1080"/>
                  <a:pt x="5186" y="652"/>
                </a:cubicBezTo>
                <a:cubicBezTo>
                  <a:pt x="3610" y="225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2133720"/>
            <a:ext cx="3734280" cy="3200760"/>
          </a:xfrm>
          <a:custGeom>
            <a:avLst/>
            <a:gdLst/>
            <a:ahLst/>
            <a:rect l="0" t="0" r="r" b="b"/>
            <a:pathLst>
              <a:path fill="none" w="10373" h="8891">
                <a:moveTo>
                  <a:pt x="10373" y="8891"/>
                </a:moveTo>
                <a:lnTo>
                  <a:pt x="10373" y="8891"/>
                </a:lnTo>
                <a:lnTo>
                  <a:pt x="10373" y="8891"/>
                </a:lnTo>
                <a:cubicBezTo>
                  <a:pt x="10373" y="7330"/>
                  <a:pt x="9894" y="5797"/>
                  <a:pt x="8983" y="4445"/>
                </a:cubicBezTo>
                <a:cubicBezTo>
                  <a:pt x="8073" y="3094"/>
                  <a:pt x="6763" y="1972"/>
                  <a:pt x="5186" y="1191"/>
                </a:cubicBezTo>
                <a:cubicBezTo>
                  <a:pt x="3610" y="411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1828800"/>
            <a:ext cx="5258160" cy="3505680"/>
          </a:xfrm>
          <a:custGeom>
            <a:avLst/>
            <a:gdLst/>
            <a:ahLst/>
            <a:rect l="0" t="0" r="r" b="b"/>
            <a:pathLst>
              <a:path fill="none" w="14606" h="9738">
                <a:moveTo>
                  <a:pt x="14606" y="9738"/>
                </a:moveTo>
                <a:lnTo>
                  <a:pt x="14606" y="9738"/>
                </a:lnTo>
                <a:lnTo>
                  <a:pt x="14606" y="9738"/>
                </a:lnTo>
                <a:cubicBezTo>
                  <a:pt x="14606" y="8029"/>
                  <a:pt x="13931" y="6349"/>
                  <a:pt x="12649" y="4869"/>
                </a:cubicBezTo>
                <a:cubicBezTo>
                  <a:pt x="11367" y="3389"/>
                  <a:pt x="9523" y="2159"/>
                  <a:pt x="7303" y="1305"/>
                </a:cubicBezTo>
                <a:cubicBezTo>
                  <a:pt x="5083" y="450"/>
                  <a:pt x="2564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3581280"/>
            <a:ext cx="5639040" cy="1752840"/>
          </a:xfrm>
          <a:custGeom>
            <a:avLst/>
            <a:gdLst/>
            <a:ahLst/>
            <a:rect l="0" t="0" r="r" b="b"/>
            <a:pathLst>
              <a:path fill="none" w="15664" h="4869">
                <a:moveTo>
                  <a:pt x="15664" y="4869"/>
                </a:moveTo>
                <a:lnTo>
                  <a:pt x="15664" y="4869"/>
                </a:lnTo>
                <a:lnTo>
                  <a:pt x="15664" y="4869"/>
                </a:lnTo>
                <a:cubicBezTo>
                  <a:pt x="15664" y="4014"/>
                  <a:pt x="14940" y="3175"/>
                  <a:pt x="13565" y="2434"/>
                </a:cubicBezTo>
                <a:cubicBezTo>
                  <a:pt x="12191" y="1694"/>
                  <a:pt x="10213" y="1080"/>
                  <a:pt x="7832" y="652"/>
                </a:cubicBezTo>
                <a:cubicBezTo>
                  <a:pt x="5451" y="225"/>
                  <a:pt x="2750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Generators flood the target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ith pa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1828800"/>
            <a:ext cx="5258160" cy="1600560"/>
          </a:xfrm>
          <a:custGeom>
            <a:avLst/>
            <a:gdLst/>
            <a:ahLst/>
            <a:rect l="0" t="0" r="r" b="b"/>
            <a:pathLst>
              <a:path fill="none" w="14606" h="4446">
                <a:moveTo>
                  <a:pt x="0" y="0"/>
                </a:moveTo>
                <a:lnTo>
                  <a:pt x="1905" y="1481"/>
                </a:lnTo>
                <a:lnTo>
                  <a:pt x="4233" y="2964"/>
                </a:lnTo>
                <a:lnTo>
                  <a:pt x="7196" y="3387"/>
                </a:lnTo>
                <a:lnTo>
                  <a:pt x="7293" y="3519"/>
                </a:lnTo>
                <a:lnTo>
                  <a:pt x="12066" y="4446"/>
                </a:lnTo>
                <a:lnTo>
                  <a:pt x="14606" y="4446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2057400"/>
            <a:ext cx="4038840" cy="1600560"/>
          </a:xfrm>
          <a:custGeom>
            <a:avLst/>
            <a:gdLst/>
            <a:ahLst/>
            <a:rect l="0" t="0" r="r" b="b"/>
            <a:pathLst>
              <a:path fill="none" w="11219" h="4446">
                <a:moveTo>
                  <a:pt x="0" y="0"/>
                </a:moveTo>
                <a:lnTo>
                  <a:pt x="3598" y="1693"/>
                </a:lnTo>
                <a:lnTo>
                  <a:pt x="6139" y="2752"/>
                </a:lnTo>
                <a:lnTo>
                  <a:pt x="8467" y="4446"/>
                </a:lnTo>
                <a:lnTo>
                  <a:pt x="11219" y="423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66680" y="2971800"/>
            <a:ext cx="6096240" cy="686160"/>
          </a:xfrm>
          <a:custGeom>
            <a:avLst/>
            <a:gdLst/>
            <a:ahLst/>
            <a:rect l="0" t="0" r="r" b="b"/>
            <a:pathLst>
              <a:path fill="none" w="16934" h="1906">
                <a:moveTo>
                  <a:pt x="0" y="1694"/>
                </a:moveTo>
                <a:lnTo>
                  <a:pt x="3386" y="1059"/>
                </a:lnTo>
                <a:lnTo>
                  <a:pt x="5926" y="0"/>
                </a:lnTo>
                <a:lnTo>
                  <a:pt x="9314" y="635"/>
                </a:lnTo>
                <a:lnTo>
                  <a:pt x="14394" y="1906"/>
                </a:lnTo>
                <a:lnTo>
                  <a:pt x="16934" y="169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43200" y="3124080"/>
            <a:ext cx="4496040" cy="762480"/>
          </a:xfrm>
          <a:custGeom>
            <a:avLst/>
            <a:gdLst/>
            <a:ahLst/>
            <a:rect l="0" t="0" r="r" b="b"/>
            <a:pathLst>
              <a:path fill="none" w="12489" h="2118">
                <a:moveTo>
                  <a:pt x="0" y="1482"/>
                </a:moveTo>
                <a:lnTo>
                  <a:pt x="1905" y="2118"/>
                </a:lnTo>
                <a:lnTo>
                  <a:pt x="2037" y="2083"/>
                </a:lnTo>
                <a:lnTo>
                  <a:pt x="4868" y="1695"/>
                </a:lnTo>
                <a:lnTo>
                  <a:pt x="4859" y="1598"/>
                </a:lnTo>
                <a:lnTo>
                  <a:pt x="7409" y="0"/>
                </a:lnTo>
                <a:lnTo>
                  <a:pt x="9314" y="1482"/>
                </a:lnTo>
                <a:lnTo>
                  <a:pt x="12489" y="1059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19520" y="3048120"/>
            <a:ext cx="4267440" cy="1448280"/>
          </a:xfrm>
          <a:custGeom>
            <a:avLst/>
            <a:gdLst/>
            <a:ahLst/>
            <a:rect l="0" t="0" r="r" b="b"/>
            <a:pathLst>
              <a:path fill="none" w="11854" h="4023">
                <a:moveTo>
                  <a:pt x="0" y="4023"/>
                </a:moveTo>
                <a:lnTo>
                  <a:pt x="1693" y="2329"/>
                </a:lnTo>
                <a:lnTo>
                  <a:pt x="4444" y="1905"/>
                </a:lnTo>
                <a:lnTo>
                  <a:pt x="7197" y="0"/>
                </a:lnTo>
                <a:lnTo>
                  <a:pt x="9314" y="1694"/>
                </a:lnTo>
                <a:lnTo>
                  <a:pt x="11854" y="1482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3200400"/>
            <a:ext cx="2743560" cy="578160"/>
          </a:xfrm>
          <a:custGeom>
            <a:avLst/>
            <a:gdLst/>
            <a:ahLst/>
            <a:rect l="0" t="0" r="r" b="b"/>
            <a:pathLst>
              <a:path fill="none" w="7621" h="1606">
                <a:moveTo>
                  <a:pt x="0" y="1482"/>
                </a:moveTo>
                <a:lnTo>
                  <a:pt x="2751" y="0"/>
                </a:lnTo>
                <a:lnTo>
                  <a:pt x="4869" y="1482"/>
                </a:lnTo>
                <a:lnTo>
                  <a:pt x="4878" y="1606"/>
                </a:lnTo>
                <a:lnTo>
                  <a:pt x="7621" y="1271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c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arget cannot tell where the trigger is coming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ing hosts may not know that they are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adcast storms can generate mor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NS, routing, and 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655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V="1">
            <a:off x="4572000" y="2800440"/>
            <a:ext cx="0" cy="154296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4572000" y="4343400"/>
            <a:ext cx="2540160" cy="457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r tools are still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ed BGP4 is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up with the latest na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 to secure router implementations, whe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:  what will you do if the entire Internet is down for a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cial Engineering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 error, core dum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 protection 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fe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encryption, but at the wro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PT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“Clue”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xper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ze and repai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ger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to actively check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ility infielder” - a gener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e” (experts) are expensive and hard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533520" y="171360"/>
            <a:ext cx="8107200" cy="60768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secure h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ommunity of insecure hosts can be protected from an external attack on thes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enforces a network access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a perfec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s - not a Panac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 Firewall shields host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hat cannot shield themse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03240" y="1747800"/>
            <a:ext cx="6519960" cy="4678560"/>
            <a:chOff x="903240" y="1747800"/>
            <a:chExt cx="6519960" cy="4678560"/>
          </a:xfrm>
        </p:grpSpPr>
        <p:grpSp>
          <p:nvGrpSpPr>
            <p:cNvPr id="680" name=""/>
            <p:cNvGrpSpPr/>
            <p:nvPr/>
          </p:nvGrpSpPr>
          <p:grpSpPr>
            <a:xfrm>
              <a:off x="5450040" y="1747800"/>
              <a:ext cx="1973160" cy="4170240"/>
              <a:chOff x="5450040" y="1747800"/>
              <a:chExt cx="1973160" cy="417024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5450040" y="4330800"/>
                <a:ext cx="1973160" cy="733320"/>
                <a:chOff x="5450040" y="4330800"/>
                <a:chExt cx="1973160" cy="73332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5983200" y="4330800"/>
                  <a:ext cx="403200" cy="347400"/>
                  <a:chOff x="5983200" y="4330800"/>
                  <a:chExt cx="403200" cy="34740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598320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0847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>
                    <a:off x="60181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>
                    <a:off x="6068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61340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6184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5481720" y="4330800"/>
                  <a:ext cx="385920" cy="347400"/>
                  <a:chOff x="5481720" y="4330800"/>
                  <a:chExt cx="385920" cy="3474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548172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58324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5516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V="1">
                    <a:off x="55674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V="1">
                    <a:off x="5632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V="1">
                    <a:off x="5683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6485040" y="4330800"/>
                  <a:ext cx="403200" cy="347400"/>
                  <a:chOff x="6485040" y="4330800"/>
                  <a:chExt cx="403200" cy="34740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648504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58656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V="1">
                    <a:off x="653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V="1">
                    <a:off x="65707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V="1">
                    <a:off x="66358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6703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6953400" y="4330800"/>
                  <a:ext cx="401760" cy="347400"/>
                  <a:chOff x="6953400" y="4330800"/>
                  <a:chExt cx="401760" cy="3474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695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0549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V="1">
                    <a:off x="6986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V="1">
                    <a:off x="703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V="1">
                    <a:off x="710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V="1">
                    <a:off x="71550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5481720" y="4707000"/>
                  <a:ext cx="385920" cy="357120"/>
                  <a:chOff x="5481720" y="4707000"/>
                  <a:chExt cx="385920" cy="3571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548172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58324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516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5674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6325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56833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983200" y="4707000"/>
                  <a:ext cx="403200" cy="357120"/>
                  <a:chOff x="5983200" y="4707000"/>
                  <a:chExt cx="403200" cy="35712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98320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0847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0181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068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1340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1848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6485040" y="4707000"/>
                  <a:ext cx="403200" cy="357120"/>
                  <a:chOff x="6485040" y="4707000"/>
                  <a:chExt cx="403200" cy="357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648504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58656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53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5707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63588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7039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6953400" y="4707000"/>
                  <a:ext cx="401760" cy="357120"/>
                  <a:chOff x="6953400" y="4707000"/>
                  <a:chExt cx="401760" cy="3571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695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0549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986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03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10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1550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>
                  <a:off x="5450040" y="468792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450040" y="1747800"/>
                <a:ext cx="1973160" cy="731880"/>
                <a:chOff x="5450040" y="1747800"/>
                <a:chExt cx="1973160" cy="73188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5983200" y="1747800"/>
                  <a:ext cx="403200" cy="355680"/>
                  <a:chOff x="5983200" y="1747800"/>
                  <a:chExt cx="403200" cy="35568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598320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0847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V="1">
                    <a:off x="60181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V="1">
                    <a:off x="6068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V="1">
                    <a:off x="61340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V="1">
                    <a:off x="6184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5481720" y="1747800"/>
                  <a:ext cx="385920" cy="355680"/>
                  <a:chOff x="5481720" y="1747800"/>
                  <a:chExt cx="385920" cy="35568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548172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558324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>
                    <a:off x="5516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55674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>
                    <a:off x="5632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V="1">
                    <a:off x="5683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6485040" y="1747800"/>
                  <a:ext cx="403200" cy="355680"/>
                  <a:chOff x="6485040" y="1747800"/>
                  <a:chExt cx="403200" cy="355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648504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58656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>
                    <a:off x="653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>
                    <a:off x="65707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V="1">
                    <a:off x="66358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6703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6953400" y="1747800"/>
                  <a:ext cx="401760" cy="355680"/>
                  <a:chOff x="6953400" y="1747800"/>
                  <a:chExt cx="401760" cy="35568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695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0549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>
                    <a:off x="6986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>
                    <a:off x="703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710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71550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5481720" y="2131920"/>
                  <a:ext cx="385920" cy="347760"/>
                  <a:chOff x="5481720" y="2131920"/>
                  <a:chExt cx="385920" cy="3477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48172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58324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516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55674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56325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6833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5983200" y="2131920"/>
                  <a:ext cx="403200" cy="347760"/>
                  <a:chOff x="5983200" y="2131920"/>
                  <a:chExt cx="403200" cy="3477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598320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0847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0181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068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1340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61848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485040" y="2131920"/>
                  <a:ext cx="403200" cy="347760"/>
                  <a:chOff x="6485040" y="2131920"/>
                  <a:chExt cx="403200" cy="34776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648504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58656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53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5707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63588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67039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953400" y="2131920"/>
                  <a:ext cx="401760" cy="347760"/>
                  <a:chOff x="6953400" y="2131920"/>
                  <a:chExt cx="401760" cy="34776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695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549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86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703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10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1550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5450040" y="211284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5450040" y="2611440"/>
                <a:ext cx="1973160" cy="733320"/>
                <a:chOff x="5450040" y="2611440"/>
                <a:chExt cx="1973160" cy="73332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5983200" y="2611440"/>
                  <a:ext cx="403200" cy="347760"/>
                  <a:chOff x="5983200" y="2611440"/>
                  <a:chExt cx="403200" cy="34776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598320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0847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V="1">
                    <a:off x="60181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6068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>
                    <a:off x="61340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V="1">
                    <a:off x="6184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5481720" y="2611440"/>
                  <a:ext cx="385920" cy="347760"/>
                  <a:chOff x="5481720" y="2611440"/>
                  <a:chExt cx="385920" cy="3477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548172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558324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5516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55674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V="1">
                    <a:off x="5632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V="1">
                    <a:off x="5683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6485040" y="2611440"/>
                  <a:ext cx="403200" cy="347760"/>
                  <a:chOff x="6485040" y="2611440"/>
                  <a:chExt cx="403200" cy="3477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648504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58656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653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V="1">
                    <a:off x="65707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66358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V="1">
                    <a:off x="6703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953400" y="2611440"/>
                  <a:ext cx="401760" cy="347760"/>
                  <a:chOff x="6953400" y="2611440"/>
                  <a:chExt cx="401760" cy="34776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95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0549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6986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703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710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V="1">
                    <a:off x="71550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5481720" y="2987640"/>
                  <a:ext cx="385920" cy="357120"/>
                  <a:chOff x="5481720" y="2987640"/>
                  <a:chExt cx="385920" cy="3571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548172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558324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516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5674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56325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6833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5983200" y="2987640"/>
                  <a:ext cx="403200" cy="357120"/>
                  <a:chOff x="5983200" y="2987640"/>
                  <a:chExt cx="403200" cy="3571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>
                    <a:off x="598320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0847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181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068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1340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48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6485040" y="2987640"/>
                  <a:ext cx="403200" cy="357120"/>
                  <a:chOff x="6485040" y="2987640"/>
                  <a:chExt cx="403200" cy="35712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648504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58656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53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5707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63588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039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6953400" y="2987640"/>
                  <a:ext cx="401760" cy="357120"/>
                  <a:chOff x="6953400" y="2987640"/>
                  <a:chExt cx="401760" cy="35712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95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0549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986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703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710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71550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4" name=""/>
                <p:cNvSpPr/>
                <p:nvPr/>
              </p:nvSpPr>
              <p:spPr>
                <a:xfrm>
                  <a:off x="5450040" y="2968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450040" y="3467160"/>
                <a:ext cx="1973160" cy="731520"/>
                <a:chOff x="5450040" y="3467160"/>
                <a:chExt cx="1973160" cy="731520"/>
              </a:xfrm>
            </p:grpSpPr>
            <p:grpSp>
              <p:nvGrpSpPr>
                <p:cNvPr id="856" name=""/>
                <p:cNvGrpSpPr/>
                <p:nvPr/>
              </p:nvGrpSpPr>
              <p:grpSpPr>
                <a:xfrm>
                  <a:off x="5983200" y="3467160"/>
                  <a:ext cx="403200" cy="355680"/>
                  <a:chOff x="5983200" y="3467160"/>
                  <a:chExt cx="403200" cy="355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598320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0847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60181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V="1">
                    <a:off x="6068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V="1">
                    <a:off x="61340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V="1">
                    <a:off x="6184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5481720" y="3467160"/>
                  <a:ext cx="385920" cy="355680"/>
                  <a:chOff x="5481720" y="3467160"/>
                  <a:chExt cx="385920" cy="3556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548172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58324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>
                    <a:off x="5516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>
                    <a:off x="55674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5632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5683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6485040" y="3467160"/>
                  <a:ext cx="403200" cy="355680"/>
                  <a:chOff x="6485040" y="3467160"/>
                  <a:chExt cx="403200" cy="35568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648504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58656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>
                    <a:off x="653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>
                    <a:off x="65707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66358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V="1">
                    <a:off x="6703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6953400" y="3467160"/>
                  <a:ext cx="401760" cy="355680"/>
                  <a:chOff x="6953400" y="3467160"/>
                  <a:chExt cx="401760" cy="355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695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70549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V="1">
                    <a:off x="6986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V="1">
                    <a:off x="703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V="1">
                    <a:off x="710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V="1">
                    <a:off x="71550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5481720" y="3851280"/>
                  <a:ext cx="385920" cy="347400"/>
                  <a:chOff x="5481720" y="3851280"/>
                  <a:chExt cx="385920" cy="3474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548172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558324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516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5674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6325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833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983200" y="3851280"/>
                  <a:ext cx="403200" cy="347400"/>
                  <a:chOff x="5983200" y="3851280"/>
                  <a:chExt cx="403200" cy="3474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598320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0847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0181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068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61340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1848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6485040" y="3851280"/>
                  <a:ext cx="403200" cy="347400"/>
                  <a:chOff x="6485040" y="3851280"/>
                  <a:chExt cx="403200" cy="3474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648504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658656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53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5707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63588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039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6953400" y="3851280"/>
                  <a:ext cx="401760" cy="347400"/>
                  <a:chOff x="6953400" y="3851280"/>
                  <a:chExt cx="401760" cy="34740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695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70549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986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03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710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1550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2" name=""/>
                <p:cNvSpPr/>
                <p:nvPr/>
              </p:nvSpPr>
              <p:spPr>
                <a:xfrm>
                  <a:off x="5450040" y="383220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5450040" y="5186520"/>
                <a:ext cx="1973160" cy="731520"/>
                <a:chOff x="5450040" y="5186520"/>
                <a:chExt cx="1973160" cy="73152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5983200" y="5186520"/>
                  <a:ext cx="403200" cy="355320"/>
                  <a:chOff x="5983200" y="5186520"/>
                  <a:chExt cx="403200" cy="35532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598320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0847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V="1">
                    <a:off x="60181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V="1">
                    <a:off x="6068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V="1">
                    <a:off x="61340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V="1">
                    <a:off x="6184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5481720" y="5186520"/>
                  <a:ext cx="385920" cy="355320"/>
                  <a:chOff x="5481720" y="5186520"/>
                  <a:chExt cx="385920" cy="35532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548172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58324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V="1">
                    <a:off x="5516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V="1">
                    <a:off x="55674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V="1">
                    <a:off x="5632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V="1">
                    <a:off x="5683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6485040" y="5186520"/>
                  <a:ext cx="403200" cy="355320"/>
                  <a:chOff x="6485040" y="5186520"/>
                  <a:chExt cx="403200" cy="3553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648504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653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65707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66358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V="1">
                    <a:off x="6703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6953400" y="5186520"/>
                  <a:ext cx="401760" cy="355320"/>
                  <a:chOff x="6953400" y="5186520"/>
                  <a:chExt cx="401760" cy="3553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695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70549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6986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V="1">
                    <a:off x="703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V="1">
                    <a:off x="710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V="1">
                    <a:off x="71550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5481720" y="5570640"/>
                  <a:ext cx="385920" cy="347400"/>
                  <a:chOff x="5481720" y="5570640"/>
                  <a:chExt cx="385920" cy="34740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548172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58324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5516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5674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56325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6833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5983200" y="5570640"/>
                  <a:ext cx="403200" cy="347400"/>
                  <a:chOff x="5983200" y="5570640"/>
                  <a:chExt cx="403200" cy="34740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598320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0847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0181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068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1340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1848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485040" y="5570640"/>
                  <a:ext cx="403200" cy="347400"/>
                  <a:chOff x="6485040" y="5570640"/>
                  <a:chExt cx="403200" cy="3474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648504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58656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53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65707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63588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7039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6953400" y="5570640"/>
                  <a:ext cx="401760" cy="347400"/>
                  <a:chOff x="6953400" y="5570640"/>
                  <a:chExt cx="401760" cy="34740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695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0549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986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703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710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71550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0" name=""/>
                <p:cNvSpPr/>
                <p:nvPr/>
              </p:nvSpPr>
              <p:spPr>
                <a:xfrm>
                  <a:off x="5450040" y="5551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1" name=""/>
            <p:cNvGrpSpPr/>
            <p:nvPr/>
          </p:nvGrpSpPr>
          <p:grpSpPr>
            <a:xfrm>
              <a:off x="3344760" y="1747800"/>
              <a:ext cx="1970280" cy="4170240"/>
              <a:chOff x="3344760" y="1747800"/>
              <a:chExt cx="1970280" cy="4170240"/>
            </a:xfrm>
          </p:grpSpPr>
          <p:grpSp>
            <p:nvGrpSpPr>
              <p:cNvPr id="972" name=""/>
              <p:cNvGrpSpPr/>
              <p:nvPr/>
            </p:nvGrpSpPr>
            <p:grpSpPr>
              <a:xfrm>
                <a:off x="3344760" y="4330800"/>
                <a:ext cx="1970280" cy="733320"/>
                <a:chOff x="3344760" y="4330800"/>
                <a:chExt cx="1970280" cy="733320"/>
              </a:xfrm>
            </p:grpSpPr>
            <p:grpSp>
              <p:nvGrpSpPr>
                <p:cNvPr id="973" name=""/>
                <p:cNvGrpSpPr/>
                <p:nvPr/>
              </p:nvGrpSpPr>
              <p:grpSpPr>
                <a:xfrm>
                  <a:off x="3878280" y="4330800"/>
                  <a:ext cx="401760" cy="347400"/>
                  <a:chOff x="3878280" y="4330800"/>
                  <a:chExt cx="401760" cy="34740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387828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9798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V="1">
                    <a:off x="39117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V="1">
                    <a:off x="3962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V="1">
                    <a:off x="4027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V="1">
                    <a:off x="40784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3376440" y="4330800"/>
                  <a:ext cx="384120" cy="347400"/>
                  <a:chOff x="3376440" y="4330800"/>
                  <a:chExt cx="384120" cy="34740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3376440" y="4330800"/>
                    <a:ext cx="3841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4783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34099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V="1">
                    <a:off x="34606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V="1">
                    <a:off x="3525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35766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4379760" y="4330800"/>
                  <a:ext cx="401760" cy="347400"/>
                  <a:chOff x="4379760" y="4330800"/>
                  <a:chExt cx="401760" cy="3474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4379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48164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4430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V="1">
                    <a:off x="44640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V="1">
                    <a:off x="4529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4597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4846680" y="4330800"/>
                  <a:ext cx="403200" cy="347400"/>
                  <a:chOff x="4846680" y="4330800"/>
                  <a:chExt cx="403200" cy="3474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484668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9482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V="1">
                    <a:off x="48816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V="1">
                    <a:off x="49323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V="1">
                    <a:off x="49975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V="1">
                    <a:off x="50482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376440" y="4707000"/>
                  <a:ext cx="384120" cy="357120"/>
                  <a:chOff x="3376440" y="4707000"/>
                  <a:chExt cx="384120" cy="35712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376440" y="475452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783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4099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4606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5258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5766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878280" y="4707000"/>
                  <a:ext cx="401760" cy="357120"/>
                  <a:chOff x="3878280" y="4707000"/>
                  <a:chExt cx="401760" cy="3571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87828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798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117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962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40273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0784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4379760" y="4707000"/>
                  <a:ext cx="401760" cy="357120"/>
                  <a:chOff x="4379760" y="4707000"/>
                  <a:chExt cx="401760" cy="3571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4379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48164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430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4640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45291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597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4846680" y="4707000"/>
                  <a:ext cx="403200" cy="357120"/>
                  <a:chOff x="4846680" y="4707000"/>
                  <a:chExt cx="403200" cy="35712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84668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9482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8816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9323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9975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0482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"/>
                <p:cNvSpPr/>
                <p:nvPr/>
              </p:nvSpPr>
              <p:spPr>
                <a:xfrm>
                  <a:off x="3344760" y="468792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344760" y="1747800"/>
                <a:ext cx="1970280" cy="731880"/>
                <a:chOff x="3344760" y="1747800"/>
                <a:chExt cx="1970280" cy="73188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3878280" y="1747800"/>
                  <a:ext cx="401760" cy="355680"/>
                  <a:chOff x="3878280" y="1747800"/>
                  <a:chExt cx="401760" cy="3556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387828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9798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V="1">
                    <a:off x="39117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V="1">
                    <a:off x="3962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V="1">
                    <a:off x="4027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V="1">
                    <a:off x="40784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3376440" y="1747800"/>
                  <a:ext cx="384120" cy="355680"/>
                  <a:chOff x="3376440" y="1747800"/>
                  <a:chExt cx="384120" cy="35568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3376440" y="174780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4783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V="1">
                    <a:off x="34099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V="1">
                    <a:off x="34606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V="1">
                    <a:off x="3525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V="1">
                    <a:off x="35766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4379760" y="1747800"/>
                  <a:ext cx="401760" cy="355680"/>
                  <a:chOff x="4379760" y="1747800"/>
                  <a:chExt cx="401760" cy="355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4379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448164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V="1">
                    <a:off x="4430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V="1">
                    <a:off x="44640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V="1">
                    <a:off x="4529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4597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4846680" y="1747800"/>
                  <a:ext cx="403200" cy="355680"/>
                  <a:chOff x="4846680" y="1747800"/>
                  <a:chExt cx="403200" cy="3556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484668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9482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V="1">
                    <a:off x="48816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V="1">
                    <a:off x="49323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V="1">
                    <a:off x="49975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V="1">
                    <a:off x="50482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3376440" y="2131920"/>
                  <a:ext cx="384120" cy="347760"/>
                  <a:chOff x="3376440" y="2131920"/>
                  <a:chExt cx="384120" cy="34776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376440" y="2179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4783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4099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4606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5258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5766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878280" y="2131920"/>
                  <a:ext cx="401760" cy="347760"/>
                  <a:chOff x="3878280" y="2131920"/>
                  <a:chExt cx="401760" cy="3477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87828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798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9117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962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0273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0784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4379760" y="2131920"/>
                  <a:ext cx="401760" cy="347760"/>
                  <a:chOff x="4379760" y="2131920"/>
                  <a:chExt cx="401760" cy="34776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4379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48164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430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44640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45291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4597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0" name=""/>
                <p:cNvGrpSpPr/>
                <p:nvPr/>
              </p:nvGrpSpPr>
              <p:grpSpPr>
                <a:xfrm>
                  <a:off x="4846680" y="2131920"/>
                  <a:ext cx="403200" cy="347760"/>
                  <a:chOff x="4846680" y="2131920"/>
                  <a:chExt cx="403200" cy="34776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484668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9482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8816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9323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9975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482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7" name=""/>
                <p:cNvSpPr/>
                <p:nvPr/>
              </p:nvSpPr>
              <p:spPr>
                <a:xfrm>
                  <a:off x="3344760" y="211284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344760" y="2611440"/>
                <a:ext cx="1970280" cy="733320"/>
                <a:chOff x="3344760" y="2611440"/>
                <a:chExt cx="1970280" cy="733320"/>
              </a:xfrm>
            </p:grpSpPr>
            <p:grpSp>
              <p:nvGrpSpPr>
                <p:cNvPr id="1089" name=""/>
                <p:cNvGrpSpPr/>
                <p:nvPr/>
              </p:nvGrpSpPr>
              <p:grpSpPr>
                <a:xfrm>
                  <a:off x="3878280" y="2611440"/>
                  <a:ext cx="401760" cy="347760"/>
                  <a:chOff x="3878280" y="2611440"/>
                  <a:chExt cx="401760" cy="34776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87828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9798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V="1">
                    <a:off x="39117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V="1">
                    <a:off x="3962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flipV="1">
                    <a:off x="4027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V="1">
                    <a:off x="40784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3376440" y="2611440"/>
                  <a:ext cx="384120" cy="347760"/>
                  <a:chOff x="3376440" y="2611440"/>
                  <a:chExt cx="384120" cy="34776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3376440" y="261144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4783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V="1">
                    <a:off x="34099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V="1">
                    <a:off x="34606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V="1">
                    <a:off x="3525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V="1">
                    <a:off x="35766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4379760" y="2611440"/>
                  <a:ext cx="401760" cy="347760"/>
                  <a:chOff x="4379760" y="2611440"/>
                  <a:chExt cx="401760" cy="34776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79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48164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V="1">
                    <a:off x="4430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V="1">
                    <a:off x="44640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V="1">
                    <a:off x="4529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V="1">
                    <a:off x="4597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4846680" y="2611440"/>
                  <a:ext cx="403200" cy="347760"/>
                  <a:chOff x="4846680" y="2611440"/>
                  <a:chExt cx="403200" cy="34776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>
                    <a:off x="484668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9482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V="1">
                    <a:off x="48816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V="1">
                    <a:off x="49323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V="1">
                    <a:off x="49975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V="1">
                    <a:off x="50482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" name=""/>
                <p:cNvGrpSpPr/>
                <p:nvPr/>
              </p:nvGrpSpPr>
              <p:grpSpPr>
                <a:xfrm>
                  <a:off x="3376440" y="2987640"/>
                  <a:ext cx="384120" cy="357120"/>
                  <a:chOff x="3376440" y="2987640"/>
                  <a:chExt cx="384120" cy="3571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76440" y="303516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4783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4099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4606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5258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5766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3878280" y="2987640"/>
                  <a:ext cx="401760" cy="357120"/>
                  <a:chOff x="3878280" y="2987640"/>
                  <a:chExt cx="401760" cy="35712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>
                    <a:off x="387828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9798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9117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962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0273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0784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4379760" y="2987640"/>
                  <a:ext cx="401760" cy="357120"/>
                  <a:chOff x="4379760" y="2987640"/>
                  <a:chExt cx="401760" cy="35712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4379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48164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30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4640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5291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597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846680" y="2987640"/>
                  <a:ext cx="403200" cy="357120"/>
                  <a:chOff x="4846680" y="2987640"/>
                  <a:chExt cx="403200" cy="35712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84668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9482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48816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49323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9975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0482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5" name=""/>
                <p:cNvSpPr/>
                <p:nvPr/>
              </p:nvSpPr>
              <p:spPr>
                <a:xfrm>
                  <a:off x="3344760" y="2968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344760" y="3467160"/>
                <a:ext cx="1970280" cy="731520"/>
                <a:chOff x="3344760" y="3467160"/>
                <a:chExt cx="1970280" cy="731520"/>
              </a:xfrm>
            </p:grpSpPr>
            <p:grpSp>
              <p:nvGrpSpPr>
                <p:cNvPr id="1147" name=""/>
                <p:cNvGrpSpPr/>
                <p:nvPr/>
              </p:nvGrpSpPr>
              <p:grpSpPr>
                <a:xfrm>
                  <a:off x="3878280" y="3467160"/>
                  <a:ext cx="401760" cy="355680"/>
                  <a:chOff x="3878280" y="3467160"/>
                  <a:chExt cx="401760" cy="355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387828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9798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V="1">
                    <a:off x="39117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V="1">
                    <a:off x="3962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V="1">
                    <a:off x="4027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V="1">
                    <a:off x="40784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3376440" y="3467160"/>
                  <a:ext cx="384120" cy="355680"/>
                  <a:chOff x="3376440" y="3467160"/>
                  <a:chExt cx="384120" cy="35568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376440" y="346716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4783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V="1">
                    <a:off x="34099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V="1">
                    <a:off x="34606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V="1">
                    <a:off x="3525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>
                    <a:off x="35766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4379760" y="3467160"/>
                  <a:ext cx="401760" cy="355680"/>
                  <a:chOff x="4379760" y="3467160"/>
                  <a:chExt cx="401760" cy="35568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4379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48164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V="1">
                    <a:off x="4430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V="1">
                    <a:off x="44640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V="1">
                    <a:off x="4529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V="1">
                    <a:off x="4597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846680" y="3467160"/>
                  <a:ext cx="403200" cy="355680"/>
                  <a:chOff x="4846680" y="3467160"/>
                  <a:chExt cx="403200" cy="355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84668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9482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V="1">
                    <a:off x="48816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V="1">
                    <a:off x="49323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V="1">
                    <a:off x="49975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V="1">
                    <a:off x="50482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3376440" y="3851280"/>
                  <a:ext cx="384120" cy="347400"/>
                  <a:chOff x="3376440" y="3851280"/>
                  <a:chExt cx="384120" cy="34740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3376440" y="3898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4783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4099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4606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5258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5766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"/>
                <p:cNvGrpSpPr/>
                <p:nvPr/>
              </p:nvGrpSpPr>
              <p:grpSpPr>
                <a:xfrm>
                  <a:off x="3878280" y="3851280"/>
                  <a:ext cx="401760" cy="347400"/>
                  <a:chOff x="3878280" y="3851280"/>
                  <a:chExt cx="401760" cy="34740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387828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9798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9117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962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0273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40784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4379760" y="3851280"/>
                  <a:ext cx="401760" cy="347400"/>
                  <a:chOff x="4379760" y="3851280"/>
                  <a:chExt cx="401760" cy="3474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4379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448164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430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44640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5291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597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46680" y="3851280"/>
                  <a:ext cx="403200" cy="347400"/>
                  <a:chOff x="4846680" y="3851280"/>
                  <a:chExt cx="403200" cy="3474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>
                    <a:off x="484668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9482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8816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9323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9975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0482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3" name=""/>
                <p:cNvSpPr/>
                <p:nvPr/>
              </p:nvSpPr>
              <p:spPr>
                <a:xfrm>
                  <a:off x="3344760" y="383220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3344760" y="5186520"/>
                <a:ext cx="1970280" cy="731520"/>
                <a:chOff x="3344760" y="5186520"/>
                <a:chExt cx="1970280" cy="731520"/>
              </a:xfrm>
            </p:grpSpPr>
            <p:grpSp>
              <p:nvGrpSpPr>
                <p:cNvPr id="1205" name=""/>
                <p:cNvGrpSpPr/>
                <p:nvPr/>
              </p:nvGrpSpPr>
              <p:grpSpPr>
                <a:xfrm>
                  <a:off x="3878280" y="5186520"/>
                  <a:ext cx="401760" cy="355320"/>
                  <a:chOff x="3878280" y="5186520"/>
                  <a:chExt cx="401760" cy="35532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387828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9798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V="1">
                    <a:off x="39117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3962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V="1">
                    <a:off x="4027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V="1">
                    <a:off x="40784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3376440" y="5186520"/>
                  <a:ext cx="384120" cy="355320"/>
                  <a:chOff x="3376440" y="5186520"/>
                  <a:chExt cx="384120" cy="35532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3376440" y="518652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4783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flipV="1">
                    <a:off x="34099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V="1">
                    <a:off x="34606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V="1">
                    <a:off x="3525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flipV="1">
                    <a:off x="35766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4379760" y="5186520"/>
                  <a:ext cx="401760" cy="355320"/>
                  <a:chOff x="4379760" y="5186520"/>
                  <a:chExt cx="401760" cy="35532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4379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448164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flipV="1">
                    <a:off x="4430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flipV="1">
                    <a:off x="44640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flipV="1">
                    <a:off x="4529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V="1">
                    <a:off x="4597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"/>
                <p:cNvGrpSpPr/>
                <p:nvPr/>
              </p:nvGrpSpPr>
              <p:grpSpPr>
                <a:xfrm>
                  <a:off x="4846680" y="5186520"/>
                  <a:ext cx="403200" cy="355320"/>
                  <a:chOff x="4846680" y="5186520"/>
                  <a:chExt cx="403200" cy="35532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484668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49482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48816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49323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flipV="1">
                    <a:off x="49975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V="1">
                    <a:off x="50482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3376440" y="5570640"/>
                  <a:ext cx="384120" cy="347400"/>
                  <a:chOff x="3376440" y="5570640"/>
                  <a:chExt cx="384120" cy="34740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3376440" y="561816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34783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34099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4606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5258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35766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3878280" y="5570640"/>
                  <a:ext cx="401760" cy="347400"/>
                  <a:chOff x="3878280" y="5570640"/>
                  <a:chExt cx="401760" cy="34740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387828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9798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9117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962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0273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0784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" name=""/>
                <p:cNvGrpSpPr/>
                <p:nvPr/>
              </p:nvGrpSpPr>
              <p:grpSpPr>
                <a:xfrm>
                  <a:off x="4379760" y="5570640"/>
                  <a:ext cx="401760" cy="347400"/>
                  <a:chOff x="4379760" y="5570640"/>
                  <a:chExt cx="401760" cy="347400"/>
                </a:xfrm>
              </p:grpSpPr>
              <p:sp>
                <p:nvSpPr>
                  <p:cNvPr id="1248" name=""/>
                  <p:cNvSpPr/>
                  <p:nvPr/>
                </p:nvSpPr>
                <p:spPr>
                  <a:xfrm>
                    <a:off x="4379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8164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430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4640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291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97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" name=""/>
                <p:cNvGrpSpPr/>
                <p:nvPr/>
              </p:nvGrpSpPr>
              <p:grpSpPr>
                <a:xfrm>
                  <a:off x="4846680" y="5570640"/>
                  <a:ext cx="403200" cy="347400"/>
                  <a:chOff x="4846680" y="5570640"/>
                  <a:chExt cx="403200" cy="34740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484668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9482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8816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9323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9975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0482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1" name=""/>
                <p:cNvSpPr/>
                <p:nvPr/>
              </p:nvSpPr>
              <p:spPr>
                <a:xfrm>
                  <a:off x="3344760" y="5551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2" name=""/>
            <p:cNvGrpSpPr/>
            <p:nvPr/>
          </p:nvGrpSpPr>
          <p:grpSpPr>
            <a:xfrm>
              <a:off x="1236600" y="1747800"/>
              <a:ext cx="1971720" cy="4170240"/>
              <a:chOff x="1236600" y="1747800"/>
              <a:chExt cx="1971720" cy="417024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1236600" y="4330800"/>
                <a:ext cx="1971720" cy="733320"/>
                <a:chOff x="1236600" y="4330800"/>
                <a:chExt cx="1971720" cy="733320"/>
              </a:xfrm>
            </p:grpSpPr>
            <p:grpSp>
              <p:nvGrpSpPr>
                <p:cNvPr id="1264" name=""/>
                <p:cNvGrpSpPr/>
                <p:nvPr/>
              </p:nvGrpSpPr>
              <p:grpSpPr>
                <a:xfrm>
                  <a:off x="1771560" y="4330800"/>
                  <a:ext cx="401760" cy="347400"/>
                  <a:chOff x="1771560" y="4330800"/>
                  <a:chExt cx="401760" cy="34740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7715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87308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V="1">
                    <a:off x="18050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V="1">
                    <a:off x="185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V="1">
                    <a:off x="19224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>
                    <a:off x="1973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1" name=""/>
                <p:cNvGrpSpPr/>
                <p:nvPr/>
              </p:nvGrpSpPr>
              <p:grpSpPr>
                <a:xfrm>
                  <a:off x="1270080" y="4330800"/>
                  <a:ext cx="385920" cy="347400"/>
                  <a:chOff x="1270080" y="4330800"/>
                  <a:chExt cx="385920" cy="34740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127008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37160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V="1">
                    <a:off x="13032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V="1">
                    <a:off x="13539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flipV="1">
                    <a:off x="1420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V="1">
                    <a:off x="14716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2273400" y="4330800"/>
                  <a:ext cx="401760" cy="347400"/>
                  <a:chOff x="2273400" y="4330800"/>
                  <a:chExt cx="401760" cy="34740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227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237348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V="1">
                    <a:off x="23241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V="1">
                    <a:off x="235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 flipV="1">
                    <a:off x="242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V="1">
                    <a:off x="2490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2741760" y="4330800"/>
                  <a:ext cx="401760" cy="347400"/>
                  <a:chOff x="2741760" y="4330800"/>
                  <a:chExt cx="401760" cy="34740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>
                    <a:off x="2741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284328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2774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flipV="1">
                    <a:off x="2825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flipV="1">
                    <a:off x="2890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V="1">
                    <a:off x="2941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" name=""/>
                <p:cNvGrpSpPr/>
                <p:nvPr/>
              </p:nvGrpSpPr>
              <p:grpSpPr>
                <a:xfrm>
                  <a:off x="1270080" y="4707000"/>
                  <a:ext cx="385920" cy="357120"/>
                  <a:chOff x="1270080" y="4707000"/>
                  <a:chExt cx="385920" cy="35712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127008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137160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13032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13539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14209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14716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1771560" y="4707000"/>
                  <a:ext cx="401760" cy="357120"/>
                  <a:chOff x="1771560" y="4707000"/>
                  <a:chExt cx="401760" cy="35712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17715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87308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18050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185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9224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9731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"/>
                <p:cNvGrpSpPr/>
                <p:nvPr/>
              </p:nvGrpSpPr>
              <p:grpSpPr>
                <a:xfrm>
                  <a:off x="2273400" y="4707000"/>
                  <a:ext cx="401760" cy="357120"/>
                  <a:chOff x="2273400" y="4707000"/>
                  <a:chExt cx="401760" cy="3571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>
                    <a:off x="227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37348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3241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35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42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4908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2741760" y="4707000"/>
                  <a:ext cx="401760" cy="357120"/>
                  <a:chOff x="2741760" y="4707000"/>
                  <a:chExt cx="401760" cy="35712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2741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84328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774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825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8908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941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0" name=""/>
                <p:cNvSpPr/>
                <p:nvPr/>
              </p:nvSpPr>
              <p:spPr>
                <a:xfrm>
                  <a:off x="1236600" y="468792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1236600" y="1747800"/>
                <a:ext cx="1971720" cy="731880"/>
                <a:chOff x="1236600" y="1747800"/>
                <a:chExt cx="1971720" cy="731880"/>
              </a:xfrm>
            </p:grpSpPr>
            <p:grpSp>
              <p:nvGrpSpPr>
                <p:cNvPr id="1322" name=""/>
                <p:cNvGrpSpPr/>
                <p:nvPr/>
              </p:nvGrpSpPr>
              <p:grpSpPr>
                <a:xfrm>
                  <a:off x="1771560" y="1747800"/>
                  <a:ext cx="401760" cy="355680"/>
                  <a:chOff x="1771560" y="1747800"/>
                  <a:chExt cx="401760" cy="35568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17715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187308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V="1">
                    <a:off x="18050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V="1">
                    <a:off x="185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V="1">
                    <a:off x="19224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V="1">
                    <a:off x="1973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1270080" y="1747800"/>
                  <a:ext cx="385920" cy="355680"/>
                  <a:chOff x="1270080" y="1747800"/>
                  <a:chExt cx="385920" cy="3556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>
                    <a:off x="127008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137160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flipV="1">
                    <a:off x="13032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V="1">
                    <a:off x="13539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V="1">
                    <a:off x="1420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716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2273400" y="1747800"/>
                  <a:ext cx="401760" cy="355680"/>
                  <a:chOff x="2273400" y="1747800"/>
                  <a:chExt cx="401760" cy="355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227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237348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V="1">
                    <a:off x="23241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V="1">
                    <a:off x="235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V="1">
                    <a:off x="242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V="1">
                    <a:off x="2490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"/>
                <p:cNvGrpSpPr/>
                <p:nvPr/>
              </p:nvGrpSpPr>
              <p:grpSpPr>
                <a:xfrm>
                  <a:off x="2741760" y="1747800"/>
                  <a:ext cx="401760" cy="355680"/>
                  <a:chOff x="2741760" y="1747800"/>
                  <a:chExt cx="401760" cy="355680"/>
                </a:xfrm>
              </p:grpSpPr>
              <p:sp>
                <p:nvSpPr>
                  <p:cNvPr id="1344" name=""/>
                  <p:cNvSpPr/>
                  <p:nvPr/>
                </p:nvSpPr>
                <p:spPr>
                  <a:xfrm>
                    <a:off x="2741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284328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2774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V="1">
                    <a:off x="2825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 flipV="1">
                    <a:off x="2890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V="1">
                    <a:off x="2941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1270080" y="2131920"/>
                  <a:ext cx="385920" cy="347760"/>
                  <a:chOff x="1270080" y="2131920"/>
                  <a:chExt cx="385920" cy="34776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>
                    <a:off x="127008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137160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13032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13539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14209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14716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1771560" y="2131920"/>
                  <a:ext cx="401760" cy="347760"/>
                  <a:chOff x="1771560" y="2131920"/>
                  <a:chExt cx="401760" cy="34776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17715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187308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18050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185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19224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19731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2273400" y="2131920"/>
                  <a:ext cx="401760" cy="347760"/>
                  <a:chOff x="2273400" y="2131920"/>
                  <a:chExt cx="401760" cy="34776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>
                    <a:off x="227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237348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23241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235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242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24908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1" name=""/>
                <p:cNvGrpSpPr/>
                <p:nvPr/>
              </p:nvGrpSpPr>
              <p:grpSpPr>
                <a:xfrm>
                  <a:off x="2741760" y="2131920"/>
                  <a:ext cx="401760" cy="347760"/>
                  <a:chOff x="2741760" y="2131920"/>
                  <a:chExt cx="401760" cy="347760"/>
                </a:xfrm>
              </p:grpSpPr>
              <p:sp>
                <p:nvSpPr>
                  <p:cNvPr id="1372" name=""/>
                  <p:cNvSpPr/>
                  <p:nvPr/>
                </p:nvSpPr>
                <p:spPr>
                  <a:xfrm>
                    <a:off x="2741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284328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2774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2825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28908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941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8" name=""/>
                <p:cNvSpPr/>
                <p:nvPr/>
              </p:nvSpPr>
              <p:spPr>
                <a:xfrm>
                  <a:off x="1236600" y="211284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1236600" y="2611440"/>
                <a:ext cx="1971720" cy="733320"/>
                <a:chOff x="1236600" y="2611440"/>
                <a:chExt cx="1971720" cy="73332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1771560" y="2611440"/>
                  <a:ext cx="401760" cy="347760"/>
                  <a:chOff x="1771560" y="2611440"/>
                  <a:chExt cx="401760" cy="34776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17715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87308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V="1">
                    <a:off x="18050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flipV="1">
                    <a:off x="185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 flipV="1">
                    <a:off x="19224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V="1">
                    <a:off x="1973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1270080" y="2611440"/>
                  <a:ext cx="385920" cy="347760"/>
                  <a:chOff x="1270080" y="2611440"/>
                  <a:chExt cx="385920" cy="34776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127008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137160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13032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V="1">
                    <a:off x="13539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flipV="1">
                    <a:off x="1420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 flipV="1">
                    <a:off x="14716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" name=""/>
                <p:cNvGrpSpPr/>
                <p:nvPr/>
              </p:nvGrpSpPr>
              <p:grpSpPr>
                <a:xfrm>
                  <a:off x="2273400" y="2611440"/>
                  <a:ext cx="401760" cy="347760"/>
                  <a:chOff x="2273400" y="2611440"/>
                  <a:chExt cx="401760" cy="347760"/>
                </a:xfrm>
              </p:grpSpPr>
              <p:sp>
                <p:nvSpPr>
                  <p:cNvPr id="1395" name=""/>
                  <p:cNvSpPr/>
                  <p:nvPr/>
                </p:nvSpPr>
                <p:spPr>
                  <a:xfrm>
                    <a:off x="227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237348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V="1">
                    <a:off x="23241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flipV="1">
                    <a:off x="235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 flipV="1">
                    <a:off x="242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flipV="1">
                    <a:off x="2490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1" name=""/>
                <p:cNvGrpSpPr/>
                <p:nvPr/>
              </p:nvGrpSpPr>
              <p:grpSpPr>
                <a:xfrm>
                  <a:off x="2741760" y="2611440"/>
                  <a:ext cx="401760" cy="347760"/>
                  <a:chOff x="2741760" y="2611440"/>
                  <a:chExt cx="401760" cy="34776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2741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84328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 flipV="1">
                    <a:off x="2774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V="1">
                    <a:off x="2825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flipV="1">
                    <a:off x="2890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 flipV="1">
                    <a:off x="2941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"/>
                <p:cNvGrpSpPr/>
                <p:nvPr/>
              </p:nvGrpSpPr>
              <p:grpSpPr>
                <a:xfrm>
                  <a:off x="1270080" y="2987640"/>
                  <a:ext cx="385920" cy="357120"/>
                  <a:chOff x="1270080" y="2987640"/>
                  <a:chExt cx="385920" cy="357120"/>
                </a:xfrm>
              </p:grpSpPr>
              <p:sp>
                <p:nvSpPr>
                  <p:cNvPr id="1409" name=""/>
                  <p:cNvSpPr/>
                  <p:nvPr/>
                </p:nvSpPr>
                <p:spPr>
                  <a:xfrm>
                    <a:off x="127008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137160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13032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3539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14209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14716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5" name=""/>
                <p:cNvGrpSpPr/>
                <p:nvPr/>
              </p:nvGrpSpPr>
              <p:grpSpPr>
                <a:xfrm>
                  <a:off x="1771560" y="2987640"/>
                  <a:ext cx="401760" cy="357120"/>
                  <a:chOff x="1771560" y="2987640"/>
                  <a:chExt cx="401760" cy="357120"/>
                </a:xfrm>
              </p:grpSpPr>
              <p:sp>
                <p:nvSpPr>
                  <p:cNvPr id="1416" name=""/>
                  <p:cNvSpPr/>
                  <p:nvPr/>
                </p:nvSpPr>
                <p:spPr>
                  <a:xfrm>
                    <a:off x="17715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187308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18050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185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19224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19731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" name=""/>
                <p:cNvGrpSpPr/>
                <p:nvPr/>
              </p:nvGrpSpPr>
              <p:grpSpPr>
                <a:xfrm>
                  <a:off x="2273400" y="2987640"/>
                  <a:ext cx="401760" cy="357120"/>
                  <a:chOff x="2273400" y="2987640"/>
                  <a:chExt cx="401760" cy="35712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>
                    <a:off x="227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237348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23241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235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242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24908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2741760" y="2987640"/>
                  <a:ext cx="401760" cy="357120"/>
                  <a:chOff x="2741760" y="2987640"/>
                  <a:chExt cx="401760" cy="35712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2741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284328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2774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2825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28908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2941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6" name=""/>
                <p:cNvSpPr/>
                <p:nvPr/>
              </p:nvSpPr>
              <p:spPr>
                <a:xfrm>
                  <a:off x="1236600" y="2968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1236600" y="3467160"/>
                <a:ext cx="1971720" cy="731520"/>
                <a:chOff x="1236600" y="3467160"/>
                <a:chExt cx="1971720" cy="731520"/>
              </a:xfrm>
            </p:grpSpPr>
            <p:grpSp>
              <p:nvGrpSpPr>
                <p:cNvPr id="1438" name=""/>
                <p:cNvGrpSpPr/>
                <p:nvPr/>
              </p:nvGrpSpPr>
              <p:grpSpPr>
                <a:xfrm>
                  <a:off x="1771560" y="3467160"/>
                  <a:ext cx="401760" cy="355680"/>
                  <a:chOff x="1771560" y="3467160"/>
                  <a:chExt cx="401760" cy="35568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17715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187308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 flipV="1">
                    <a:off x="18050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V="1">
                    <a:off x="185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 flipV="1">
                    <a:off x="19224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V="1">
                    <a:off x="1973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5" name=""/>
                <p:cNvGrpSpPr/>
                <p:nvPr/>
              </p:nvGrpSpPr>
              <p:grpSpPr>
                <a:xfrm>
                  <a:off x="1270080" y="3467160"/>
                  <a:ext cx="385920" cy="355680"/>
                  <a:chOff x="1270080" y="3467160"/>
                  <a:chExt cx="385920" cy="355680"/>
                </a:xfrm>
              </p:grpSpPr>
              <p:sp>
                <p:nvSpPr>
                  <p:cNvPr id="1446" name=""/>
                  <p:cNvSpPr/>
                  <p:nvPr/>
                </p:nvSpPr>
                <p:spPr>
                  <a:xfrm>
                    <a:off x="127008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137160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V="1">
                    <a:off x="13032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>
                    <a:off x="13539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V="1">
                    <a:off x="1420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V="1">
                    <a:off x="14716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2" name=""/>
                <p:cNvGrpSpPr/>
                <p:nvPr/>
              </p:nvGrpSpPr>
              <p:grpSpPr>
                <a:xfrm>
                  <a:off x="2273400" y="3467160"/>
                  <a:ext cx="401760" cy="355680"/>
                  <a:chOff x="2273400" y="3467160"/>
                  <a:chExt cx="401760" cy="355680"/>
                </a:xfrm>
              </p:grpSpPr>
              <p:sp>
                <p:nvSpPr>
                  <p:cNvPr id="1453" name=""/>
                  <p:cNvSpPr/>
                  <p:nvPr/>
                </p:nvSpPr>
                <p:spPr>
                  <a:xfrm>
                    <a:off x="227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237348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V="1">
                    <a:off x="23241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V="1">
                    <a:off x="235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V="1">
                    <a:off x="242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V="1">
                    <a:off x="2490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2741760" y="3467160"/>
                  <a:ext cx="401760" cy="355680"/>
                  <a:chOff x="2741760" y="3467160"/>
                  <a:chExt cx="401760" cy="355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2741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284328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V="1">
                    <a:off x="2774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flipV="1">
                    <a:off x="2825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V="1">
                    <a:off x="2890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V="1">
                    <a:off x="2941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"/>
                <p:cNvGrpSpPr/>
                <p:nvPr/>
              </p:nvGrpSpPr>
              <p:grpSpPr>
                <a:xfrm>
                  <a:off x="1270080" y="3851280"/>
                  <a:ext cx="385920" cy="347400"/>
                  <a:chOff x="1270080" y="3851280"/>
                  <a:chExt cx="385920" cy="34740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>
                    <a:off x="127008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137160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13032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13539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14209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14716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3" name=""/>
                <p:cNvGrpSpPr/>
                <p:nvPr/>
              </p:nvGrpSpPr>
              <p:grpSpPr>
                <a:xfrm>
                  <a:off x="1771560" y="3851280"/>
                  <a:ext cx="401760" cy="347400"/>
                  <a:chOff x="1771560" y="3851280"/>
                  <a:chExt cx="401760" cy="34740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17715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87308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8050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185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19224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19731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2273400" y="3851280"/>
                  <a:ext cx="401760" cy="347400"/>
                  <a:chOff x="2273400" y="3851280"/>
                  <a:chExt cx="401760" cy="34740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227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237348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23241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235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242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24908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7" name=""/>
                <p:cNvGrpSpPr/>
                <p:nvPr/>
              </p:nvGrpSpPr>
              <p:grpSpPr>
                <a:xfrm>
                  <a:off x="2741760" y="3851280"/>
                  <a:ext cx="401760" cy="347400"/>
                  <a:chOff x="2741760" y="3851280"/>
                  <a:chExt cx="401760" cy="34740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>
                    <a:off x="2741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284328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2774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2825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28908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2941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4" name=""/>
                <p:cNvSpPr/>
                <p:nvPr/>
              </p:nvSpPr>
              <p:spPr>
                <a:xfrm>
                  <a:off x="1236600" y="383220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1236600" y="5186520"/>
                <a:ext cx="1971720" cy="731520"/>
                <a:chOff x="1236600" y="5186520"/>
                <a:chExt cx="1971720" cy="731520"/>
              </a:xfrm>
            </p:grpSpPr>
            <p:grpSp>
              <p:nvGrpSpPr>
                <p:cNvPr id="1496" name=""/>
                <p:cNvGrpSpPr/>
                <p:nvPr/>
              </p:nvGrpSpPr>
              <p:grpSpPr>
                <a:xfrm>
                  <a:off x="1771560" y="5186520"/>
                  <a:ext cx="401760" cy="355320"/>
                  <a:chOff x="1771560" y="5186520"/>
                  <a:chExt cx="401760" cy="3553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17715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187308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V="1">
                    <a:off x="18050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V="1">
                    <a:off x="185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V="1">
                    <a:off x="19224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V="1">
                    <a:off x="1973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1270080" y="5186520"/>
                  <a:ext cx="385920" cy="355320"/>
                  <a:chOff x="1270080" y="5186520"/>
                  <a:chExt cx="385920" cy="3553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127008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137160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V="1">
                    <a:off x="13032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V="1">
                    <a:off x="13539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V="1">
                    <a:off x="1420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V="1">
                    <a:off x="14716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273400" y="5186520"/>
                  <a:ext cx="401760" cy="355320"/>
                  <a:chOff x="2273400" y="5186520"/>
                  <a:chExt cx="401760" cy="3553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27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37348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 flipV="1">
                    <a:off x="23241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V="1">
                    <a:off x="235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 flipV="1">
                    <a:off x="242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 flipV="1">
                    <a:off x="2490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7" name=""/>
                <p:cNvGrpSpPr/>
                <p:nvPr/>
              </p:nvGrpSpPr>
              <p:grpSpPr>
                <a:xfrm>
                  <a:off x="2741760" y="5186520"/>
                  <a:ext cx="401760" cy="355320"/>
                  <a:chOff x="2741760" y="5186520"/>
                  <a:chExt cx="401760" cy="3553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2741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284328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V="1">
                    <a:off x="2774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V="1">
                    <a:off x="2825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V="1">
                    <a:off x="2890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V="1">
                    <a:off x="2941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4" name=""/>
                <p:cNvGrpSpPr/>
                <p:nvPr/>
              </p:nvGrpSpPr>
              <p:grpSpPr>
                <a:xfrm>
                  <a:off x="1270080" y="5570640"/>
                  <a:ext cx="385920" cy="347400"/>
                  <a:chOff x="1270080" y="5570640"/>
                  <a:chExt cx="385920" cy="34740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127008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137160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13032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13539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14209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4716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1771560" y="5570640"/>
                  <a:ext cx="401760" cy="347400"/>
                  <a:chOff x="1771560" y="5570640"/>
                  <a:chExt cx="401760" cy="34740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17715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187308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18050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185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19224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9731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8" name=""/>
                <p:cNvGrpSpPr/>
                <p:nvPr/>
              </p:nvGrpSpPr>
              <p:grpSpPr>
                <a:xfrm>
                  <a:off x="2273400" y="5570640"/>
                  <a:ext cx="401760" cy="347400"/>
                  <a:chOff x="2273400" y="5570640"/>
                  <a:chExt cx="401760" cy="34740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>
                    <a:off x="227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237348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23241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235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42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4908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2741760" y="5570640"/>
                  <a:ext cx="401760" cy="347400"/>
                  <a:chOff x="2741760" y="5570640"/>
                  <a:chExt cx="401760" cy="34740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2741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284328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774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825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8908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941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2" name=""/>
                <p:cNvSpPr/>
                <p:nvPr/>
              </p:nvSpPr>
              <p:spPr>
                <a:xfrm>
                  <a:off x="1236600" y="5551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3" name=""/>
            <p:cNvSpPr/>
            <p:nvPr/>
          </p:nvSpPr>
          <p:spPr>
            <a:xfrm>
              <a:off x="3294000" y="2112840"/>
              <a:ext cx="0" cy="39369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416560" y="2131920"/>
              <a:ext cx="0" cy="3438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3041640" y="6107040"/>
              <a:ext cx="401760" cy="196920"/>
              <a:chOff x="3041640" y="6107040"/>
              <a:chExt cx="401760" cy="196920"/>
            </a:xfrm>
          </p:grpSpPr>
          <p:sp>
            <p:nvSpPr>
              <p:cNvPr id="1556" name=""/>
              <p:cNvSpPr/>
              <p:nvPr/>
            </p:nvSpPr>
            <p:spPr>
              <a:xfrm>
                <a:off x="3092400" y="6107040"/>
                <a:ext cx="300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092400" y="6107040"/>
                <a:ext cx="16668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3259080" y="6107040"/>
                <a:ext cx="15084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041640" y="6303960"/>
                <a:ext cx="4017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"/>
            <p:cNvSpPr/>
            <p:nvPr/>
          </p:nvSpPr>
          <p:spPr>
            <a:xfrm>
              <a:off x="3294000" y="6351480"/>
              <a:ext cx="0" cy="748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76680" y="6218280"/>
              <a:ext cx="344340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>
              <a:off x="903240" y="6013440"/>
              <a:ext cx="2139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nd n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1566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1567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574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575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582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583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593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600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601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608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609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619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Firewal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Firewalls at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in 1987 (Presotto and Tric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88: Year of the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pt the wor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ere lu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r different firewalls since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has been abou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en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jacked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entrances into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er level security than it used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ll wor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ap - part of th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ard to ge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n’t get f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ften part of a more-complet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3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85880" y="1905120"/>
            <a:ext cx="238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2590920" cy="2514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42244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65760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20760" y="259092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43120" y="320040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28680" y="373392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638680" y="1828800"/>
            <a:ext cx="2590920" cy="2514600"/>
            <a:chOff x="5638680" y="1828800"/>
            <a:chExt cx="2590920" cy="2514600"/>
          </a:xfrm>
        </p:grpSpPr>
        <p:sp>
          <p:nvSpPr>
            <p:cNvPr id="114" name=""/>
            <p:cNvSpPr txBox="1"/>
            <p:nvPr/>
          </p:nvSpPr>
          <p:spPr>
            <a:xfrm>
              <a:off x="5738760" y="1905120"/>
              <a:ext cx="2387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1828800"/>
              <a:ext cx="2590920" cy="2514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8680" y="242244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38680" y="365760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6173640" y="2590920"/>
              <a:ext cx="1522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6696000" y="32004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181560" y="373392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48006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62280" y="495288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re work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quires modified client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x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4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CP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uperior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ome perform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dified clients, 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ke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52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es tcp circuits at the packe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pplication-lik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figuration can be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y pick for best firewal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59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 security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You Must Be Present to W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ous hacking from distant places can be defended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solve the insider problem, which is a bi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least it gets the Internet security up near the level of building (I.e.. physical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cker’s 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Exploit Send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Guess default pw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FTP - holes &amp;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elnet -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Crack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NFS confi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portmapper/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N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IP spoof r* c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 in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secur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igher 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exportable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ict. attack on chal/resp. based on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mpster d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into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off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good crypto (DES crac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feder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superb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152280" y="152280"/>
            <a:ext cx="883908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Firewalls and Internet Security: Repelling the Wily Hac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wick and Bell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’s getting old.  We are working on the second 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th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domo@www.greatcir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pman and Zwicky firewall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word search in altavista.digit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net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152280" y="358128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cs.bell-labs.com/~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  <p:sp>
        <p:nvSpPr>
          <p:cNvPr id="1679" name=""/>
          <p:cNvSpPr txBox="1"/>
          <p:nvPr/>
        </p:nvSpPr>
        <p:spPr>
          <a:xfrm>
            <a:off x="6754680" y="6018120"/>
            <a:ext cx="219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  <a:ea typeface="Arial"/>
              </a:rPr>
              <a:t>(slide 99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8839080" y="5867280"/>
            <a:ext cx="0" cy="609840"/>
          </a:xfrm>
          <a:prstGeom prst="line">
            <a:avLst/>
          </a:prstGeom>
          <a:ln w="381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Do not eat yellow snow.</dc:description>
  <dc:language>en-US</dc:language>
  <cp:lastModifiedBy>Bill Cheswick</cp:lastModifiedBy>
  <cp:revision>0</cp:revision>
  <dc:subject>Internet Attacks</dc:subject>
  <dc:title>Internet Attacks</dc:title>
</cp:coreProperties>
</file>