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707-167E-402B-ACBA-F34414C0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B4B6-8279-4E26-8AF7-06C8F624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0F3C-1685-40AB-ABCB-AA81BCC00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F41-0035-4D84-AB7E-CED6D2CDB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CB6-2316-4FB3-97BF-042A967F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2251-D9E1-4AAE-8548-90F7461B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FB1C-EFDF-4ECE-98E4-EA5EBF40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BFC-E935-4A8A-92C0-FF7D90AF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3D0-FEF7-43EB-9142-B606D0FF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B7B-B5EF-4A07-89E0-62D0192D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89D-9484-4A13-BA1E-B147F90D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8DF-962F-4EED-B32C-28EE01F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27D-0670-491F-B666-564545F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285-BAE0-44A4-A3E8-C0755169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08E-76A5-4F69-AE44-CB175B1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B0E-59E9-4D76-91C3-7230843E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096-0E1D-4747-94BE-46527F7C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51C-26E4-4F30-8D35-EB334E1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91A-3710-4195-BCFE-5CEE2C1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DF5-75BA-4F76-8D82-4E8F6A8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7EE-A0B6-4F71-A206-CC8385558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: what it looks like, how it works, and how it is ab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087-0158-4ED3-866E-49FD955B7F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s and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initiate th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ar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ent’s name is usually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answer calls from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ar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audio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’s names are well known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yahoo.co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E33-703C-47CA-9405-DD2A8A4FE37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/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599-710A-4F77-8859-3CDBD49BA086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264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552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8680" y="52578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0480" y="52578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2160" y="57405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2840" y="58672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25400" y="21337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13400" y="22096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B28-8EA5-45EB-891C-928853C37C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protocols, standards, and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by the government (DARPA re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priesthood” of geeks polished i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by 19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describes the basic packet format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packets may be dropped, duplicated, and misro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brings order to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0B0-C78D-4E5B-BD4E-89FAF45062AA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9680" y="28195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2640" y="2768760"/>
            <a:ext cx="254016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2640" y="336240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2640" y="4597560"/>
            <a:ext cx="254016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3480" y="35053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3680" y="4114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9960" y="46483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35520" y="2768760"/>
            <a:ext cx="2539800" cy="2463480"/>
            <a:chOff x="5735520" y="2768760"/>
            <a:chExt cx="2539800" cy="2463480"/>
          </a:xfrm>
        </p:grpSpPr>
        <p:sp>
          <p:nvSpPr>
            <p:cNvPr id="85" name=""/>
            <p:cNvSpPr/>
            <p:nvPr/>
          </p:nvSpPr>
          <p:spPr>
            <a:xfrm>
              <a:off x="5812560" y="28195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35520" y="27687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33624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45975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46000" y="35053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66560" y="41148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52840" y="46483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128680" y="52578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00480" y="52578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2160" y="57405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2840" y="58672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25400" y="21337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3400" y="22096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F3F-79B8-4CE4-9AA1-C5CA38B3D1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600" y="297180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560" y="2921040"/>
            <a:ext cx="2540160" cy="2463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560" y="351468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4749840"/>
            <a:ext cx="254016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4400" y="365760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4600" y="42670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0880" y="480060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716440" y="2921040"/>
            <a:ext cx="2539800" cy="2463480"/>
            <a:chOff x="5716440" y="2921040"/>
            <a:chExt cx="2539800" cy="2463480"/>
          </a:xfrm>
        </p:grpSpPr>
        <p:sp>
          <p:nvSpPr>
            <p:cNvPr id="107" name=""/>
            <p:cNvSpPr/>
            <p:nvPr/>
          </p:nvSpPr>
          <p:spPr>
            <a:xfrm>
              <a:off x="5793480" y="297180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6440" y="292104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6440" y="351468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6440" y="474984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26920" y="365760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47480" y="426708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3760" y="480060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09960" y="5410080"/>
            <a:ext cx="1447560" cy="838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81760" y="5410080"/>
            <a:ext cx="1371600" cy="838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3080" y="5892840"/>
            <a:ext cx="1473120" cy="635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13760" y="601992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6320" y="228600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4320" y="236232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3240" y="3513240"/>
            <a:ext cx="5369040" cy="270180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D45-69E7-41EA-B43D-F0936DDD9E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ternet traffic consists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et is roughly 64 to 1,500 character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cket has a source and destination IP address, and a pay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A3C-3A03-46BA-97EC-31836085A8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66880" y="1905120"/>
            <a:ext cx="3657600" cy="4114800"/>
            <a:chOff x="2666880" y="1905120"/>
            <a:chExt cx="3657600" cy="4114800"/>
          </a:xfrm>
        </p:grpSpPr>
        <p:sp>
          <p:nvSpPr>
            <p:cNvPr id="125" name=""/>
            <p:cNvSpPr/>
            <p:nvPr/>
          </p:nvSpPr>
          <p:spPr>
            <a:xfrm>
              <a:off x="266688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0120" y="200052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9680" y="261000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362840"/>
              <a:ext cx="149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854-B0E7-43F9-A863-F41DCEE619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onsists of 4 “octets”: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4.178.16.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permanently assigned to a host, or dynamically assigned when the host is boo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758,096,384 IP addresse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running out!  (sort o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57D-9F42-4D48-AE4D-0615390FFD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1905120"/>
            <a:ext cx="3657600" cy="4114800"/>
            <a:chOff x="609480" y="1905120"/>
            <a:chExt cx="3657600" cy="4114800"/>
          </a:xfrm>
        </p:grpSpPr>
        <p:sp>
          <p:nvSpPr>
            <p:cNvPr id="135" name=""/>
            <p:cNvSpPr/>
            <p:nvPr/>
          </p:nvSpPr>
          <p:spPr>
            <a:xfrm>
              <a:off x="60948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82720" y="200052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12280" y="261000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2000" y="4362840"/>
              <a:ext cx="149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952880" y="1905120"/>
            <a:ext cx="3657600" cy="41148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5120" y="200016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7.99.106.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6120" y="261000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185.108.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poetry of Zambian orig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AD7-D0AB-4994-827F-335893F58E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IP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1905120"/>
            <a:ext cx="3657600" cy="41148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5400" y="266688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7.99.106.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9080" y="198108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9.185.108.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,864 matches foun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1: 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1905120"/>
            <a:ext cx="3657600" cy="4114800"/>
            <a:chOff x="685800" y="1905120"/>
            <a:chExt cx="3657600" cy="4114800"/>
          </a:xfrm>
        </p:grpSpPr>
        <p:sp>
          <p:nvSpPr>
            <p:cNvPr id="155" name=""/>
            <p:cNvSpPr/>
            <p:nvPr/>
          </p:nvSpPr>
          <p:spPr>
            <a:xfrm>
              <a:off x="685800" y="1905120"/>
              <a:ext cx="3657600" cy="4114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8040" y="2000160"/>
              <a:ext cx="273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7.99.106.1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9040" y="2610000"/>
              <a:ext cx="293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9.185.108.15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3581280"/>
              <a:ext cx="312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ench poetry of Zambian origin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25909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7A2-8199-4B52-8E81-3D419AC842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Interne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72E-DB13-4E82-84FB-E2AA3E7150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400-D86A-4232-A41F-59B7A7F536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FAD-8C3F-491E-A97A-FC2D0378BD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882760" y="2666880"/>
            <a:ext cx="2134800" cy="1923120"/>
            <a:chOff x="5882760" y="2666880"/>
            <a:chExt cx="2134800" cy="1923120"/>
          </a:xfrm>
        </p:grpSpPr>
        <p:sp>
          <p:nvSpPr>
            <p:cNvPr id="199" name=""/>
            <p:cNvSpPr/>
            <p:nvPr/>
          </p:nvSpPr>
          <p:spPr>
            <a:xfrm>
              <a:off x="7162920" y="3048120"/>
              <a:ext cx="0" cy="83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1960" y="2666880"/>
              <a:ext cx="169560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To the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2760" y="3886200"/>
              <a:ext cx="1524960" cy="7038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135.104.5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705720" y="46483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B96-E222-4CF2-B111-3984105EBC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rea network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mod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114800"/>
            <a:ext cx="18288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562720"/>
            <a:ext cx="1828800" cy="53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1055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600" y="41911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6960" y="41911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7240" y="5637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96600" y="5638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3640" y="56386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.104.5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9600" y="3429000"/>
            <a:ext cx="406440" cy="685800"/>
            <a:chOff x="1479600" y="3429000"/>
            <a:chExt cx="406440" cy="685800"/>
          </a:xfrm>
        </p:grpSpPr>
        <p:sp>
          <p:nvSpPr>
            <p:cNvPr id="223" name=""/>
            <p:cNvSpPr/>
            <p:nvPr/>
          </p:nvSpPr>
          <p:spPr>
            <a:xfrm>
              <a:off x="147960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7652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2240" y="2209680"/>
            <a:ext cx="1256760" cy="703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971800"/>
            <a:ext cx="0" cy="45720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800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82760" y="2666880"/>
            <a:ext cx="2134800" cy="1923120"/>
            <a:chOff x="5882760" y="2666880"/>
            <a:chExt cx="2134800" cy="1923120"/>
          </a:xfrm>
        </p:grpSpPr>
        <p:sp>
          <p:nvSpPr>
            <p:cNvPr id="231" name=""/>
            <p:cNvSpPr/>
            <p:nvPr/>
          </p:nvSpPr>
          <p:spPr>
            <a:xfrm>
              <a:off x="7162920" y="30481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1960" y="2666880"/>
              <a:ext cx="169560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the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760" y="3886200"/>
              <a:ext cx="15249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5.104.52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01600" y="3429000"/>
            <a:ext cx="406440" cy="685800"/>
            <a:chOff x="2001600" y="3429000"/>
            <a:chExt cx="406440" cy="685800"/>
          </a:xfrm>
        </p:grpSpPr>
        <p:sp>
          <p:nvSpPr>
            <p:cNvPr id="235" name=""/>
            <p:cNvSpPr/>
            <p:nvPr/>
          </p:nvSpPr>
          <p:spPr>
            <a:xfrm>
              <a:off x="200160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852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535120" y="3429000"/>
            <a:ext cx="406440" cy="685800"/>
            <a:chOff x="2535120" y="3429000"/>
            <a:chExt cx="406440" cy="685800"/>
          </a:xfrm>
        </p:grpSpPr>
        <p:sp>
          <p:nvSpPr>
            <p:cNvPr id="238" name=""/>
            <p:cNvSpPr/>
            <p:nvPr/>
          </p:nvSpPr>
          <p:spPr>
            <a:xfrm>
              <a:off x="2535120" y="3429000"/>
              <a:ext cx="406440" cy="398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2040" y="38862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256-628E-479C-9E62-42316BCC92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242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636-7663-4728-894D-4CF13B4C95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285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3400" y="4129200"/>
            <a:ext cx="291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ch router has a list of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 destination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to forward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 the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190760" y="3581280"/>
            <a:ext cx="1447560" cy="106704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67360" y="5805360"/>
            <a:ext cx="35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..except this gateway, which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 single “default” ro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352320" y="5486040"/>
            <a:ext cx="838440" cy="685800"/>
          </a:xfrm>
          <a:prstGeom prst="line">
            <a:avLst/>
          </a:prstGeom>
          <a:ln w="6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568-B084-4E30-8D9F-A1BCC6D3E3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2120" y="2514600"/>
            <a:ext cx="1571400" cy="1448640"/>
            <a:chOff x="762120" y="2514600"/>
            <a:chExt cx="1571400" cy="1448640"/>
          </a:xfrm>
        </p:grpSpPr>
        <p:sp>
          <p:nvSpPr>
            <p:cNvPr id="345" name=""/>
            <p:cNvSpPr/>
            <p:nvPr/>
          </p:nvSpPr>
          <p:spPr>
            <a:xfrm>
              <a:off x="909000" y="281916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2120" y="281124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308916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366552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5960" y="312408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70160" y="335268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4880" y="365760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1800" y="251460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00600" y="3048120"/>
            <a:ext cx="1571400" cy="915480"/>
            <a:chOff x="4800600" y="3048120"/>
            <a:chExt cx="1571400" cy="915480"/>
          </a:xfrm>
        </p:grpSpPr>
        <p:sp>
          <p:nvSpPr>
            <p:cNvPr id="354" name=""/>
            <p:cNvSpPr/>
            <p:nvPr/>
          </p:nvSpPr>
          <p:spPr>
            <a:xfrm>
              <a:off x="48006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06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093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33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556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819520" y="3048120"/>
            <a:ext cx="1571400" cy="915480"/>
            <a:chOff x="2819520" y="3048120"/>
            <a:chExt cx="1571400" cy="915480"/>
          </a:xfrm>
        </p:grpSpPr>
        <p:sp>
          <p:nvSpPr>
            <p:cNvPr id="360" name=""/>
            <p:cNvSpPr/>
            <p:nvPr/>
          </p:nvSpPr>
          <p:spPr>
            <a:xfrm>
              <a:off x="281952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952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2828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2228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456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629400" y="3048120"/>
            <a:ext cx="1571400" cy="915480"/>
            <a:chOff x="6629400" y="3048120"/>
            <a:chExt cx="1571400" cy="915480"/>
          </a:xfrm>
        </p:grpSpPr>
        <p:sp>
          <p:nvSpPr>
            <p:cNvPr id="366" name=""/>
            <p:cNvSpPr/>
            <p:nvPr/>
          </p:nvSpPr>
          <p:spPr>
            <a:xfrm>
              <a:off x="66294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1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21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44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952880"/>
            <a:ext cx="1571400" cy="915480"/>
            <a:chOff x="4876920" y="4952880"/>
            <a:chExt cx="1571400" cy="915480"/>
          </a:xfrm>
        </p:grpSpPr>
        <p:sp>
          <p:nvSpPr>
            <p:cNvPr id="372" name=""/>
            <p:cNvSpPr/>
            <p:nvPr/>
          </p:nvSpPr>
          <p:spPr>
            <a:xfrm>
              <a:off x="48769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69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56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796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319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8120" y="4952880"/>
            <a:ext cx="1571400" cy="915480"/>
            <a:chOff x="3048120" y="4952880"/>
            <a:chExt cx="1571400" cy="915480"/>
          </a:xfrm>
        </p:grpSpPr>
        <p:sp>
          <p:nvSpPr>
            <p:cNvPr id="378" name=""/>
            <p:cNvSpPr/>
            <p:nvPr/>
          </p:nvSpPr>
          <p:spPr>
            <a:xfrm>
              <a:off x="30481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81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68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08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31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81680" y="4419720"/>
            <a:ext cx="1571760" cy="1448640"/>
            <a:chOff x="6781680" y="4419720"/>
            <a:chExt cx="1571760" cy="1448640"/>
          </a:xfrm>
        </p:grpSpPr>
        <p:sp>
          <p:nvSpPr>
            <p:cNvPr id="384" name=""/>
            <p:cNvSpPr/>
            <p:nvPr/>
          </p:nvSpPr>
          <p:spPr>
            <a:xfrm>
              <a:off x="6928920" y="47242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1680" y="47163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81680" y="49942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1680" y="55706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85880" y="50292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9044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8480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47880" y="441972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447920" y="3048120"/>
            <a:ext cx="700704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14A-DEF0-49FA-918E-1BD43E6AA53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rt (in D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path to an Internet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diagnose those mysterious Internet failures and slow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9FA-A4F3-44D1-A71B-8EDF32DC75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81760"/>
            <a:chOff x="0" y="0"/>
            <a:chExt cx="9144000" cy="688176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rcRect l="0" t="0" r="0" b="15555"/>
            <a:stretch/>
          </p:blipFill>
          <p:spPr>
            <a:xfrm>
              <a:off x="0" y="0"/>
              <a:ext cx="9144000" cy="57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rcRect l="0" t="66326" r="0" b="14515"/>
            <a:stretch/>
          </p:blipFill>
          <p:spPr>
            <a:xfrm>
              <a:off x="0" y="5567400"/>
              <a:ext cx="914400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23E-AE83-49AF-8960-3D8625E426C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0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43B-EDF9-416D-B3CE-C020F7769FE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2F1-F39B-4400-93E4-6F8933B4B9B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0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473-4ECD-4D4D-85AB-3261898574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0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C5D-DF32-4225-9FFD-8B54268165B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0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F5E-3D1A-4827-9ADE-8F0B45EB807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0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987-8503-4FEC-BE2F-8F210B8F879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B0E-FEE7-4C19-84CC-A71CC398933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0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1C2-B9F5-4A5A-8976-CA145F87265F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0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082-7D73-4EA3-BFD3-B25AF4EA2D47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490-C689-4A30-88E1-44513238F56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C47-35CA-445C-8660-55D67FE2A1DE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1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31A-89D1-4B53-9649-57A7424F08E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40F-A076-4346-BAA9-98B9EA8573F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37A-7230-4DB8-9A46-BCB675608A38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87D-1FFE-4DE2-B8DB-4EE6A429DAA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C08-5687-4491-8C96-08D5AFB86EA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1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110-C1F6-4A9E-BE12-A59C97FEF552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7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15A-93F0-4819-B0B1-80EB6C664B46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8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7F7-B444-4299-A742-4802770BE71E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9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77E-0151-40BF-BDA8-B3F7D9F4D229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20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AE3-9FEA-47C7-907B-46918E0FCE76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2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71-D1D1-427B-B25D-FDBEA729FF95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2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243-961E-4616-903B-0E04FDBCD265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e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D9C-C73B-4811-B572-BF106EF703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i01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555-6E80-4ECC-A852-D3FA77CBE3D1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l121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336-0FA1-479B-B774-329196D7A504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these packets find their way through this m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routing lists have some 50,000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ze of this table is a limit to Internet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ackets don’t find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y routers drop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55F-4F02-48EC-9BEC-3F164A14A2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 play hot-potato with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only need to know the next router for any IP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verage packet travels 17 hops on the Internet between client and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CF1-CB1B-413F-8FCE-31D500C916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ing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A2F-F9DE-449C-BD77-15F8530197D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3778200" cy="34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s packets into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1 - 655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, or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430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BE1-0C87-4152-9F5E-79C286125B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rvices, 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: 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: tel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: smtp (ma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: http (w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6A4-5AE9-450B-87B7-577B8564F03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p.research.bell-lab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nasa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198.116.116.10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.att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heswick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nverts names to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6E8-41E4-4B47-95D5-E6350D3DBB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ample Internet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mplified a bi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208-EC16-428A-9757-AE23B026C0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types URL found on a beer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budweis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9D1-9F6C-4ACB-A013-492A438468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sco" descr=""/>
          <p:cNvPicPr/>
          <p:nvPr/>
        </p:nvPicPr>
        <p:blipFill>
          <a:blip r:embed="rId1"/>
          <a:stretch/>
        </p:blipFill>
        <p:spPr>
          <a:xfrm>
            <a:off x="2295360" y="0"/>
            <a:ext cx="4413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26D-C890-45A2-BEF4-D18F8F4424C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owser uses the DNS to look up the IP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dweis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swer is 207.87.7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4038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294000" y="3809520"/>
            <a:ext cx="3636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8DC-22E5-47AD-8848-34B1C90D817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r sends request packet to the gatew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to 207.87.7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457200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914400" y="472392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D4D-9D40-4A71-9E01-F2A49D6430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forwards packet to default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4572000"/>
            <a:ext cx="579240" cy="19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914400" y="472392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09520"/>
            <a:ext cx="8380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A36-0B56-4B83-B2D1-56219E0E03B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547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E2D-EE1C-42A4-A47B-7B691096DB16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608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573-CFFF-4C94-9B12-EAD87ADC451B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ery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2B5-88A2-4332-B46F-F0C3196580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types the wrong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RLs not suited to spe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lling counts in U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udge.com is not drudgerepor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dwies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altavista.com is not www.altavista.digita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D78-6D62-49B4-ABB7-9EF7A14976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gives an incorrec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5111640"/>
            <a:ext cx="57924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09600" y="511164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458136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09600" y="458136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62280" y="5111640"/>
            <a:ext cx="57924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2480" y="4944960"/>
            <a:ext cx="183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0028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98680" y="4776840"/>
            <a:ext cx="1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510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4780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71760" y="494496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564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24160" y="4610160"/>
            <a:ext cx="13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76480" y="5138640"/>
            <a:ext cx="13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27040" y="5138640"/>
            <a:ext cx="1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00320" y="477684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66680" y="4834080"/>
            <a:ext cx="1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52640" y="457200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84520" y="365760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26960" y="38862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141360" y="27432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989080" y="27432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4644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ght be hacked or miss-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che poiso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57600" y="4038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294000" y="3809520"/>
            <a:ext cx="3636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AB7-FA62-4F8D-8A9F-B267897EA9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724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2514240" y="2361960"/>
            <a:ext cx="114300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362320" y="10666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7000" y="3352680"/>
            <a:ext cx="33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migh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ve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32C-D211-40B3-9669-637FF002991B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785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89360" y="4419720"/>
            <a:ext cx="383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ves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usually at the end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in the midd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03F-AC6B-4C1E-B641-5E2E5E5D0857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u" descr=""/>
          <p:cNvPicPr/>
          <p:nvPr/>
        </p:nvPicPr>
        <p:blipFill>
          <a:blip r:embed="rId1"/>
          <a:stretch/>
        </p:blipFill>
        <p:spPr>
          <a:xfrm>
            <a:off x="2228760" y="0"/>
            <a:ext cx="4686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F0E-64B6-4D52-8150-2A09573B905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1353960" y="5410080"/>
            <a:ext cx="1998720" cy="963720"/>
            <a:chOff x="1353960" y="5410080"/>
            <a:chExt cx="1998720" cy="963720"/>
          </a:xfrm>
        </p:grpSpPr>
        <p:sp>
          <p:nvSpPr>
            <p:cNvPr id="847" name=""/>
            <p:cNvSpPr/>
            <p:nvPr/>
          </p:nvSpPr>
          <p:spPr>
            <a:xfrm>
              <a:off x="135396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30400" y="595008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5396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30400" y="5419800"/>
              <a:ext cx="57960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82720" y="5950080"/>
              <a:ext cx="579600" cy="193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03280" y="5783400"/>
              <a:ext cx="18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207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19480" y="5614920"/>
              <a:ext cx="144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718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686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92200" y="5783400"/>
              <a:ext cx="0" cy="1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76440" y="5448240"/>
              <a:ext cx="133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4600" y="5448240"/>
              <a:ext cx="133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9728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76440" y="5977080"/>
              <a:ext cx="133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47840" y="597708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1120" y="5614920"/>
              <a:ext cx="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87480" y="5672160"/>
              <a:ext cx="133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73440" y="5410080"/>
              <a:ext cx="579240" cy="19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505320" y="4495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3352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8128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0600" y="3352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81280" y="2209680"/>
            <a:ext cx="57960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193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33720" y="22096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47242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962160" y="3581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809880" y="35812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666880" y="358128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181120" y="243828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24382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38280" y="24382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4382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00992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1143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362320" y="990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90920" y="243828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743200" y="2286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3885840" y="15238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1301760"/>
            <a:ext cx="57960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8120" y="130176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81680" y="771480"/>
            <a:ext cx="579600" cy="19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458120" y="771480"/>
            <a:ext cx="579240" cy="1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110440" y="1301760"/>
            <a:ext cx="579600" cy="19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31000" y="1135080"/>
            <a:ext cx="183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484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46840" y="966960"/>
            <a:ext cx="180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995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9596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19920" y="1135080"/>
            <a:ext cx="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448840" y="966960"/>
            <a:ext cx="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201160" y="762120"/>
            <a:ext cx="579240" cy="19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676520" y="556272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2971800" y="47242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809880" y="35812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105520" y="2437920"/>
            <a:ext cx="167616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858000" y="152352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7162560" y="9907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5240" y="4419720"/>
            <a:ext cx="40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r comprom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ost common hac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990-5212-4CD5-9FF4-C4A0CA7CB4FD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TCP serv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n SGI work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600-840A-420A-AF4F-C0B193AC0AE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144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D27-EDCE-4FFA-97A4-7552CF49105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bad services are found with a port 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ADF-62A5-4825-97DC-4FB88F26A3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58040" y="1523880"/>
            <a:ext cx="71150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mux         1/tcp # TCP port multiplexer (RFC 10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          7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card        9/tcp sink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ytime       1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gen       19/tcp ttyts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tp           21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 2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lnet        2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tp          25/tcp 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          37/tcp ti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ain        53/tcp nameserver    # name-domai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ger        79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          80/tcp # World-Wide-Web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-3        110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nrpc       111/tcp rpcb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ap         14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ell        514/tcp cmd           # no passwords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er      515/tcp spooler               # line printer spoo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54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fs          564/tcp 9fs           # plan 9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ec         512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in        513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68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E22-8D92-42EB-82AC-2445321710B1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2320" y="1600200"/>
            <a:ext cx="57279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81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86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90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 90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map        993/tcp # imap over s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48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5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6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69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097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19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51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17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2049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2077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gi-dgl     5232/tcp # SGI Distributed Graphics L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fengine    5308/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0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05C-8DDB-4CFD-890F-7A49AA048E61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1 (cont. 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16280" y="1828800"/>
            <a:ext cx="348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1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2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014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known     6666/tcp unas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B42-783E-4183-BDF8-20875D87F8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9520" y="1752480"/>
            <a:ext cx="859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h           22/tcp SSH Remote Logi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p          25/tcp Simple Mail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          80/tcp World Wide Web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ge        990/tcp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d         999/tcp g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ackjack   1025/tcp network black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600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800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2A7-BCEC-4284-AA2E-0156FDE2A90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5480" y="1828800"/>
            <a:ext cx="859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  22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          80/tcp # World-Wide-Web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fs          564/tcp 9fs           # plan 9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 99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known     6010/tcp un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935-DF83-4CFD-A832-8B1347FAB33E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t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2160" y="21337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tbios-ssn  139/tcp NETBIOS Sess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557-74C4-49C5-988A-E727BDE33276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1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21F-6F2C-4224-9968-1542C789B7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one service is relatively w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has experts, but it doesn’t show up in their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ki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ly cracked password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7AD-BFBF-45B0-AC90-900A6EC4347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PCs running Windows can be relatively safe from attacks on network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3BA-23C3-4F97-95FF-46E69830FAB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s relatively s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e client, not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urned on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not the target of a specific, personal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turn off that file shar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701-D2F5-4337-860E-B953213CAF3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2EE-5BDD-4092-9CFD-0D5B77A4C0FA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61240" cy="387036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21B-CE60-49C8-A21C-DD4B2E25A39B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usefu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 other programs when moved to new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bout 200 new viruses repor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ey are spread by Wor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ecutable ?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72E-C11F-4DEB-80AC-3C37E63AB5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paylo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ard to damage hardware its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political or other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down a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yp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ly transpose a few digits on a spread-she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8E6-9912-4796-8E1D-F621712F83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s can be made attack-resi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takes judgement and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o turn off usefu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hosts are not much fun to work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can make machine-compromising mis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errors can open them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537-E2D0-4D21-A75A-F3DB385E19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Strong authent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90960" cy="364824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/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or printout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roprietary serve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B3C-F7C5-4DE7-BE11-F25005CF99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ong encryption he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fix all ou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vernment doesn’t want ubiquitous strong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CPUs can handle it easily and transpa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075-9260-4C2C-A775-D658706E75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heart of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-wired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1AB-DB84-4F12-B21D-ABDA745111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A86-FA00-42BB-ACE2-4DF8CB8FD0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host #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548-6FE0-48BE-8487-831F80E96AC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752560" y="112680"/>
            <a:ext cx="3490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8CF-97DB-4331-B82B-6A08F70C1DE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 protect a community with a guard at the ent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l services are blocked from external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et the good guys go out, and keep the bad guys from comi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erfect, but the economics ar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2FE-7A9B-4AD5-8D23-65291875B05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ks I Have 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ur profession gets above the fold on the firs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D40-0F33-4B10-83AB-EBF77944F47E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rris Worm (198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 alon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 gu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s in two comm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med up hosts with reproducing worm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protected Bell Labs from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E93-A263-4014-918F-3DF33383B90C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ous web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host #1-type h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hard to turn off all services and still have a useful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content” makes it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cate sites are harder to pro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 is a hallmark of g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C5C-ADE5-4EB2-A713-B6CC5B37E99C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r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ummy, ignored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like host #2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ad service turn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never know how they brok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goal was to damage our re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Liberation Fro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27A-502B-48AB-A8AE-730E65880334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420-FB12-47AD-B6B0-E45431AF446E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o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 job in compu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eople are scarce, and well-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and training for the “next w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s on the infrastructure envisi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ce Semina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666-C8D7-477B-B98C-8E14D7689C10}" type="slidenum">
              <a:t>9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Feb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21:59:22Z</dcterms:created>
  <dc:creator>Bill Cheswick</dc:creator>
  <dc:description/>
  <dc:language>en-US</dc:language>
  <cp:lastModifiedBy>Bill Cheswick</cp:lastModifiedBy>
  <dcterms:modified xsi:type="dcterms:W3CDTF">1999-02-06T01:54:50Z</dcterms:modified>
  <cp:revision>14</cp:revision>
  <dc:subject/>
  <dc:title>The Internet: what it looks like, how it works, and how it is abused</dc:title>
</cp:coreProperties>
</file>