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pid Net Tri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l Chesw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l Labs, Lucent T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s@bell-lab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60720" y="534960"/>
            <a:ext cx="28447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ks on the 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amp ro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t packet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GP4 hijac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 cache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amp the technical support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rastructure Probl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ffy’s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you simulate the backb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t become uns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n it at Netcom an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&amp;T phone system had it on M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 18 (MIT) advertised by a little gu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ller’s law:  there is a constant amount of Clue on the 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ebacks require C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nential tricks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ris w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&amp;T’s Intranet is larger than the net the worm atta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would it sp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N server bug (get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001880" y="2697120"/>
            <a:ext cx="71550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</a:t>
            </a:r>
            <a:r>
              <a:rPr b="1" i="1" lang="en-US" sz="4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her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fect your syste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0680" y="1488960"/>
            <a:ext cx="863604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 of future net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ould be much worse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ce” is larger and more homoge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t is more important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ryptio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u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g(1) is a muni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aveling Progra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feature can be a 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U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ystem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il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requires discip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et leaders have little discipline: other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receipt implemen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lifetime and “teleclick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 not delivered: out of teleclick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click re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irus uses fewer clicks than a real mail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om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mosomal TTL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ens a bit at each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merase” lengthens the telom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found in germ cells and stem c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bout Dolly’s telome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90% of cancer colonies express telomera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ved from a set-top 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-course goal changes are a bad security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ave no particular quarrel with th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-code verifier is probably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fancy for my ta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olve the halting problem with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^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 of the 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nential tri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ial-of-service attacks (no time for it to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s on the 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icon snake oil - can the net replace the libr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search engine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ot like the old Blit/Jerq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write the old Blit programs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 (my favorite editor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Java might make sense as an OS for a 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ut my trust in these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running as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ct on my beha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ave access to my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refer source code, p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vet and “decode” critical software, when I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Do Programs Ru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590920" y="1752480"/>
            <a:ext cx="3886200" cy="3733920"/>
            <a:chOff x="2590920" y="1752480"/>
            <a:chExt cx="3886200" cy="3733920"/>
          </a:xfrm>
        </p:grpSpPr>
        <p:sp>
          <p:nvSpPr>
            <p:cNvPr id="82" name=""/>
            <p:cNvSpPr/>
            <p:nvPr/>
          </p:nvSpPr>
          <p:spPr>
            <a:xfrm>
              <a:off x="3505320" y="2590920"/>
              <a:ext cx="2133720" cy="2057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90920" y="1752480"/>
              <a:ext cx="3886200" cy="3733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03880" y="1965240"/>
              <a:ext cx="1233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3805200" y="3322800"/>
              <a:ext cx="138096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rne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3625920" y="1951200"/>
              <a:ext cx="17413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Do Programs Ru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590920" y="1752480"/>
            <a:ext cx="3886200" cy="3733920"/>
            <a:chOff x="2590920" y="1752480"/>
            <a:chExt cx="3886200" cy="3733920"/>
          </a:xfrm>
        </p:grpSpPr>
        <p:sp>
          <p:nvSpPr>
            <p:cNvPr id="89" name=""/>
            <p:cNvSpPr/>
            <p:nvPr/>
          </p:nvSpPr>
          <p:spPr>
            <a:xfrm>
              <a:off x="3505320" y="2590920"/>
              <a:ext cx="2133720" cy="2057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90920" y="1752480"/>
              <a:ext cx="3886200" cy="3733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03880" y="1965240"/>
              <a:ext cx="1233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3805200" y="3322800"/>
              <a:ext cx="138096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rne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3625920" y="1951200"/>
              <a:ext cx="17413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 txBox="1"/>
          <p:nvPr/>
        </p:nvSpPr>
        <p:spPr>
          <a:xfrm>
            <a:off x="2705040" y="5608800"/>
            <a:ext cx="35830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his model is 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t should 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55760" y="1812960"/>
            <a:ext cx="12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03520" y="2743200"/>
            <a:ext cx="2133720" cy="205740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89120" y="1905120"/>
            <a:ext cx="3886200" cy="373392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02080" y="2117880"/>
            <a:ext cx="12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79720" y="2103480"/>
            <a:ext cx="13809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700440" y="3475080"/>
            <a:ext cx="17413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Environmental Cho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rusted dirty machine, with firewall enforcing network restr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contai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iv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web users can’t be expected to understand the security consequences of their 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ets make execution of alien programs rou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a lot of aliens out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ckpot - exponential growth into a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 prover is complex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g F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ve Methods” aren’t standard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security effort went into the language -- the environment is an afterth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ingle security fault makes me suspect th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’ve had a number of very bad holes demonstr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228600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has le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ic Allm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 the H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yb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85800" y="2286000"/>
            <a:ext cx="7772400" cy="247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X is Much Wors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ates has let Gosling, Waldo, Arnold, et. al., off the hoo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t probably started around 19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were just messing around before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ible to the common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your port and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rly homogene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pid 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4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://etc/passw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://dev/m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local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localhost: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sadflkajsdlfjalsdkjflksdjflkasdjflksdjflksdjflksdjflakjsdlkfajslkf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pid Domain N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.com, comdotcom.com, comdotcomdotcom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donalds.com, micros0f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l-labs.com, belllabs.com, bell.dash.lab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a.do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Domain N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.org, mci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l-labs.com.a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hos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@titud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lesale Domain N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79520" y="1658880"/>
            <a:ext cx="8080200" cy="51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-hire.com              eyesight.net            quant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e-mail.com             eyesore.com             ramada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today.com              faq.com                 rebor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u.net                  fashionwear.com         recover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0minutes.com           faxit.net               rediscover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0pine.com              faxmail.net             refreshed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lives.com              feelings.com            refreshmen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bolish.com             fellatio.com            reincarn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ant.net          feta.com                religion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klands.com            fight.com               religiou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vely.com            financier.com           relish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vemail.com          flight4u.com            repairma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uvue.com              follower.com            representativ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ultery.com            food4u.com              resourcefu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vertise4u.com         freewheeling.com        restful4u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vertising4u.com       friedchicken.net        results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ffection.com           full-moon.com           resurrectio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ony.com               galleria.com            revenu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isle.com               gambling4u.com          revolutionis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lcoholic.com           games4u.com             ricott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ergist.com           gardener.com            ricotta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morous.com             globecomm.net           rocketship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gelic.com             goatcheese.com          roquefor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pid AOL account n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u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l_b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e is currently assisting the authorities with their investigation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pid Bandwidth T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585800" y="2865600"/>
            <a:ext cx="621972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pid Web Tri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ounter.digit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awards - I haven’t won over 180 of them!  I have not not won one a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 search engines!  Free index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line white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 home pages!  (Netsca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pid Web Trick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 Web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t friends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family photo alb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t publish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ssecret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.html and test/index.html, unrel, beta,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Waite asks:  is it unethical to use information found 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pid Search Engine Tricks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make reference librarians of us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 searches can be very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useful to have a unique name, like Avolio, Ranum, Bellovin, or Chesw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t friends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rietary, top secret, company confid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00dz, stup1d, warez, eleet, appz, hack3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otkit, “wazzu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pid net trick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your own:  chesupdate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net attribut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re currently all in one performance p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at 3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ts of extra capacity for Saturday break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chronous data works only if the load is very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 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pid Homework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eton High School student uses the Web first on project re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tle wom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ake Oil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liff Sto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ype may have us firing librar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better to touch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t is the 1990 equivalent of filmstrips: you don’t have to thin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stupid test:  the web as a reference libra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net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rd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es cyanuric acid stabilize the chlorine in a swimming po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meaning and etymology of intin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plays Heidi on Home Improv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“global learner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hyperfine inter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you throw a “four seamer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the hand signals used in baseball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eb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“lumbago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current and historic price of cobalt oxide, used as a paint pig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 Mayan hieroglyphics look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avelengths stimulate photochromis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rate of colorblindness (bichromatism) in the general popul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es cyanuric acid stabilize the chlorine in a swimming pool?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known - Ol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meaning and etymology of intinction?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Found in a dictionary in Belg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plays Heidi on Home Improvement?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Learned all about 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“global learner?”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No useful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hyperfine interaction?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Found: there are physics texts on the 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eb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you throw a “four seamer?”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Discussed but not descri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the hand signals used in baseball like?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Discussed, but not answ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“lumbago”?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Found in a diction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current and historic price of cobalt oxide, used as a paint pigment?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US Bureau of Mines had 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eb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 Mayan hieroglyphics look like?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Found some excellent photos and descrip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avelengths stimulate photochromism?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und at ppg.c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rate of colorblindness (bichromatism) in the general population?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Not found.  Plenty of racial rants, th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c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8 answ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4 not answ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was better than I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news would have yielded thousands of answers.  Many would even be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pid re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marketing trick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 of the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dde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cars used cars used cars used c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as background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tiny 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y below the first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=“used cars used ca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ms race: altavista.digital.com is more experienced than www.infoseek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040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attribut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easy to be anonym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land remailer is g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to launder IP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usands of volunteer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laws v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takes a lot of effort to chase someone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98520" y="457200"/>
            <a:ext cx="8136000" cy="55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TML&gt;&lt;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META Name="descriptio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="PALLISER CHEVROLET/OLDSMOBILE  Innisfail  Alberta  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: Palliser Chev/Olds, Innisfail, Alberta.  Also, Dealers for Prowler Trai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cars,used cars, gm cars,gm trucks,new trucks,used trucks,used cars, new cars,used cars alberta canada,used trucks alberta canada,  camper trailers,travel trailers,prowler trailers,rv dealer,camper trailers innisfail alberta,rv dealer innisfail alberta canada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cars,used cars, gm cars,gm trucks,new trucks,used trucks,used cars, new cars,used cars alberta canada,used trucks alberta canada,  camper trailers,travel trailers,prowler trailers,rv dealer,camper trailers innisfail alberta,rv dealer innisfail alberta canada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cars,used cars, gm cars,gm trucks,new trucks,used trucks,used cars, new cars,used cars alberta canada,used trucks alberta canada,  camper trailers,travel trailers,prowler trailers,rv dealer,camper trailers innisfail alberta,rv dealer innisfail alberta canada      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META Name="keywords" Content=" new cars,used cars, gm cars,gm trucks,new trucks,used trucks,used cars, new cars,used cars alberta canada,used trucks alberta canada,  camper trailers,travel trailers,prowler trailers,rv dealer,camper trailers innisfail alberta,rv dealer innisfail alberta 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09480" y="814320"/>
            <a:ext cx="8077320" cy="55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6&gt; new cars,used cars, gm cars,gm trucks,new trucks,used trucks,used cars, new cars,used cars alberta canada,used trucks alberta canada,  camper trailers,travel trailers,prowler trailers,rv dealer,camper trailers innisfail alberta,rv dealer innisfail alberta 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cars,used cars, gm cars,gm trucks,new trucks,used trucks,used cars, new cars,used cars alberta canada,used trucks alberta canada,camper trailers,travel trailers,prowler trailers,rv dealer,camper trailers innisfail alberta,rv dealer innisfail alberta can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cars,used cars, gm cars,gm trucks,new trucks,used trucks,used cars, new cars,used cars alberta canada,used trucks alberta canada,  camper trailers,travel trailers,prowler trailers,rv dealer,camper trailers innisfail alberta,rv dealer innisfail alberta canada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040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Stupid Tri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 legal system is always good for new stupid tri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C newbies, and newbies in general, and putting newbies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Hom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15920" y="2224080"/>
            <a:ext cx="682956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an’t remember 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it up in Altavista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If “home page” doesn’t appear too often i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lessons so f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very hard to write software that is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s good, big is bad, but even the TCP discard service can be part of a successful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ace of targets is fairly homogenous, and growing like cra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ors are clueless: they don’t have time or tools to get a c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 tar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thing using gets(2) or sprintf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word guessing and snif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nd abuse of trust (rlogin, r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curity Arms 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knew about sniffing in the early ‘8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ve sniffing attacks in 1994 (1992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knew about sequence-guessing attacks in 19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in 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knew about IP spoofing and address-based authentication in the 8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 available in 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“Lates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’ve known about denial-of-service attacks since IP was inv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rack and 2600 published SYN attack code this su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left it out of our book:  no clear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ial-of-service is the final net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Cheswick</dc:creator>
  <dc:description/>
  <dc:language>en-US</dc:language>
  <cp:lastModifiedBy>Bill Cheswick</cp:lastModifiedBy>
  <cp:revision>0</cp:revision>
  <dc:subject/>
  <dc:title>Stupid TCP Tricks Hijacking and Spoofing</dc:title>
</cp:coreProperties>
</file>