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B15261-C7D2-4FC6-841E-3FB94CC4F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folks know that attacks on unclassified hosts can be a bi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TW,, they can commit act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t tub legal advice was that I could too, but I’m not offi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AR calls encryption a munition, and I think it is a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ilitary kills people and breaks things.   It can now important when a computer gets bro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mostly a defensive mu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ash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n attack on the core routing tables a strategic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ly amateurs have gotten the press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folks know that attacks on unclassified hosts can be a bi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TW,, they can commit act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t tub legal advice was that I could too, but I’m not offi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AR calls encryption a munition, and I think it is a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ilitary kills people and breaks things.   It can now important when a computer gets bro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mostly a defensive mu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ash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n attack on the core routing tables a strategic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ly amateurs have gotten the press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ghly increasing order of risk/time/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ghly debatable and changeable, but order of magnitude is abou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 Microsoft spelling checker suggested ‘cyaniding’ as the correct spelling for ‘sysadmi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’s right, mos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is right to think of cryptography as a mu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information highway is a vital infrastructure now, and the tools you use daily can be attacked, and defe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k the Web for ‘rootkit’ to find the netdungeons and seedy by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exportable is worth it:  real-time attacks defeated, if it takes a weekend for exhaustive search of the ke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st two use secret keys and D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stage to update our external ftp directory. Could update a web 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ful in joint ventures problem - smb and I will collaborate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ickly relinquishes permissions, after chro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y be publicly available - both companies say release will be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0c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00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 txBox="1"/>
          <p:nvPr/>
        </p:nvSpPr>
        <p:spPr>
          <a:xfrm>
            <a:off x="8651880" y="6485040"/>
            <a:ext cx="401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0B45A6AF-5228-4863-9C54-B50BA89FFA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net Security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60720" y="534960"/>
            <a:ext cx="2844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Packet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et Service Providers (IS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unet, Netcom, AT&amp;T Worldnet, Al’s Bait, Tackle, and Interne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have interconnect agreements with other ISPs: this makes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gh speed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time for trap and 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70% capacity these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ardwar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able if on sam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attacks that fiddle at thi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44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entral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onnection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eless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w 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made them ki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entral authorities - IS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changed with Border Gateway Protocol (BGP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1,000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igns most ne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incentives are a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omain Name System (D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host has an IP number, I.e. 135.104.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s prefer names: faa.do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p-level domains: gov, .edu, .com, .net, .org, .au, .tm, .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NS is a distributed database, delegating to lower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at’s different about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lain Old Tel. System (PO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 authority (the RBO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nection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ing records available per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ll understood by the leg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ized provisions for law enforcement (I.e. wireta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 hoc collection of TCP/IP inter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real central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central knowledge o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er-packet billing, in most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e equipment too busy to help law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ote attacks ar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need not be present to 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aqi bri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nymity 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verage defender is clu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d de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14400" y="33526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he Basic Problem with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nternet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me Internet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dicated H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16200" y="1996920"/>
            <a:ext cx="3710160" cy="1579680"/>
            <a:chOff x="2716200" y="1996920"/>
            <a:chExt cx="3710160" cy="1579680"/>
          </a:xfrm>
        </p:grpSpPr>
        <p:sp>
          <p:nvSpPr>
            <p:cNvPr id="165" name=""/>
            <p:cNvSpPr/>
            <p:nvPr/>
          </p:nvSpPr>
          <p:spPr>
            <a:xfrm>
              <a:off x="2716200" y="1996920"/>
              <a:ext cx="3710160" cy="15796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551400" y="2523960"/>
              <a:ext cx="21718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1828800" y="3771720"/>
            <a:ext cx="6400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Quit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dd guards, walls, etc., a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obody wants to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Host with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Network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28960" y="1943280"/>
            <a:ext cx="3692520" cy="91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92680" y="213516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28960" y="4343400"/>
            <a:ext cx="3692520" cy="912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9880" y="4535640"/>
            <a:ext cx="1765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775040" y="2857680"/>
            <a:ext cx="0" cy="1485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79132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958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48640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07996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704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16556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75912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3526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969240" y="3351240"/>
            <a:ext cx="1758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29400" y="3733920"/>
            <a:ext cx="533520" cy="304560"/>
          </a:xfrm>
          <a:prstGeom prst="line">
            <a:avLst/>
          </a:prstGeom>
          <a:ln w="7632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aud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endors sell flaw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rs don’t fix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security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ervices can be attacke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by str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89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H="1" flipV="1">
            <a:off x="1422360" y="4229280"/>
            <a:ext cx="1727280" cy="1199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235240" y="4229280"/>
            <a:ext cx="1625400" cy="1199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048120" y="4229280"/>
            <a:ext cx="1726920" cy="1199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962520" y="4229280"/>
            <a:ext cx="1625400" cy="1199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efaul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re defaul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1080" y="1909800"/>
            <a:ext cx="754704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angerou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ecure”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ctiv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“</a:t>
            </a: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nocultu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mall set of targe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planting Kansas with a single strain of wheat, or vineyards with a single root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ers develop attack software for the rest of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eakest Link Compromises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any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ulnerabilities are common in network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break-in com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t of th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ost’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i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sting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rity requires discipline: not found in market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-vital” targets may be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afe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erberiz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get/c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ge/un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mmercial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pen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ustom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etwork layers/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/IP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880" y="1828800"/>
            <a:ext cx="8534520" cy="4191120"/>
            <a:chOff x="380880" y="1828800"/>
            <a:chExt cx="8534520" cy="4191120"/>
          </a:xfrm>
        </p:grpSpPr>
        <p:sp>
          <p:nvSpPr>
            <p:cNvPr id="93" name=""/>
            <p:cNvSpPr txBox="1"/>
            <p:nvPr/>
          </p:nvSpPr>
          <p:spPr>
            <a:xfrm>
              <a:off x="555480" y="1979640"/>
              <a:ext cx="818820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FDDI, ATM, packet radio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880" y="1828800"/>
              <a:ext cx="853452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819520"/>
              <a:ext cx="853452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4876920"/>
              <a:ext cx="853452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afer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P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hard to turn off all the bad services on many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irewall limits network services at some appropriate chok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fers some central control to a distributed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secure h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community of insecure hosts can be protected from an external attack on thes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irewall enforces a network access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not a perfec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rotect nets with unsaf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ingle point of control and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nother layer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dmission that hosts may not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Do you control the whol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irewalls - not a Panac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go aroun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go through the ba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give community a false sense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 Firewall shields host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hat cannot shield themse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03240" y="1747800"/>
            <a:ext cx="6519960" cy="4678560"/>
            <a:chOff x="903240" y="1747800"/>
            <a:chExt cx="6519960" cy="4678560"/>
          </a:xfrm>
        </p:grpSpPr>
        <p:grpSp>
          <p:nvGrpSpPr>
            <p:cNvPr id="225" name=""/>
            <p:cNvGrpSpPr/>
            <p:nvPr/>
          </p:nvGrpSpPr>
          <p:grpSpPr>
            <a:xfrm>
              <a:off x="5450040" y="1747800"/>
              <a:ext cx="1973160" cy="4170240"/>
              <a:chOff x="5450040" y="1747800"/>
              <a:chExt cx="1973160" cy="417024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5450040" y="4330800"/>
                <a:ext cx="1973160" cy="733320"/>
                <a:chOff x="5450040" y="4330800"/>
                <a:chExt cx="1973160" cy="73332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5983200" y="4330800"/>
                  <a:ext cx="403200" cy="347400"/>
                  <a:chOff x="5983200" y="4330800"/>
                  <a:chExt cx="403200" cy="3474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598320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0847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60181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V="1">
                    <a:off x="6068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V="1">
                    <a:off x="61340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>
                    <a:off x="61848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5481720" y="4330800"/>
                  <a:ext cx="385920" cy="347400"/>
                  <a:chOff x="5481720" y="4330800"/>
                  <a:chExt cx="385920" cy="3474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481720" y="4330800"/>
                    <a:ext cx="3859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8324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V="1">
                    <a:off x="55166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V="1">
                    <a:off x="55674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V="1">
                    <a:off x="5632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56833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485040" y="4330800"/>
                  <a:ext cx="403200" cy="347400"/>
                  <a:chOff x="6485040" y="4330800"/>
                  <a:chExt cx="403200" cy="347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648504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658656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V="1">
                    <a:off x="65358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65707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66358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67039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953400" y="4330800"/>
                  <a:ext cx="401760" cy="347400"/>
                  <a:chOff x="6953400" y="4330800"/>
                  <a:chExt cx="401760" cy="3474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95340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0549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69865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70372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71042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V="1">
                    <a:off x="71550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5481720" y="4707000"/>
                  <a:ext cx="385920" cy="357120"/>
                  <a:chOff x="5481720" y="4707000"/>
                  <a:chExt cx="385920" cy="35712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5481720" y="475452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58324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5166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5674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63256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68332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983200" y="4707000"/>
                  <a:ext cx="403200" cy="357120"/>
                  <a:chOff x="5983200" y="4707000"/>
                  <a:chExt cx="403200" cy="3571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98320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0847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60181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68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1340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1848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6485040" y="4707000"/>
                  <a:ext cx="403200" cy="357120"/>
                  <a:chOff x="6485040" y="4707000"/>
                  <a:chExt cx="403200" cy="3571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648504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58656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5358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5707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63588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70392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6953400" y="4707000"/>
                  <a:ext cx="401760" cy="357120"/>
                  <a:chOff x="6953400" y="4707000"/>
                  <a:chExt cx="401760" cy="3571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695340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0549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9865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0372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1042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1550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5450040" y="468792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50040" y="1747800"/>
                <a:ext cx="1973160" cy="731880"/>
                <a:chOff x="5450040" y="1747800"/>
                <a:chExt cx="1973160" cy="7318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983200" y="1747800"/>
                  <a:ext cx="403200" cy="355680"/>
                  <a:chOff x="5983200" y="1747800"/>
                  <a:chExt cx="403200" cy="355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98320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847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V="1">
                    <a:off x="60181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V="1">
                    <a:off x="6068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V="1">
                    <a:off x="61340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V="1">
                    <a:off x="61848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5481720" y="1747800"/>
                  <a:ext cx="385920" cy="355680"/>
                  <a:chOff x="5481720" y="1747800"/>
                  <a:chExt cx="385920" cy="3556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5481720" y="174780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8324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V="1">
                    <a:off x="55166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V="1">
                    <a:off x="55674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5632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V="1">
                    <a:off x="56833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6485040" y="1747800"/>
                  <a:ext cx="403200" cy="355680"/>
                  <a:chOff x="6485040" y="1747800"/>
                  <a:chExt cx="403200" cy="35568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648504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658656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65358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65707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V="1">
                    <a:off x="66358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V="1">
                    <a:off x="67039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6953400" y="1747800"/>
                  <a:ext cx="401760" cy="355680"/>
                  <a:chOff x="6953400" y="1747800"/>
                  <a:chExt cx="401760" cy="3556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695340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0549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69865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V="1">
                    <a:off x="70372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V="1">
                    <a:off x="71042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V="1">
                    <a:off x="71550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5481720" y="2131920"/>
                  <a:ext cx="385920" cy="347760"/>
                  <a:chOff x="5481720" y="2131920"/>
                  <a:chExt cx="385920" cy="34776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5481720" y="2179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558324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166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74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63256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68332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5983200" y="2131920"/>
                  <a:ext cx="403200" cy="347760"/>
                  <a:chOff x="5983200" y="2131920"/>
                  <a:chExt cx="403200" cy="3477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598320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0847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60181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6068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1340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1848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6485040" y="2131920"/>
                  <a:ext cx="403200" cy="347760"/>
                  <a:chOff x="6485040" y="2131920"/>
                  <a:chExt cx="403200" cy="34776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48504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58656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5358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5707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63588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670392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6953400" y="2131920"/>
                  <a:ext cx="401760" cy="347760"/>
                  <a:chOff x="6953400" y="2131920"/>
                  <a:chExt cx="401760" cy="3477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695340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0549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9865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0372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1042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550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5450040" y="211284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450040" y="2611440"/>
                <a:ext cx="1973160" cy="733320"/>
                <a:chOff x="5450040" y="2611440"/>
                <a:chExt cx="1973160" cy="73332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5983200" y="2611440"/>
                  <a:ext cx="403200" cy="347760"/>
                  <a:chOff x="5983200" y="2611440"/>
                  <a:chExt cx="403200" cy="3477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598320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0847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0181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068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1340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V="1">
                    <a:off x="61848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5481720" y="2611440"/>
                  <a:ext cx="385920" cy="347760"/>
                  <a:chOff x="5481720" y="2611440"/>
                  <a:chExt cx="385920" cy="3477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5481720" y="261144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558324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55166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55674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5632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56833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485040" y="2611440"/>
                  <a:ext cx="403200" cy="347760"/>
                  <a:chOff x="6485040" y="2611440"/>
                  <a:chExt cx="403200" cy="3477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648504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58656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V="1">
                    <a:off x="65358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V="1">
                    <a:off x="65707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>
                    <a:off x="66358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67039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953400" y="2611440"/>
                  <a:ext cx="401760" cy="347760"/>
                  <a:chOff x="6953400" y="2611440"/>
                  <a:chExt cx="401760" cy="34776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695340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0549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V="1">
                    <a:off x="69865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V="1">
                    <a:off x="70372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V="1">
                    <a:off x="71042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71550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481720" y="2987640"/>
                  <a:ext cx="385920" cy="357120"/>
                  <a:chOff x="5481720" y="2987640"/>
                  <a:chExt cx="385920" cy="3571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5481720" y="303516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58324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5166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5674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63256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68332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5983200" y="2987640"/>
                  <a:ext cx="403200" cy="357120"/>
                  <a:chOff x="5983200" y="2987640"/>
                  <a:chExt cx="403200" cy="3571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598320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0847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0181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068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1340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1848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6485040" y="2987640"/>
                  <a:ext cx="403200" cy="357120"/>
                  <a:chOff x="6485040" y="2987640"/>
                  <a:chExt cx="403200" cy="3571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648504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58656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5358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5707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63588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70392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953400" y="2987640"/>
                  <a:ext cx="401760" cy="357120"/>
                  <a:chOff x="6953400" y="2987640"/>
                  <a:chExt cx="401760" cy="3571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695340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0549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9865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0372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1042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71550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>
                  <a:off x="5450040" y="296856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450040" y="3467160"/>
                <a:ext cx="1973160" cy="731520"/>
                <a:chOff x="5450040" y="3467160"/>
                <a:chExt cx="1973160" cy="731520"/>
              </a:xfrm>
            </p:grpSpPr>
            <p:grpSp>
              <p:nvGrpSpPr>
                <p:cNvPr id="401" name=""/>
                <p:cNvGrpSpPr/>
                <p:nvPr/>
              </p:nvGrpSpPr>
              <p:grpSpPr>
                <a:xfrm>
                  <a:off x="5983200" y="3467160"/>
                  <a:ext cx="403200" cy="355680"/>
                  <a:chOff x="5983200" y="3467160"/>
                  <a:chExt cx="403200" cy="3556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598320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0847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V="1">
                    <a:off x="60181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V="1">
                    <a:off x="6068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V="1">
                    <a:off x="61340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V="1">
                    <a:off x="61848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5481720" y="3467160"/>
                  <a:ext cx="385920" cy="355680"/>
                  <a:chOff x="5481720" y="3467160"/>
                  <a:chExt cx="385920" cy="3556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5481720" y="346716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58324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V="1">
                    <a:off x="55166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V="1">
                    <a:off x="55674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5632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V="1">
                    <a:off x="56833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6485040" y="3467160"/>
                  <a:ext cx="403200" cy="355680"/>
                  <a:chOff x="6485040" y="3467160"/>
                  <a:chExt cx="403200" cy="3556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48504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658656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65358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V="1">
                    <a:off x="65707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V="1">
                    <a:off x="66358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>
                    <a:off x="67039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953400" y="3467160"/>
                  <a:ext cx="401760" cy="355680"/>
                  <a:chOff x="6953400" y="3467160"/>
                  <a:chExt cx="401760" cy="3556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95340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0549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>
                    <a:off x="69865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70372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V="1">
                    <a:off x="71042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V="1">
                    <a:off x="71550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5481720" y="3851280"/>
                  <a:ext cx="385920" cy="347400"/>
                  <a:chOff x="5481720" y="3851280"/>
                  <a:chExt cx="385920" cy="3474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5481720" y="3898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58324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5166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5674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63256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68332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5983200" y="3851280"/>
                  <a:ext cx="403200" cy="347400"/>
                  <a:chOff x="5983200" y="3851280"/>
                  <a:chExt cx="403200" cy="34740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598320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847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0181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068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1340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1848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485040" y="3851280"/>
                  <a:ext cx="403200" cy="347400"/>
                  <a:chOff x="6485040" y="3851280"/>
                  <a:chExt cx="403200" cy="3474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48504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58656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5358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5707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63588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70392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6953400" y="3851280"/>
                  <a:ext cx="401760" cy="347400"/>
                  <a:chOff x="6953400" y="3851280"/>
                  <a:chExt cx="401760" cy="3474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695340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0549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9865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0372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1042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1550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450040" y="383220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450040" y="5186520"/>
                <a:ext cx="1973160" cy="731520"/>
                <a:chOff x="5450040" y="5186520"/>
                <a:chExt cx="1973160" cy="7315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5983200" y="5186520"/>
                  <a:ext cx="403200" cy="355320"/>
                  <a:chOff x="5983200" y="5186520"/>
                  <a:chExt cx="403200" cy="35532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598320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0847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V="1">
                    <a:off x="60181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6068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V="1">
                    <a:off x="61340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61848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5481720" y="5186520"/>
                  <a:ext cx="385920" cy="355320"/>
                  <a:chOff x="5481720" y="5186520"/>
                  <a:chExt cx="385920" cy="3553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5481720" y="518652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58324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>
                    <a:off x="55166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>
                    <a:off x="55674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V="1">
                    <a:off x="5632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>
                    <a:off x="56833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485040" y="5186520"/>
                  <a:ext cx="403200" cy="355320"/>
                  <a:chOff x="6485040" y="5186520"/>
                  <a:chExt cx="403200" cy="3553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648504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58656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V="1">
                    <a:off x="65358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V="1">
                    <a:off x="65707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V="1">
                    <a:off x="66358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V="1">
                    <a:off x="67039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6953400" y="5186520"/>
                  <a:ext cx="401760" cy="355320"/>
                  <a:chOff x="6953400" y="5186520"/>
                  <a:chExt cx="401760" cy="35532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695340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0549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69865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V="1">
                    <a:off x="70372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V="1">
                    <a:off x="71042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V="1">
                    <a:off x="71550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5481720" y="5570640"/>
                  <a:ext cx="385920" cy="347400"/>
                  <a:chOff x="5481720" y="5570640"/>
                  <a:chExt cx="385920" cy="34740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5481720" y="561816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58324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5166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5674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563256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68332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983200" y="5570640"/>
                  <a:ext cx="403200" cy="347400"/>
                  <a:chOff x="5983200" y="5570640"/>
                  <a:chExt cx="403200" cy="34740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598320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0847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60181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6068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61340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1848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6485040" y="5570640"/>
                  <a:ext cx="403200" cy="347400"/>
                  <a:chOff x="6485040" y="5570640"/>
                  <a:chExt cx="403200" cy="34740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648504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658656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5358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5707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63588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670392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953400" y="5570640"/>
                  <a:ext cx="401760" cy="347400"/>
                  <a:chOff x="6953400" y="5570640"/>
                  <a:chExt cx="401760" cy="3474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695340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0549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69865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0372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1042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1550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5" name=""/>
                <p:cNvSpPr/>
                <p:nvPr/>
              </p:nvSpPr>
              <p:spPr>
                <a:xfrm>
                  <a:off x="5450040" y="555156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3344760" y="1747800"/>
              <a:ext cx="1970280" cy="4170240"/>
              <a:chOff x="3344760" y="1747800"/>
              <a:chExt cx="1970280" cy="417024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3344760" y="4330800"/>
                <a:ext cx="1970280" cy="733320"/>
                <a:chOff x="3344760" y="4330800"/>
                <a:chExt cx="1970280" cy="73332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3878280" y="4330800"/>
                  <a:ext cx="401760" cy="347400"/>
                  <a:chOff x="3878280" y="4330800"/>
                  <a:chExt cx="401760" cy="3474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387828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97980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39117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39625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40273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40784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3376440" y="4330800"/>
                  <a:ext cx="384120" cy="347400"/>
                  <a:chOff x="3376440" y="4330800"/>
                  <a:chExt cx="384120" cy="34740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3376440" y="4330800"/>
                    <a:ext cx="3841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34783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V="1">
                    <a:off x="34099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4606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V="1">
                    <a:off x="35258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5766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4379760" y="4330800"/>
                  <a:ext cx="401760" cy="347400"/>
                  <a:chOff x="4379760" y="4330800"/>
                  <a:chExt cx="401760" cy="3474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43797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4481640" y="4387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4430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44640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45291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V="1">
                    <a:off x="4597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4846680" y="4330800"/>
                  <a:ext cx="403200" cy="347400"/>
                  <a:chOff x="4846680" y="4330800"/>
                  <a:chExt cx="403200" cy="3474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484668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494820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48816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V="1">
                    <a:off x="49323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49975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>
                    <a:off x="50482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3376440" y="4707000"/>
                  <a:ext cx="384120" cy="357120"/>
                  <a:chOff x="3376440" y="4707000"/>
                  <a:chExt cx="384120" cy="3571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3376440" y="475452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4783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4099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4606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5258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5766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3878280" y="4707000"/>
                  <a:ext cx="401760" cy="357120"/>
                  <a:chOff x="3878280" y="4707000"/>
                  <a:chExt cx="401760" cy="35712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387828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97980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39117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39625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0273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407844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4379760" y="4707000"/>
                  <a:ext cx="401760" cy="357120"/>
                  <a:chOff x="4379760" y="4707000"/>
                  <a:chExt cx="401760" cy="35712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43797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481640" y="481968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430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4640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452916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5975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4846680" y="4707000"/>
                  <a:ext cx="403200" cy="357120"/>
                  <a:chOff x="4846680" y="4707000"/>
                  <a:chExt cx="403200" cy="35712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484668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494820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8816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49323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9975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04828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4" name=""/>
                <p:cNvSpPr/>
                <p:nvPr/>
              </p:nvSpPr>
              <p:spPr>
                <a:xfrm>
                  <a:off x="3344760" y="468792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3344760" y="1747800"/>
                <a:ext cx="1970280" cy="731880"/>
                <a:chOff x="3344760" y="1747800"/>
                <a:chExt cx="1970280" cy="73188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3878280" y="1747800"/>
                  <a:ext cx="401760" cy="355680"/>
                  <a:chOff x="3878280" y="1747800"/>
                  <a:chExt cx="401760" cy="3556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387828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97980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>
                    <a:off x="39117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V="1">
                    <a:off x="39625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V="1">
                    <a:off x="40273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V="1">
                    <a:off x="40784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3376440" y="1747800"/>
                  <a:ext cx="384120" cy="355680"/>
                  <a:chOff x="3376440" y="1747800"/>
                  <a:chExt cx="384120" cy="35568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3376440" y="174780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34783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V="1">
                    <a:off x="34099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V="1">
                    <a:off x="34606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V="1">
                    <a:off x="35258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V="1">
                    <a:off x="35766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4379760" y="1747800"/>
                  <a:ext cx="401760" cy="355680"/>
                  <a:chOff x="4379760" y="1747800"/>
                  <a:chExt cx="401760" cy="35568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43797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481640" y="180324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>
                    <a:off x="4430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>
                    <a:off x="44640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45291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4597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4846680" y="1747800"/>
                  <a:ext cx="403200" cy="355680"/>
                  <a:chOff x="4846680" y="1747800"/>
                  <a:chExt cx="403200" cy="35568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484668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94820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>
                    <a:off x="48816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49323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>
                    <a:off x="49975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V="1">
                    <a:off x="50482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3376440" y="2131920"/>
                  <a:ext cx="384120" cy="347760"/>
                  <a:chOff x="3376440" y="2131920"/>
                  <a:chExt cx="384120" cy="34776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3376440" y="217980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34783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34099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4606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5258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35766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3878280" y="2131920"/>
                  <a:ext cx="401760" cy="347760"/>
                  <a:chOff x="3878280" y="2131920"/>
                  <a:chExt cx="401760" cy="3477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387828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97980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9117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39625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0273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07844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4379760" y="2131920"/>
                  <a:ext cx="401760" cy="347760"/>
                  <a:chOff x="4379760" y="2131920"/>
                  <a:chExt cx="401760" cy="3477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43797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481640" y="2244600"/>
                    <a:ext cx="18108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430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44640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452916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45975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4846680" y="2131920"/>
                  <a:ext cx="403200" cy="347760"/>
                  <a:chOff x="4846680" y="2131920"/>
                  <a:chExt cx="403200" cy="3477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484668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94820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8816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49323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49975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04828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" name=""/>
                <p:cNvSpPr/>
                <p:nvPr/>
              </p:nvSpPr>
              <p:spPr>
                <a:xfrm>
                  <a:off x="3344760" y="211284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344760" y="2611440"/>
                <a:ext cx="1970280" cy="733320"/>
                <a:chOff x="3344760" y="2611440"/>
                <a:chExt cx="1970280" cy="7333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3878280" y="2611440"/>
                  <a:ext cx="401760" cy="347760"/>
                  <a:chOff x="3878280" y="2611440"/>
                  <a:chExt cx="401760" cy="34776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387828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97980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V="1">
                    <a:off x="39117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>
                    <a:off x="39625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40273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>
                    <a:off x="40784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3376440" y="2611440"/>
                  <a:ext cx="384120" cy="347760"/>
                  <a:chOff x="3376440" y="2611440"/>
                  <a:chExt cx="384120" cy="3477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3376440" y="261144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4783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V="1">
                    <a:off x="34099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V="1">
                    <a:off x="34606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>
                    <a:off x="35258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V="1">
                    <a:off x="35766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4379760" y="2611440"/>
                  <a:ext cx="401760" cy="347760"/>
                  <a:chOff x="4379760" y="2611440"/>
                  <a:chExt cx="401760" cy="34776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43797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4481640" y="2668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V="1">
                    <a:off x="4430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V="1">
                    <a:off x="44640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V="1">
                    <a:off x="45291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V="1">
                    <a:off x="4597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4846680" y="2611440"/>
                  <a:ext cx="403200" cy="347760"/>
                  <a:chOff x="4846680" y="2611440"/>
                  <a:chExt cx="403200" cy="34776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84668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94820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V="1">
                    <a:off x="48816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V="1">
                    <a:off x="49323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V="1">
                    <a:off x="49975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V="1">
                    <a:off x="50482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3376440" y="2987640"/>
                  <a:ext cx="384120" cy="357120"/>
                  <a:chOff x="3376440" y="2987640"/>
                  <a:chExt cx="384120" cy="35712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3376440" y="303516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4783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34099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34606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35258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35766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3878280" y="2987640"/>
                  <a:ext cx="401760" cy="357120"/>
                  <a:chOff x="3878280" y="2987640"/>
                  <a:chExt cx="401760" cy="3571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387828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397980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9117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9625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0273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07844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4379760" y="2987640"/>
                  <a:ext cx="401760" cy="357120"/>
                  <a:chOff x="4379760" y="2987640"/>
                  <a:chExt cx="401760" cy="35712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43797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481640" y="310032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430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44640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452916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5975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4846680" y="2987640"/>
                  <a:ext cx="403200" cy="357120"/>
                  <a:chOff x="4846680" y="2987640"/>
                  <a:chExt cx="403200" cy="35712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484668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94820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8816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9323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9975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04828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0" name=""/>
                <p:cNvSpPr/>
                <p:nvPr/>
              </p:nvSpPr>
              <p:spPr>
                <a:xfrm>
                  <a:off x="3344760" y="296856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344760" y="3467160"/>
                <a:ext cx="1970280" cy="731520"/>
                <a:chOff x="3344760" y="3467160"/>
                <a:chExt cx="1970280" cy="73152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3878280" y="3467160"/>
                  <a:ext cx="401760" cy="355680"/>
                  <a:chOff x="3878280" y="3467160"/>
                  <a:chExt cx="401760" cy="35568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387828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97980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V="1">
                    <a:off x="39117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V="1">
                    <a:off x="39625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V="1">
                    <a:off x="40273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V="1">
                    <a:off x="40784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3376440" y="3467160"/>
                  <a:ext cx="384120" cy="355680"/>
                  <a:chOff x="3376440" y="3467160"/>
                  <a:chExt cx="384120" cy="35568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3376440" y="346716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34783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V="1">
                    <a:off x="34099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V="1">
                    <a:off x="34606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V="1">
                    <a:off x="35258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V="1">
                    <a:off x="35766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4379760" y="3467160"/>
                  <a:ext cx="401760" cy="355680"/>
                  <a:chOff x="4379760" y="3467160"/>
                  <a:chExt cx="401760" cy="35568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43797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481640" y="352260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V="1">
                    <a:off x="4430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>
                    <a:off x="44640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>
                    <a:off x="45291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>
                    <a:off x="4597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"/>
                <p:cNvGrpSpPr/>
                <p:nvPr/>
              </p:nvGrpSpPr>
              <p:grpSpPr>
                <a:xfrm>
                  <a:off x="4846680" y="3467160"/>
                  <a:ext cx="403200" cy="355680"/>
                  <a:chOff x="4846680" y="3467160"/>
                  <a:chExt cx="403200" cy="35568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>
                    <a:off x="484668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94820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V="1">
                    <a:off x="48816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V="1">
                    <a:off x="49323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V="1">
                    <a:off x="49975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V="1">
                    <a:off x="50482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3376440" y="3851280"/>
                  <a:ext cx="384120" cy="347400"/>
                  <a:chOff x="3376440" y="3851280"/>
                  <a:chExt cx="384120" cy="34740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>
                    <a:off x="3376440" y="389880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34783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34099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34606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35258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5766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3878280" y="3851280"/>
                  <a:ext cx="401760" cy="347400"/>
                  <a:chOff x="3878280" y="3851280"/>
                  <a:chExt cx="401760" cy="34740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387828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397980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39117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39625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40273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07844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4379760" y="3851280"/>
                  <a:ext cx="401760" cy="347400"/>
                  <a:chOff x="4379760" y="3851280"/>
                  <a:chExt cx="401760" cy="34740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>
                    <a:off x="43797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481640" y="396540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430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4640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52916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5975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4846680" y="3851280"/>
                  <a:ext cx="403200" cy="347400"/>
                  <a:chOff x="4846680" y="3851280"/>
                  <a:chExt cx="403200" cy="34740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484668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494820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48816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49323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9975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504828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"/>
                <p:cNvSpPr/>
                <p:nvPr/>
              </p:nvSpPr>
              <p:spPr>
                <a:xfrm>
                  <a:off x="3344760" y="383220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3344760" y="5186520"/>
                <a:ext cx="1970280" cy="731520"/>
                <a:chOff x="3344760" y="5186520"/>
                <a:chExt cx="1970280" cy="731520"/>
              </a:xfrm>
            </p:grpSpPr>
            <p:grpSp>
              <p:nvGrpSpPr>
                <p:cNvPr id="750" name=""/>
                <p:cNvGrpSpPr/>
                <p:nvPr/>
              </p:nvGrpSpPr>
              <p:grpSpPr>
                <a:xfrm>
                  <a:off x="3878280" y="5186520"/>
                  <a:ext cx="401760" cy="355320"/>
                  <a:chOff x="3878280" y="5186520"/>
                  <a:chExt cx="401760" cy="35532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>
                    <a:off x="387828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397980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V="1">
                    <a:off x="39117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flipV="1">
                    <a:off x="39625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V="1">
                    <a:off x="40273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V="1">
                    <a:off x="40784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3376440" y="5186520"/>
                  <a:ext cx="384120" cy="355320"/>
                  <a:chOff x="3376440" y="5186520"/>
                  <a:chExt cx="384120" cy="35532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3376440" y="518652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34783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V="1">
                    <a:off x="34099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V="1">
                    <a:off x="34606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V="1">
                    <a:off x="35258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V="1">
                    <a:off x="35766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4379760" y="5186520"/>
                  <a:ext cx="401760" cy="355320"/>
                  <a:chOff x="4379760" y="5186520"/>
                  <a:chExt cx="401760" cy="35532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43797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4481640" y="5241960"/>
                    <a:ext cx="18108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4430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V="1">
                    <a:off x="44640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V="1">
                    <a:off x="45291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V="1">
                    <a:off x="4597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4846680" y="5186520"/>
                  <a:ext cx="403200" cy="355320"/>
                  <a:chOff x="4846680" y="5186520"/>
                  <a:chExt cx="403200" cy="35532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484668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94820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V="1">
                    <a:off x="48816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V="1">
                    <a:off x="49323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V="1">
                    <a:off x="49975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50482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3376440" y="5570640"/>
                  <a:ext cx="384120" cy="347400"/>
                  <a:chOff x="3376440" y="5570640"/>
                  <a:chExt cx="384120" cy="34740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3376440" y="561816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34783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4099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4606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5258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35766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3878280" y="5570640"/>
                  <a:ext cx="401760" cy="347400"/>
                  <a:chOff x="3878280" y="5570640"/>
                  <a:chExt cx="401760" cy="34740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>
                    <a:off x="387828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97980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9117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9625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40273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407844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4379760" y="5570640"/>
                  <a:ext cx="401760" cy="347400"/>
                  <a:chOff x="4379760" y="5570640"/>
                  <a:chExt cx="401760" cy="347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3797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481640" y="568476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4430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44640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52916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5975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4846680" y="5570640"/>
                  <a:ext cx="403200" cy="347400"/>
                  <a:chOff x="4846680" y="5570640"/>
                  <a:chExt cx="403200" cy="34740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484668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94820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8816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9323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9975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504828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6" name=""/>
                <p:cNvSpPr/>
                <p:nvPr/>
              </p:nvSpPr>
              <p:spPr>
                <a:xfrm>
                  <a:off x="3344760" y="555156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1236600" y="1747800"/>
              <a:ext cx="1971720" cy="4170240"/>
              <a:chOff x="1236600" y="1747800"/>
              <a:chExt cx="1971720" cy="417024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236600" y="4330800"/>
                <a:ext cx="1971720" cy="733320"/>
                <a:chOff x="1236600" y="4330800"/>
                <a:chExt cx="1971720" cy="733320"/>
              </a:xfrm>
            </p:grpSpPr>
            <p:grpSp>
              <p:nvGrpSpPr>
                <p:cNvPr id="809" name=""/>
                <p:cNvGrpSpPr/>
                <p:nvPr/>
              </p:nvGrpSpPr>
              <p:grpSpPr>
                <a:xfrm>
                  <a:off x="1771560" y="4330800"/>
                  <a:ext cx="401760" cy="347400"/>
                  <a:chOff x="1771560" y="4330800"/>
                  <a:chExt cx="401760" cy="3474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>
                    <a:off x="17715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1873080" y="4387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V="1">
                    <a:off x="18050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V="1">
                    <a:off x="18558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V="1">
                    <a:off x="19224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V="1">
                    <a:off x="19731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1270080" y="4330800"/>
                  <a:ext cx="385920" cy="347400"/>
                  <a:chOff x="1270080" y="4330800"/>
                  <a:chExt cx="385920" cy="3474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1270080" y="4330800"/>
                    <a:ext cx="3859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371600" y="4387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V="1">
                    <a:off x="13032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V="1">
                    <a:off x="13539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V="1">
                    <a:off x="14209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V="1">
                    <a:off x="14716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2273400" y="4330800"/>
                  <a:ext cx="401760" cy="347400"/>
                  <a:chOff x="2273400" y="4330800"/>
                  <a:chExt cx="401760" cy="34740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>
                    <a:off x="227340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37348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V="1">
                    <a:off x="23241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>
                    <a:off x="23572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V="1">
                    <a:off x="24242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>
                    <a:off x="24908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2741760" y="4330800"/>
                  <a:ext cx="401760" cy="347400"/>
                  <a:chOff x="2741760" y="4330800"/>
                  <a:chExt cx="401760" cy="34740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>
                    <a:off x="27417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843280" y="4387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>
                    <a:off x="2774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>
                    <a:off x="28256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V="1">
                    <a:off x="28908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V="1">
                    <a:off x="2941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1270080" y="4707000"/>
                  <a:ext cx="385920" cy="357120"/>
                  <a:chOff x="1270080" y="4707000"/>
                  <a:chExt cx="385920" cy="35712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1270080" y="475452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371600" y="481968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3032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3539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4209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47168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1771560" y="4707000"/>
                  <a:ext cx="401760" cy="357120"/>
                  <a:chOff x="1771560" y="4707000"/>
                  <a:chExt cx="401760" cy="35712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17715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873080" y="481968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8050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8558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92240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19731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2273400" y="4707000"/>
                  <a:ext cx="401760" cy="357120"/>
                  <a:chOff x="2273400" y="4707000"/>
                  <a:chExt cx="401760" cy="35712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>
                    <a:off x="227340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37348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3241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3572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4242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49084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2741760" y="4707000"/>
                  <a:ext cx="401760" cy="357120"/>
                  <a:chOff x="2741760" y="4707000"/>
                  <a:chExt cx="401760" cy="35712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27417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843280" y="481968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774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28256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289080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9415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5" name=""/>
                <p:cNvSpPr/>
                <p:nvPr/>
              </p:nvSpPr>
              <p:spPr>
                <a:xfrm>
                  <a:off x="1236600" y="468792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1236600" y="1747800"/>
                <a:ext cx="1971720" cy="731880"/>
                <a:chOff x="1236600" y="1747800"/>
                <a:chExt cx="1971720" cy="731880"/>
              </a:xfrm>
            </p:grpSpPr>
            <p:grpSp>
              <p:nvGrpSpPr>
                <p:cNvPr id="867" name=""/>
                <p:cNvGrpSpPr/>
                <p:nvPr/>
              </p:nvGrpSpPr>
              <p:grpSpPr>
                <a:xfrm>
                  <a:off x="1771560" y="1747800"/>
                  <a:ext cx="401760" cy="355680"/>
                  <a:chOff x="1771560" y="1747800"/>
                  <a:chExt cx="401760" cy="35568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17715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873080" y="180324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V="1">
                    <a:off x="18050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V="1">
                    <a:off x="18558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>
                    <a:off x="19224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V="1">
                    <a:off x="19731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1270080" y="1747800"/>
                  <a:ext cx="385920" cy="355680"/>
                  <a:chOff x="1270080" y="1747800"/>
                  <a:chExt cx="385920" cy="35568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1270080" y="174780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371600" y="180324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V="1">
                    <a:off x="13032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V="1">
                    <a:off x="13539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V="1">
                    <a:off x="14209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V="1">
                    <a:off x="14716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1" name=""/>
                <p:cNvGrpSpPr/>
                <p:nvPr/>
              </p:nvGrpSpPr>
              <p:grpSpPr>
                <a:xfrm>
                  <a:off x="2273400" y="1747800"/>
                  <a:ext cx="401760" cy="355680"/>
                  <a:chOff x="2273400" y="1747800"/>
                  <a:chExt cx="401760" cy="3556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227340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37348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V="1">
                    <a:off x="23241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V="1">
                    <a:off x="23572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V="1">
                    <a:off x="24242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V="1">
                    <a:off x="24908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2741760" y="1747800"/>
                  <a:ext cx="401760" cy="355680"/>
                  <a:chOff x="2741760" y="1747800"/>
                  <a:chExt cx="401760" cy="35568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27417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843280" y="180324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V="1">
                    <a:off x="2774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V="1">
                    <a:off x="28256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V="1">
                    <a:off x="28908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V="1">
                    <a:off x="2941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1270080" y="2131920"/>
                  <a:ext cx="385920" cy="347760"/>
                  <a:chOff x="1270080" y="2131920"/>
                  <a:chExt cx="385920" cy="34776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1270080" y="2179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371600" y="2244600"/>
                    <a:ext cx="1825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13032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13539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14209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47168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"/>
                <p:cNvGrpSpPr/>
                <p:nvPr/>
              </p:nvGrpSpPr>
              <p:grpSpPr>
                <a:xfrm>
                  <a:off x="1771560" y="2131920"/>
                  <a:ext cx="401760" cy="347760"/>
                  <a:chOff x="1771560" y="2131920"/>
                  <a:chExt cx="401760" cy="34776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>
                    <a:off x="17715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1873080" y="2244600"/>
                    <a:ext cx="1825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18050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18558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192240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19731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2273400" y="2131920"/>
                  <a:ext cx="401760" cy="347760"/>
                  <a:chOff x="2273400" y="2131920"/>
                  <a:chExt cx="401760" cy="34776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227340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37348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3241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3572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4242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49084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"/>
                <p:cNvGrpSpPr/>
                <p:nvPr/>
              </p:nvGrpSpPr>
              <p:grpSpPr>
                <a:xfrm>
                  <a:off x="2741760" y="2131920"/>
                  <a:ext cx="401760" cy="347760"/>
                  <a:chOff x="2741760" y="2131920"/>
                  <a:chExt cx="401760" cy="34776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27417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843280" y="2244600"/>
                    <a:ext cx="18108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774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8256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89080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9415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"/>
                <p:cNvSpPr/>
                <p:nvPr/>
              </p:nvSpPr>
              <p:spPr>
                <a:xfrm>
                  <a:off x="1236600" y="211284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1236600" y="2611440"/>
                <a:ext cx="1971720" cy="733320"/>
                <a:chOff x="1236600" y="2611440"/>
                <a:chExt cx="1971720" cy="733320"/>
              </a:xfrm>
            </p:grpSpPr>
            <p:grpSp>
              <p:nvGrpSpPr>
                <p:cNvPr id="925" name=""/>
                <p:cNvGrpSpPr/>
                <p:nvPr/>
              </p:nvGrpSpPr>
              <p:grpSpPr>
                <a:xfrm>
                  <a:off x="1771560" y="2611440"/>
                  <a:ext cx="401760" cy="347760"/>
                  <a:chOff x="1771560" y="2611440"/>
                  <a:chExt cx="401760" cy="34776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>
                    <a:off x="17715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873080" y="2668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V="1">
                    <a:off x="18050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V="1">
                    <a:off x="18558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V="1">
                    <a:off x="19224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19731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1270080" y="2611440"/>
                  <a:ext cx="385920" cy="347760"/>
                  <a:chOff x="1270080" y="2611440"/>
                  <a:chExt cx="385920" cy="34776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>
                    <a:off x="1270080" y="261144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1371600" y="2668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V="1">
                    <a:off x="13032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V="1">
                    <a:off x="13539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flipV="1">
                    <a:off x="14209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V="1">
                    <a:off x="14716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2273400" y="2611440"/>
                  <a:ext cx="401760" cy="347760"/>
                  <a:chOff x="2273400" y="2611440"/>
                  <a:chExt cx="401760" cy="34776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>
                    <a:off x="227340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37348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V="1">
                    <a:off x="23241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V="1">
                    <a:off x="23572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24242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V="1">
                    <a:off x="24908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2741760" y="2611440"/>
                  <a:ext cx="401760" cy="347760"/>
                  <a:chOff x="2741760" y="2611440"/>
                  <a:chExt cx="401760" cy="34776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27417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843280" y="2668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V="1">
                    <a:off x="2774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V="1">
                    <a:off x="28256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V="1">
                    <a:off x="28908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V="1">
                    <a:off x="2941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1270080" y="2987640"/>
                  <a:ext cx="385920" cy="357120"/>
                  <a:chOff x="1270080" y="2987640"/>
                  <a:chExt cx="385920" cy="35712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>
                    <a:off x="1270080" y="303516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1371600" y="310032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3032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13539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14209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147168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" name=""/>
                <p:cNvGrpSpPr/>
                <p:nvPr/>
              </p:nvGrpSpPr>
              <p:grpSpPr>
                <a:xfrm>
                  <a:off x="1771560" y="2987640"/>
                  <a:ext cx="401760" cy="357120"/>
                  <a:chOff x="1771560" y="2987640"/>
                  <a:chExt cx="401760" cy="35712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>
                    <a:off x="17715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1873080" y="310032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18050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18558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192240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19731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2273400" y="2987640"/>
                  <a:ext cx="401760" cy="357120"/>
                  <a:chOff x="2273400" y="2987640"/>
                  <a:chExt cx="401760" cy="35712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227340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37348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3241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3572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4242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49084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2741760" y="2987640"/>
                  <a:ext cx="401760" cy="357120"/>
                  <a:chOff x="2741760" y="2987640"/>
                  <a:chExt cx="401760" cy="35712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>
                    <a:off x="27417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843280" y="310032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774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8256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89080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9415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1" name=""/>
                <p:cNvSpPr/>
                <p:nvPr/>
              </p:nvSpPr>
              <p:spPr>
                <a:xfrm>
                  <a:off x="1236600" y="296856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1236600" y="3467160"/>
                <a:ext cx="1971720" cy="731520"/>
                <a:chOff x="1236600" y="3467160"/>
                <a:chExt cx="1971720" cy="73152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1771560" y="3467160"/>
                  <a:ext cx="401760" cy="355680"/>
                  <a:chOff x="1771560" y="3467160"/>
                  <a:chExt cx="401760" cy="35568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17715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1873080" y="352260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V="1">
                    <a:off x="18050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V="1">
                    <a:off x="18558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V="1">
                    <a:off x="19224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V="1">
                    <a:off x="19731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1270080" y="3467160"/>
                  <a:ext cx="385920" cy="355680"/>
                  <a:chOff x="1270080" y="3467160"/>
                  <a:chExt cx="385920" cy="35568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>
                    <a:off x="1270080" y="346716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371600" y="352260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V="1">
                    <a:off x="13032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V="1">
                    <a:off x="13539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flipV="1">
                    <a:off x="14209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V="1">
                    <a:off x="14716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2273400" y="3467160"/>
                  <a:ext cx="401760" cy="355680"/>
                  <a:chOff x="2273400" y="3467160"/>
                  <a:chExt cx="401760" cy="35568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227340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37348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V="1">
                    <a:off x="23241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V="1">
                    <a:off x="23572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V="1">
                    <a:off x="24242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V="1">
                    <a:off x="24908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2741760" y="3467160"/>
                  <a:ext cx="401760" cy="355680"/>
                  <a:chOff x="2741760" y="3467160"/>
                  <a:chExt cx="401760" cy="355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27417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843280" y="352260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V="1">
                    <a:off x="2774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V="1">
                    <a:off x="28256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V="1">
                    <a:off x="28908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V="1">
                    <a:off x="2941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1270080" y="3851280"/>
                  <a:ext cx="385920" cy="347400"/>
                  <a:chOff x="1270080" y="3851280"/>
                  <a:chExt cx="385920" cy="34740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>
                    <a:off x="1270080" y="3898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371600" y="396540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13032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13539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14209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147168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1771560" y="3851280"/>
                  <a:ext cx="401760" cy="347400"/>
                  <a:chOff x="1771560" y="3851280"/>
                  <a:chExt cx="401760" cy="34740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17715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1873080" y="396540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18050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18558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192240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19731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2273400" y="3851280"/>
                  <a:ext cx="401760" cy="347400"/>
                  <a:chOff x="2273400" y="3851280"/>
                  <a:chExt cx="401760" cy="34740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227340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37348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3241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3572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4242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49084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2741760" y="3851280"/>
                  <a:ext cx="401760" cy="347400"/>
                  <a:chOff x="2741760" y="3851280"/>
                  <a:chExt cx="401760" cy="3474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27417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843280" y="396540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774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8256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89080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9415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"/>
                <p:cNvSpPr/>
                <p:nvPr/>
              </p:nvSpPr>
              <p:spPr>
                <a:xfrm>
                  <a:off x="1236600" y="383220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1236600" y="5186520"/>
                <a:ext cx="1971720" cy="731520"/>
                <a:chOff x="1236600" y="5186520"/>
                <a:chExt cx="1971720" cy="731520"/>
              </a:xfrm>
            </p:grpSpPr>
            <p:grpSp>
              <p:nvGrpSpPr>
                <p:cNvPr id="1041" name=""/>
                <p:cNvGrpSpPr/>
                <p:nvPr/>
              </p:nvGrpSpPr>
              <p:grpSpPr>
                <a:xfrm>
                  <a:off x="1771560" y="5186520"/>
                  <a:ext cx="401760" cy="355320"/>
                  <a:chOff x="1771560" y="5186520"/>
                  <a:chExt cx="401760" cy="355320"/>
                </a:xfrm>
              </p:grpSpPr>
              <p:sp>
                <p:nvSpPr>
                  <p:cNvPr id="1042" name=""/>
                  <p:cNvSpPr/>
                  <p:nvPr/>
                </p:nvSpPr>
                <p:spPr>
                  <a:xfrm>
                    <a:off x="17715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1873080" y="5241960"/>
                    <a:ext cx="1825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V="1">
                    <a:off x="18050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V="1">
                    <a:off x="18558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V="1">
                    <a:off x="19224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V="1">
                    <a:off x="19731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1270080" y="5186520"/>
                  <a:ext cx="385920" cy="355320"/>
                  <a:chOff x="1270080" y="5186520"/>
                  <a:chExt cx="385920" cy="35532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1270080" y="518652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1371600" y="5241960"/>
                    <a:ext cx="1825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V="1">
                    <a:off x="13032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 flipV="1">
                    <a:off x="13539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flipV="1">
                    <a:off x="14209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 flipV="1">
                    <a:off x="14716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2273400" y="5186520"/>
                  <a:ext cx="401760" cy="355320"/>
                  <a:chOff x="2273400" y="5186520"/>
                  <a:chExt cx="401760" cy="35532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227340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37348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V="1">
                    <a:off x="23241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V="1">
                    <a:off x="23572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V="1">
                    <a:off x="24242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V="1">
                    <a:off x="24908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2741760" y="5186520"/>
                  <a:ext cx="401760" cy="355320"/>
                  <a:chOff x="2741760" y="5186520"/>
                  <a:chExt cx="401760" cy="35532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27417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2843280" y="5241960"/>
                    <a:ext cx="18108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V="1">
                    <a:off x="2774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V="1">
                    <a:off x="28256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flipV="1">
                    <a:off x="28908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V="1">
                    <a:off x="2941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1270080" y="5570640"/>
                  <a:ext cx="385920" cy="347400"/>
                  <a:chOff x="1270080" y="5570640"/>
                  <a:chExt cx="385920" cy="34740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1270080" y="561816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1371600" y="568476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13032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13539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14209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147168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" name=""/>
                <p:cNvGrpSpPr/>
                <p:nvPr/>
              </p:nvGrpSpPr>
              <p:grpSpPr>
                <a:xfrm>
                  <a:off x="1771560" y="5570640"/>
                  <a:ext cx="401760" cy="347400"/>
                  <a:chOff x="1771560" y="5570640"/>
                  <a:chExt cx="401760" cy="34740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>
                    <a:off x="17715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1873080" y="568476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8050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18558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192240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19731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2273400" y="5570640"/>
                  <a:ext cx="401760" cy="347400"/>
                  <a:chOff x="2273400" y="5570640"/>
                  <a:chExt cx="401760" cy="34740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227340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37348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3241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3572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4242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49084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" name=""/>
                <p:cNvGrpSpPr/>
                <p:nvPr/>
              </p:nvGrpSpPr>
              <p:grpSpPr>
                <a:xfrm>
                  <a:off x="2741760" y="5570640"/>
                  <a:ext cx="401760" cy="347400"/>
                  <a:chOff x="2741760" y="5570640"/>
                  <a:chExt cx="401760" cy="34740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>
                    <a:off x="27417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843280" y="568476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74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8256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89080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9415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7" name=""/>
                <p:cNvSpPr/>
                <p:nvPr/>
              </p:nvSpPr>
              <p:spPr>
                <a:xfrm>
                  <a:off x="1236600" y="555156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8" name=""/>
            <p:cNvSpPr/>
            <p:nvPr/>
          </p:nvSpPr>
          <p:spPr>
            <a:xfrm>
              <a:off x="3294000" y="2112840"/>
              <a:ext cx="0" cy="39369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6560" y="2131920"/>
              <a:ext cx="0" cy="34387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3041640" y="6107040"/>
              <a:ext cx="401760" cy="196920"/>
              <a:chOff x="3041640" y="6107040"/>
              <a:chExt cx="401760" cy="196920"/>
            </a:xfrm>
          </p:grpSpPr>
          <p:sp>
            <p:nvSpPr>
              <p:cNvPr id="1101" name=""/>
              <p:cNvSpPr/>
              <p:nvPr/>
            </p:nvSpPr>
            <p:spPr>
              <a:xfrm>
                <a:off x="3092400" y="6107040"/>
                <a:ext cx="300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092400" y="6107040"/>
                <a:ext cx="166680" cy="168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3259080" y="6107040"/>
                <a:ext cx="150840" cy="168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041640" y="6303960"/>
                <a:ext cx="4017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3294000" y="6351480"/>
              <a:ext cx="0" cy="748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76680" y="6218280"/>
              <a:ext cx="3443400" cy="0"/>
            </a:xfrm>
            <a:prstGeom prst="line">
              <a:avLst/>
            </a:prstGeom>
            <a:ln w="12708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903240" y="6013440"/>
              <a:ext cx="2139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nd now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938240" y="3325680"/>
            <a:ext cx="4430880" cy="10904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424240" y="4424400"/>
            <a:ext cx="768240" cy="789120"/>
            <a:chOff x="2424240" y="4424400"/>
            <a:chExt cx="768240" cy="789120"/>
          </a:xfrm>
        </p:grpSpPr>
        <p:grpSp>
          <p:nvGrpSpPr>
            <p:cNvPr id="1111" name=""/>
            <p:cNvGrpSpPr/>
            <p:nvPr/>
          </p:nvGrpSpPr>
          <p:grpSpPr>
            <a:xfrm>
              <a:off x="2424240" y="4660920"/>
              <a:ext cx="768240" cy="318960"/>
              <a:chOff x="2424240" y="4660920"/>
              <a:chExt cx="768240" cy="318960"/>
            </a:xfrm>
          </p:grpSpPr>
          <p:sp>
            <p:nvSpPr>
              <p:cNvPr id="1112" name=""/>
              <p:cNvSpPr/>
              <p:nvPr/>
            </p:nvSpPr>
            <p:spPr>
              <a:xfrm>
                <a:off x="2508120" y="4660920"/>
                <a:ext cx="567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49084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280836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42424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280836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2564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3860640" y="4400640"/>
            <a:ext cx="770040" cy="831600"/>
            <a:chOff x="3860640" y="4400640"/>
            <a:chExt cx="770040" cy="831600"/>
          </a:xfrm>
        </p:grpSpPr>
        <p:grpSp>
          <p:nvGrpSpPr>
            <p:cNvPr id="1119" name=""/>
            <p:cNvGrpSpPr/>
            <p:nvPr/>
          </p:nvGrpSpPr>
          <p:grpSpPr>
            <a:xfrm>
              <a:off x="3860640" y="4648320"/>
              <a:ext cx="770040" cy="336600"/>
              <a:chOff x="3860640" y="4648320"/>
              <a:chExt cx="770040" cy="336600"/>
            </a:xfrm>
          </p:grpSpPr>
          <p:sp>
            <p:nvSpPr>
              <p:cNvPr id="1120" name=""/>
              <p:cNvSpPr/>
              <p:nvPr/>
            </p:nvSpPr>
            <p:spPr>
              <a:xfrm>
                <a:off x="3944880" y="4648320"/>
                <a:ext cx="5684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2904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424656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860640" y="498492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4246560" y="440064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262400" y="503388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5416560" y="4424400"/>
            <a:ext cx="768240" cy="789120"/>
            <a:chOff x="5416560" y="4424400"/>
            <a:chExt cx="768240" cy="789120"/>
          </a:xfrm>
        </p:grpSpPr>
        <p:grpSp>
          <p:nvGrpSpPr>
            <p:cNvPr id="1127" name=""/>
            <p:cNvGrpSpPr/>
            <p:nvPr/>
          </p:nvGrpSpPr>
          <p:grpSpPr>
            <a:xfrm>
              <a:off x="5416560" y="4660920"/>
              <a:ext cx="768240" cy="318960"/>
              <a:chOff x="5416560" y="4660920"/>
              <a:chExt cx="768240" cy="318960"/>
            </a:xfrm>
          </p:grpSpPr>
          <p:sp>
            <p:nvSpPr>
              <p:cNvPr id="1128" name=""/>
              <p:cNvSpPr/>
              <p:nvPr/>
            </p:nvSpPr>
            <p:spPr>
              <a:xfrm>
                <a:off x="5499000" y="46609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48172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5799240" y="4660920"/>
                <a:ext cx="32040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1656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579924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81652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 txBox="1"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3411360" y="5243400"/>
            <a:ext cx="1771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5398920" y="2798640"/>
            <a:ext cx="768600" cy="320760"/>
            <a:chOff x="5398920" y="2798640"/>
            <a:chExt cx="768600" cy="320760"/>
          </a:xfrm>
        </p:grpSpPr>
        <p:sp>
          <p:nvSpPr>
            <p:cNvPr id="1138" name=""/>
            <p:cNvSpPr/>
            <p:nvPr/>
          </p:nvSpPr>
          <p:spPr>
            <a:xfrm flipH="1">
              <a:off x="5516640" y="3119400"/>
              <a:ext cx="56808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484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46732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398920" y="2798640"/>
              <a:ext cx="7686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 flipV="1">
            <a:off x="5816520" y="3165480"/>
            <a:ext cx="0" cy="1890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5799240" y="2563920"/>
            <a:ext cx="0" cy="188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3962520" y="2544840"/>
            <a:ext cx="768240" cy="790560"/>
            <a:chOff x="3962520" y="2544840"/>
            <a:chExt cx="768240" cy="790560"/>
          </a:xfrm>
        </p:grpSpPr>
        <p:grpSp>
          <p:nvGrpSpPr>
            <p:cNvPr id="1145" name=""/>
            <p:cNvGrpSpPr/>
            <p:nvPr/>
          </p:nvGrpSpPr>
          <p:grpSpPr>
            <a:xfrm>
              <a:off x="3962520" y="2781360"/>
              <a:ext cx="768240" cy="318960"/>
              <a:chOff x="3962520" y="2781360"/>
              <a:chExt cx="768240" cy="318960"/>
            </a:xfrm>
          </p:grpSpPr>
          <p:sp>
            <p:nvSpPr>
              <p:cNvPr id="1146" name=""/>
              <p:cNvSpPr/>
              <p:nvPr/>
            </p:nvSpPr>
            <p:spPr>
              <a:xfrm flipH="1">
                <a:off x="40784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43448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40273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39625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V="1">
              <a:off x="43797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3624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406600" y="2563920"/>
            <a:ext cx="770040" cy="790560"/>
            <a:chOff x="2406600" y="2563920"/>
            <a:chExt cx="770040" cy="790560"/>
          </a:xfrm>
        </p:grpSpPr>
        <p:grpSp>
          <p:nvGrpSpPr>
            <p:cNvPr id="1153" name=""/>
            <p:cNvGrpSpPr/>
            <p:nvPr/>
          </p:nvGrpSpPr>
          <p:grpSpPr>
            <a:xfrm>
              <a:off x="2406600" y="2798640"/>
              <a:ext cx="770040" cy="320760"/>
              <a:chOff x="2406600" y="2798640"/>
              <a:chExt cx="770040" cy="320760"/>
            </a:xfrm>
          </p:grpSpPr>
          <p:sp>
            <p:nvSpPr>
              <p:cNvPr id="1154" name=""/>
              <p:cNvSpPr/>
              <p:nvPr/>
            </p:nvSpPr>
            <p:spPr>
              <a:xfrm flipH="1">
                <a:off x="25257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 flipV="1">
                <a:off x="27925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24750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24066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"/>
            <p:cNvSpPr/>
            <p:nvPr/>
          </p:nvSpPr>
          <p:spPr>
            <a:xfrm flipV="1">
              <a:off x="28256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8083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"/>
          <p:cNvSpPr txBox="1"/>
          <p:nvPr/>
        </p:nvSpPr>
        <p:spPr>
          <a:xfrm>
            <a:off x="4732200" y="195408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6400800" y="3579840"/>
            <a:ext cx="336600" cy="506520"/>
            <a:chOff x="6400800" y="3579840"/>
            <a:chExt cx="336600" cy="506520"/>
          </a:xfrm>
        </p:grpSpPr>
        <p:sp>
          <p:nvSpPr>
            <p:cNvPr id="1164" name=""/>
            <p:cNvSpPr/>
            <p:nvPr/>
          </p:nvSpPr>
          <p:spPr>
            <a:xfrm flipH="1">
              <a:off x="6400800" y="357984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400800" y="36640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400800" y="37479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6400800" y="383220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6400800" y="39178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400800" y="400212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400800" y="40863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641680" y="3521160"/>
            <a:ext cx="1222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481640" y="3521160"/>
            <a:ext cx="1405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165560" y="3371760"/>
            <a:ext cx="0" cy="971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Firewall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mmercial firewalls are probably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There is more to Internet security than installing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niffing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180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"/>
          <p:cNvSpPr/>
          <p:nvPr/>
        </p:nvSpPr>
        <p:spPr>
          <a:xfrm flipV="1">
            <a:off x="4572000" y="2800440"/>
            <a:ext cx="0" cy="2571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946240" y="3886200"/>
            <a:ext cx="162576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ks to a host with som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CP supplies a reliable connection to the othe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one can invent a new protocol between two h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00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ver 1M captured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cannot choose a good pw if it can be sniff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ill in wid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en for sysadmin acce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ne-time passwords are usually fairly easy to install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igital Pathway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NK-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3479760" y="1946160"/>
            <a:ext cx="21654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ne-time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581120" y="1881360"/>
            <a:ext cx="649620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ne-time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01560" y="1862280"/>
            <a:ext cx="38178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su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92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2650e65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id=0(root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id=0(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4738680" y="1859040"/>
            <a:ext cx="3476520" cy="29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auth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4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12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766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^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197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"/>
          <p:cNvSpPr/>
          <p:nvPr/>
        </p:nvSpPr>
        <p:spPr>
          <a:xfrm flipH="1" flipV="1">
            <a:off x="2031840" y="3314880"/>
            <a:ext cx="2768760" cy="1104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800600" y="43434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Spoo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ies on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ddress-base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rlogin, rsh, tcp w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filtered at the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inside addresses may come from the outsid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to have a coherent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ools available to the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CP Hij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207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V="1">
            <a:off x="4572000" y="2800440"/>
            <a:ext cx="0" cy="2571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2031840" y="3314880"/>
            <a:ext cx="2540160" cy="10285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 hij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eds access to the packet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e for taking over telnet and ftp sessions, even after strong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ools are available to the hacker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yptographic authentication can defeat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nial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217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"/>
          <p:cNvSpPr/>
          <p:nvPr/>
        </p:nvSpPr>
        <p:spPr>
          <a:xfrm flipV="1">
            <a:off x="4775040" y="1771560"/>
            <a:ext cx="3149640" cy="3600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572000" y="2343240"/>
            <a:ext cx="3657600" cy="30290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2031840" y="2286000"/>
            <a:ext cx="2641680" cy="3086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1930320" y="3371760"/>
            <a:ext cx="2743200" cy="1943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1320840" y="4514760"/>
            <a:ext cx="3251160" cy="800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673520" y="2914560"/>
            <a:ext cx="914400" cy="2400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572000" y="2286000"/>
            <a:ext cx="2336760" cy="3086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H="1" flipV="1">
            <a:off x="4165560" y="3200400"/>
            <a:ext cx="507960" cy="2171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572000" y="2914560"/>
            <a:ext cx="3657600" cy="2457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4673520" y="3600360"/>
            <a:ext cx="3353040" cy="17719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4775040" y="4114800"/>
            <a:ext cx="3962520" cy="1257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4775040" y="571680"/>
            <a:ext cx="2438640" cy="4800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 flipV="1">
            <a:off x="2641680" y="1542960"/>
            <a:ext cx="2133360" cy="3829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609480" y="3543480"/>
            <a:ext cx="4165560" cy="1828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enial-of-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face - not subtle like traditional hack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ndom packets are very hard to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go on for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ers can exploit poor local software o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y flood the site with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1676520"/>
            <a:ext cx="380988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s up “circuit” be-tween client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s a stream of data into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ssembles pack-ets into a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s have names, but are really 1 - 6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07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NS, routing, and infrastruc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239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"/>
          <p:cNvSpPr/>
          <p:nvPr/>
        </p:nvSpPr>
        <p:spPr>
          <a:xfrm flipV="1">
            <a:off x="4572000" y="2800440"/>
            <a:ext cx="0" cy="154296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 flipV="1">
            <a:off x="4572000" y="4343400"/>
            <a:ext cx="2540160" cy="457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frastruc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r tools are still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enticated BGP4 is 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ep up with the latest nam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e to secure router implementations, when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:  what will you do if the entire Internet is down for a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ocial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1503360" y="198756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cial Engineering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826920" y="3510000"/>
            <a:ext cx="542124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609480" y="2057400"/>
            <a:ext cx="7772400" cy="38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 firewall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s a tool for implementing a uniform </a:t>
            </a:r>
            <a:r>
              <a:rPr b="0" lang="en-US" sz="4400" spc="-1" strike="noStrike">
                <a:solidFill>
                  <a:srgbClr val="009900"/>
                </a:solidFill>
                <a:latin typeface="Book Antiqua"/>
                <a:ea typeface="Book Antiqua"/>
              </a:rPr>
              <a:t>security policy</a:t>
            </a:r>
            <a:br>
              <a:rPr sz="18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on network traffic passing a given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ap - part of the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ard to ge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n’t get f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ften part of a more-complet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57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re work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equires modified client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xy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64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ircuit gate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CP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uperior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ome perform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dified clients, 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Like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71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ynamic (``Smart’’)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es tcp circuits at the packe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igh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pplication-like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figuration can be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y pick for best firewal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7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l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error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itable for some network services that don’t have to be reliable, lik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s are nu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14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o Does This Stu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2921040" y="2260440"/>
            <a:ext cx="3289320" cy="339084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o Does This Stu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o Does This Stu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e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s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t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onomi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pio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paration and training for the “next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acks on the infrastructure envis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“</a:t>
            </a: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You Must Be Present to W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nymous hacking from distant places can be defended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not solve the insider problem, which is a big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least it gets the Internet security up near the level of building (I.e.. physical)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acker’s 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Exploit Send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Guess default pw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FTP - holes &amp;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telnet -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Crack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NFS confi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portmapper/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DNS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IP spoof r* cm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k in 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break secure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igher R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break exportable cry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dict. attack on chal/resp. based on p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mpster d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into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off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dnap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dnap C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good crypto (DES crac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feder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superb cry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ample securit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assumptions incorporated with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 unpopular rules, for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’t be 50%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 sample security policy - in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incoming mail to a safe m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UDP/NTP to a tim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ock all other incoming TC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ock all other UDP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ckets have limited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be dropped in transit if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arrive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be du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ressing by IP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1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ample security policy -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outg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mit all outgoing TCP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iders can send out the company je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UDP/DNS to name server, and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bit dang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UDP/NTP to a tim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ock all other UDP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oming telnet or 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va (if you can filter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ercial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1219320" y="289548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``What are you talking about?  Those guys aren’t allowed to have munitions!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- Tom D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f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ni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assword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ttack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rms (strategic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ijac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NS spoof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ill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olymorphic stealth killer Trojan worm viruses (attack of the buzzword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xportabl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RC4-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odera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uper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triple 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erhaps they’ll let us use stronger cryptography for key distribution, even if the key i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GP and P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login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etscape commerce server, and its 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ing tunnels in firewall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More 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ed tel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SL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.. lot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SL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f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umerous cryp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P/SEC and, later, IP 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n Bel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nix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get/cput - Ranum and Ches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mall, suspicious file transfe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tage/unstage - Ches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irror directories to a machine in a hostil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ecure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ferno, Plan 9/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ryptographic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452520" y="3108240"/>
            <a:ext cx="823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http://www.cs.hut.fi/crypto/software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uters are usually special purpose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filter and log packets, if not too b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e routers are much too busy: ~70% of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Hack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Network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ing, 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Network sw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ATAN, ISS, Icep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u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Guest/visitor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TP passwd file with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login/rsh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rtmopper [si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..make up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Honeyp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stall an attractive host near a likely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Give it an attractive or mysteriou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on’t tell anyone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ke it ring alarms if it is touched by anyone in any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Like a camera inside the v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ap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re “Clu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ze and repair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ger team; utility infie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ue is expensiv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My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RL: http://cm.bell-labs.com/who/ch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mail: 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irewalls and Internet Security: Repelling the Wily H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wick and Bell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SBN 0-201-63357-4, Addison Wesley, 1994. Also in German, Japanese, and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Oth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ewalls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ww.greatcirc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pman and Zwi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word search in altavista.digita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s packets one hop toward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ing is table-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bles installed manually, or by som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35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>Do not eat yellow snow.</dc:description>
  <dc:language>en-US</dc:language>
  <cp:lastModifiedBy>Bill Cheswick</cp:lastModifiedBy>
  <cp:revision>0</cp:revision>
  <dc:subject>Encryption Software for the Internet</dc:subject>
  <dc:title>Commercial Munitions on the Internet</dc:title>
</cp:coreProperties>
</file>