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8755F43-CB2C-4EFC-BDD6-5E12AEF85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15360"/>
            <a:ext cx="8534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48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600" y="14475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8000" y="14475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153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600" y="39153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8000" y="39153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48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15360"/>
            <a:ext cx="8534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14800" y="6521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76E-1508-4D38-9E28-EAB57E82046C}" type="slidenum"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of 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331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F61C-F4DE-45F0-9977-E881768C1E19}" type="datetime3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es@lumeta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masci.com/amateur/sciam1.html" TargetMode="External"/><Relationship Id="rId2" Type="http://schemas.openxmlformats.org/officeDocument/2006/relationships/hyperlink" Target="http://www.tinkersguide.com/AmSciIndex/indexTop.html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pugwash.org/september11/sept11-calogero.htm" TargetMode="External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and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eta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ches@lumet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77DFB-6E97-4AEE-8494-697719F7446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recent demons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k of chlorine gas at 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3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. N2: recruiting fluid for Bell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s can be obtained: “science supplies” AND “home schoo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7134D-9CF5-4006-9B58-B66C111AC82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ar 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 smasher in 1959 Scientific American in “Amateur Science”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la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cently: try to understand fission and fusion weapons from publish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82B5B-6DE9-4356-8965-482F3D0D710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oactive stuff in the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: smoke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: (European smoke det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: (lantern mant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: old c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iger counters &lt; $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s into a serial port on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40C0F-8954-4FF7-AC35-A960C8D41E9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teur projects in Scientific Ameri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wn Carlson at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http://www.amasci.com/amateur/sciam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experiments at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Arial"/>
                <a:hlinkClick r:id="rId2"/>
              </a:rPr>
              <a:t>http://www.tinkersguide.com/AmSciIndex/indexTop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d by difficulty and danger.  Haven’t been dangerous rec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A4ABB-54BB-4942-BE55-C6A8D027752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 and play with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p’s blood agar is $15 for 12 prepared petri d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r is cheap, fermentation 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dang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D357A-B7A3-4F5D-A6B8-73B27EE5068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iver S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ng to Oliver Sacks’ book “Uncle Tungst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uncle had lots of cool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A, OSHA, and lawyers have made fun stuff harder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. Ammonia sounds like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A9777-8389-46E0-A102-292B248428D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e of this is going to change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 is local, usually on the experim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2A45A-F5AC-4198-A061-874BC671C83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Lehigh: chemistry to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at time, everybody came from a differen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till happens, to some people’s 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-class machines cost millions of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twork: you can only hurt other loca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cked for CPU time (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became an acol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system administrator, I had the run of the machine, at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ed the limits:  CODACAS, RPC on a CDC 6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67D96-6CE3-4DC3-85CF-36F6A002644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ore’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tarted about 3 doublings after he announc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xponenti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doubles every 18 months, with constant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s in 201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0.02 talking chip? (laser pointers are now in the dollar store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C262F-BFE1-43B8-841F-3048D26CCA1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now have fabulously powerful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ps cycle tim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runs at reasonable speeds on thes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computers were built to model H-bomb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te force and pig ignorance is often a fine substitute for cleverness (see be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st cycles on MPEG gene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AC5AE-623D-4153-A32A-10B78B89F12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937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ies are giving individuals, even amateurs,  unprecedented power to effect the world.  We’ve seen this in spades on the Internet, and this trend is likely to continue, and be a factor in emerging technologies, such as molecular bi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BCD98-979B-43FC-AA3B-062878B4673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-of-the-art Amate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700 computer and an Internet link is all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, good and evil, a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oesn’t go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maybe scientology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2 and 13 from Los Alamos, via K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985CA-1B8E-4A0F-BDAD-F33437A5A0F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produce some of my recent work with these simple tools, plus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E75D2-0347-4C46-8782-0BB927A204B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448920" cy="695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17F3C-FEC3-4AC3-A591-7855C11BABF1}" type="datetime3">
              <a:rPr lang="en-US"/>
              <a:t>July 29, 20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ualizat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nteres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 our database and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fol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doesn’t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lors to show further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6A5F5-4F3C-4C91-9722-0EFA9A54E53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sn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8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4400"/>
            <a:ext cx="14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277C2-6DFD-48CF-A8C6-C51B2DE1304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maps c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129A2-201F-469C-A57E-3DF295C8C2E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Col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from test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al (by T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, firewalls, LSRR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FC4BE-417F-4DE5-BE76-93A101E00A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p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97560" y="1440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 IP addres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9F5CD-7A89-471F-B33C-FFBDC87D5E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geo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97560" y="243000"/>
            <a:ext cx="24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 ge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5B536-CC90-41E0-B2E6-511034D8BB2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sp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94680" y="-6192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 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96D43-AA8B-4F3F-B4FC-F5897743A36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a science guy, and fan of ge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nano-machines have strong similarities to computer design an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== assembl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units, in proteins, organs, and esp.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o-machines are slower, but massively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77BE6-4EA4-44B7-A448-295090B9EED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depth-big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240" y="-61920"/>
            <a:ext cx="22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ored by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scanning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2A4E9-318A-4DA8-A9C6-AAA580C0258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il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96120" y="1440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US mil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ached by ICMP 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8FFD4-DADB-4F93-8664-BC05AEC1DB3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il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10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96120" y="-61920"/>
            <a:ext cx="23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military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ed by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26565-42DC-43EA-B5AD-C638A83DAC1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u.gif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D7B78-DF23-4933-AC32-F5129E63309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yu.gif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47C27-7425-447A-B26C-2B150B45D7B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ugoslav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bia and Bos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ED2CB-84DE-4DE3-9416-21EC067B4E2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y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012BF-35F4-4E5E-BC2C-5F0380B2BCF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448920" cy="64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675CF-2E67-4BFD-B4CC-7FC32049C85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s can participate in international affa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ic hacking attacks a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s v. Palestin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vs. China after the collision incident 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DDE83-20A4-464D-B4E4-7B978A07992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nymity frees foreign agents to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deal of espionage go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backs are hard to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80198-2223-4962-A233-C347439D26C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fields have and will interact strongly for the foreseeabl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39C1A-6198-418A-A97F-6EF735F4D64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ther Internet security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C7BFD-5E6F-494B-A6EE-81D4A209486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don’t have to be a genius to be an effective h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’s plenty of documentation to hel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plenty of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et is a bad neighbor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 kiddies” don’t have to know much at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DB297-B510-46AA-B1D2-53F2C438CE7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many, capabilities outrun mor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mply antisocial hacker is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ually acquire some morals even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ld teenage hackers now have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onsulting about h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45A6C-E611-4374-ADC7-F363BF849BC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t has amazing software avail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ware (and emulators) for old video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grades for automobile firm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the case for biological synthesis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945E9-F59F-4F78-8DA8-9291887D77E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vir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rus Creation Lab,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PC viruses, made to order, with your choic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uspect that the epidemiological math is similar, but packets travel faster tha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A058E-065D-4D0F-B887-DAF8240D6E9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 Generation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vefunc's Goofy Batch Virus Generator v1.1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97 Macro Virii Construction Kit aka W97MV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Walrus Macro Virus Generator (WMV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ltras Construction Kit fo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 Olde Funky Virus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42A7E-3DD4-4F56-9BAD-2949CE05DBE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Virus Generation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ttp://vx.netlux.org/dat/vct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rus Creation Tools (5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si Bomb Kit v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SI Bomb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si Bomb 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vanced Batch Mutator v1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ological Warefare Virus Crea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ubble Cha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 Macro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.Poppy Construc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ina Town Macro Word Virus Construc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uke's Pascal Overwriting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uke's Simple Virus Cloner T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Ding Lik's Millenium C Virus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jecutor Virus Cre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2 Virus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German Virus Construc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mmortal EAS Virus Creation Cen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nt Virus Produc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any Batch Vir 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B v1.4 Lädt den X-14 Virus in eine Dat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boratorio de virus 1.3 [Una porgramme Argentinia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neZer0 Macro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ss Destruction 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tric Buttload of Code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PCGEN Mass Code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ster Spock - Virusgenerator Ver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MOOTHiE::s Macro Virus Cre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where Ut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KE's Randomic Life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verwritting Virus Construction Tool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halcon/Skism Mass-Produced Code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 Quick &amp; Easy Trojan Developing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tanic Brain Virus Tool'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Cem Virus Creation La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aMaCidAL trojan batch file cre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mple Batch Virus 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Simple WinScript Virus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SMEG Virus construc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SR Time Bomb Cre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ojan Horse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rus Factory mit Code - Tab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rus Creator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rus Creation L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 virus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 virus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rus Researcher's Tool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BS Worm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BS Encryp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ndows Virus Crea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avefunc's Goofy Batch Virus Generator v1.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ord97 Macro Virii Construction Kit aka W97MV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Walrus Macro Virus Generator (WMV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ltras Construction Kit for 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e Olde Funky Virus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CFAA8-B8BF-4617-94BB-F03D8A2DFC5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wnload: [BW - 0.90B] [BW 1.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: Mnemonix /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KA : B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nown versions: BW 0.90B - April 1994, BW 1.00 - June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iological Warfare is a program that will generate assembly source code for a 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al virus according to the specifications that the user gives it. When Biolog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arfare is run, it will give the user a menu with a list of options pertaining to the virus.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 can manipulate the options as directed to create the virus to his specif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llowing are the options of version 0.90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) Text - Any text that has to appear within the virus, up to 60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) Resident - Specifies whether virus will be resident in memory or n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) Infect - Either COM, EXE, or b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) Encryption - Specifies if the virus will feature encryp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) INT 24 Handler - Specifies if the virus will steal DOS's critical error handler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protect err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) Anti-Trace - Specifies if the virus will includes routines to thwart trivial debugging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ac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) Maximum Size - If selected, the virus will not infect any .COM file too large for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) Traversal - Specifies if the virus will move upwards in the directory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) Infections/run - Maximum number of files to infect each r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) Avoid COMMAND - Specifies if the virus will infect COMMAND.C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) EXE Marker - Two characters used to indicate an infected .EXE fi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) Overlay check - Specifies that the virus will not infect .EXE files with internal overl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) DirStealth - Hides the file size increases from a directory listing. All infected files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ir seconds field set to the given number. Absence this number indicates that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ory stealth function will be included. (Resident viruses onl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) Infect on - Specifies if the virus has to infect when opening a file, executing a fil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) Activate - Virus will include space for an activation routine in the co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) More directory stealth - In conjunction with directory stealth this will mak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crease in file size invisible from any file managing programs in addition to a D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sion 1.00 added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Encryption, both standard and basic polymorphic (via the Biological Warfare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g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Time stamp - This is used by either directory stealth or polymorph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Biological Warfare Mutation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BWME is a very basic polymorphic encryption engine that will make the viru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fficult to scan. It's size is 609 bytes. p - This is used by either directory stealth or polymorph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Biological Warfare Mutation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BWME is a very basic polymorphic encryption engine that will make the viru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fficult to scan. It's size is 609 by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ttp://vx.netlux.org/dat/tb00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5686F-2C16-4C70-BFC3-60FE914173A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logical Warfare Creation 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wnload: [BW - 0.90B] [BW 1.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: Mnemonix /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KA : B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nown versions: BW 0.90B - April 1994, BW 1.00 - June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iological Warfare is a program that will generate assembly source code for a 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al virus according to the specifications that the user gives it. When Biolog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arfare is run, it will give the user a menu with a list of options pertaining to the virus.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 can manipulate the options as directed to create the virus to his specif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llowing are the options of version 0.90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) Text - Any text that has to appear within the virus, up to 60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) Resident - Specifies whether virus will be resident in memory or n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) Infect - Either COM, EXE, or b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) Encryption - Specifies if the virus will feature encryp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) INT 24 Handler - Specifies if the virus will steal DOS's critical error handler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protect err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) Anti-Trace - Specifies if the virus will includes routines to thwart trivial debugging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ac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) Maximum Size - If selected, the virus will not infect any .COM file too large for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) Traversal - Specifies if the virus will move upwards in the directory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) Infections/run - Maximum number of files to infect each r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) Avoid COMMAND - Specifies if the virus will infect COMMAND.C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) EXE Marker - Two characters used to indicate an infected .EXE fi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) Overlay check - Specifies that the virus will not infect .EXE files with internal overl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) DirStealth - Hides the file size increases from a directory listing. All infected files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ir seconds field set to the given number. Absence this number indicates that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ory stealth function will be included. (Resident viruses onl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CD10B-8508-45D8-A3C0-9F56252F5C6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logical Warfare Creation 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) Infect on - Specifies if the virus has to infect when opening a file, executing a fil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) Activate - Virus will include space for an activation routine in the co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) More directory stealth - In conjunction with directory stealth this will mak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crease in file size invisible from any file managing programs in addition to a D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sion 1.00 added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Encryption, both standard and basic polymorphic (via the Biological Warfare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g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Time stamp - This is used by either directory stealth or polymorph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Biological Warfare Mutation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BWME is a very basic polymorphic encryption engine that will make the viru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fficult to scan. It's size is 609 bytes. p - This is used by either directory stealth or polymorph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Biological Warfare Mutation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BWME is a very basic polymorphic encryption engine that will make the viru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fficult to scan. It's size is 609 by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ttp://vx.netlux.org/dat/tb00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45333-3A18-43B5-A6FC-F4F7D615DF4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swick: the unauthorized autobi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guy sinc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kerer/brico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ker” in 1980 MIT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, biology, physics, and bacteriological fun in junior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y things at home, even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ked into computing in 1969 at Lawrencevil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security at Bell Labs by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 walking parano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58330-231E-41AB-9BF8-9D5564A1669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s evaluate the softwa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ttp://vx.netlux.org/dat/ti01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stant Virus Production 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wnload: [IVP 1.0] [IVP 1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: Youths Against McAfee /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KA : IV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nown versions: IVP 1.0 - December 1992, IVP 1.7 - January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atures: Youths Against McAfee, a group founded in the USA, has contribute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ant Virus Producer, or IVP, to the competition for the best virus generator. IVP has no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owever, attracted popularity to speak o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VP does not feature the amount of functions Virus Creation Lab and Phalcon/Sk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ss-Produced Code Generator do, it cannot, for example, create memory 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uses. In the same vein, the encryption algorithms of IVP are really very simpl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arison with, let's say, Phalcon/Skism Mass-Produced Code Generator. To top it 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VP frequently produces dysfunctional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re than 120 viruses produced with IVP are known to ex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AE378-1FC9-4AC2-9F25-458D5908DB5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rcial companies track the vir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ke money selling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public health, they can do something abou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this be a useful business model when we have better antivir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necessarily the avuncular do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surveillance has been spotty for the most common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F19FC-CE27-4993-BC89-E88551642FD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interesting computer virus payloa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se files, disk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things, often inadvert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the computer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the dif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numbers in a sprea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se characters sometimes when typing is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F0D2C-3E89-4282-B760-8AB0A51DE5D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ms and viruses cause a massive, shared exp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lissa virus shut down corporate emails for some companies for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&gt;$10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author created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not a technic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ur d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pians software was a matter of immense national pr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E4553-EA53-4A8D-A829-6D06FAFE104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ad Propo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n antivirus to clean up a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exponential growth is hard to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hard to write a bug-free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“innocent” viruses that did inadvertent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4AD7B-FBD3-417C-9C10-04353CB83CD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 unlucky things happen on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3E998-9DF7-483D-BB19-6751720FD08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the random event inten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algorithms can go bad, performance-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ng algorithm should be O(n log n), but certain inputs can make it go O(N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n’t thinking about intentionally selected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5A4E1-BFBC-4072-ABEA-2D8B208220A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ntional algorithm degradation in Denial of Service (DOS)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 attacks (1996) exploited slow code in most kern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airs improved the situation considerably,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attackers select un-optimal in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57C62-2CFB-4FFE-8B21-5473CB61B59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omeres and TT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growth of automatons is hard to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 with exponential growth in net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ris worm (19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Ma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 and worms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02D36-9508-4BE2-BF51-6575B71FCB3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ascribe to malevolence that which can be explained by incompetence.  Us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7890B-BCA1-4243-9C55-7FBE547F63E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stry in the home of an investment advi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to make due with chemistry set and easily available chemicals, m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unning water in the lab, nor a fum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periments where performed in the garage or back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31E83-FF9F-4B5B-B0D1-3608E3DDB1F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ill figure out Bad Things for themselves, sooner or l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by obscurity is a good thing, but should not be the only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233E2-37C9-4023-8E96-5996D73FEBC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attacks were anticipated long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 snif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spoof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 packet denial-of-servic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discuss known (theoretical) weak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79471-0CBB-4139-A39C-39AFD767242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guys will find the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tatd hole, found by Andrew G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attacks are probing every host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ice is not a prerequisite for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3E3E4-8511-4833-934E-315C03FC60A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nymity is easy, and can be hard to pie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are laundered through many weak hosts, in many juris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F540A-6C03-41BB-B53B-C99FB9D90E4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ome sequencing capacity will grow strongly, some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les will have a sequence and analysis of fetal genome, obtained from a fetal cell in the maternal blood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edge closer to eugenics, which has been practiced since the daw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temptation to edit SNPs and others, though writing is harder than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F45F1-2347-4AA8-B027-F28E74CC9A2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 plasmids for easy protein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reagents, plus base-pair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plasmid for uptake by bacte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marker shows which colonies express the adjacent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ly, a fairly cheap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most any protein that will fit in the plas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version seems likely,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22CC5-EB22-4791-BFCC-C6CA85EBC17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smidtron 50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with more Dalt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B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GUI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, extensible library of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heuristics for frame-shift p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binding domains implemented in 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Download new sequences from the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00502-DC7D-43A7-B11A-317E6B7008E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 disease for a target host or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u for me, deadly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ubjects DNA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a security problem for the Secret Serv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el prizewinner Peter Doherty says it can’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as the plot of an X Files, I am t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plausible to 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A antigens provide a robust secre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ariations in the course and severity of a disease must have a genetic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he random event 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A1E69-0448-4F50-A6CE-91D4D22BB3D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teria-synthesized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et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dis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rder effects- more rev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reg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F11F7-45B8-4D04-97F6-5DFC8F8629A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icrosoft chromo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tion is probably volu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a subscription to its ef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 standard copyright and checksums in DNA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8FF55-DF1C-4C6C-BF5D-B239AA92A09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coleur’s list of interesting chem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,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in clea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: muria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: “Quink”: removes rust s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: of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2: drug stores, 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2O2: hair bleach (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grade (!) 35% (not shipped in the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4NO3: fertilizer, chemistry se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l and photographic chemicals were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2DFB0-E3D7-40E2-83B2-FCE54E3B61C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olicy suggestion: Make vaccines available to the pub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geon General, the CDC, and the FBI don’t always get the cost/benefits ratio right, and certainly not at the individu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line with the national etho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reates a market for something we may need in a hu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ially immunized population is a less-attractiv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a law to abate liability concerns for the manufact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5972F-DE8C-497C-9500-01164E6CBCA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etter tracking of “what’s going aroun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MWR tracks serious stuff, but what about flu-like sympt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seases should be analyzed: it is gett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3E481-1298-4F42-BD78-A2666354055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ternet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lly smart ones think of new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y co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cript kiddies” may run them, clueles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s may ride the coattails of the script kid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s shared, even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50DF2-6D5F-4C00-98E2-3FBEFD373DB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ing is hard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is har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s are particularly hard to d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mproving at exponentia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not even at arithmetic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E875B-2180-4459-8D2A-8F288980754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nonymity is the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dered machines allow bad guys to probe and experiment with little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B675A-327E-41C4-B737-5C96D265014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7296A-BA11-4B40-B135-C40EBA9B759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suggestion: buy H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as much HEU from Russia as we can,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is no object: this is cheap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“Nuclear Terrorism” by Fransesco Calogero,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http://www.pugwash.org/september11/sept11-calogero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tonium, and pre-made weapons are a differen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929E8-A28F-4240-829A-04739791860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mateur 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build an atom bomb, given access to “special nuclear material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tonium:  probably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: prob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2E5E8-899C-4DFA-B22E-6315D5A9267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hy do I think it might be ea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computers for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notes from the Manhattan projec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data (neutron cross sections, etc.) are pu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appears easier if you don’t have to optimize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mb ignition is a matter of probabilities: will a neutron arrive at the wrong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zzle yield at Rockefeller center would still make the evening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058C6-DA04-441E-9593-3F4156C3694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t’s probably as easy as it seems, and maybe eas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dn’t bother testing the whole bomb at Los Al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EU w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 Taylor implied that there were easy ways in McPhee’s “Curve of the Binding Energ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ld idiot can “tweak the dragon’s tail”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BA270-4E6A-49CD-8D40-EE1F67BD8C5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so ea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2432E-DF68-4C67-B823-C6436312381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2104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ople believe that it is quite difficult to manufacture a nuclear explosive device. They are mistaken. If [HEU] were available, a very small group of terrorists -- possibly even a single person -- might manufacture in an apartment or a garage a device which would then have a substantial probability to produce a nuclear explosion comparable to that which destroyed Hirosh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rancesco Calog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38400-7EBE-4731-A1D9-24C8B6815AC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ontinue to tin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98185-BB43-4000-B69D-69748621F74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ming amateur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tlantic flight with model air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orbital amateur rocket f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45A6D-3212-4D1F-9805-D2A4EF95EEE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ur digital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ly technology in the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intercom connected to computer’s sound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s phone callers, astronomical events and news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 the kid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catch the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h and recycling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the lights, monitors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s the Christmas lights in a non-tacky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F34A6-4A41-46DC-A350-8E360DBC471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House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warning system should have an Internet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al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TB of disks in our house, with 26GB of photos and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AAA2B-745E-4291-B604-46AFFD6CB61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inuing 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 rock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 air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 rocket recov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90F6D-CAB9-4A1A-A30E-C7E32E1A4A6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inuing 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2O and bacterial grow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A22BF-09CA-4F37-9A84-8CF5F58349A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19320" y="76320"/>
          <a:ext cx="6933960" cy="69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320"/>
                    <a:ext cx="6933960" cy="69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0472F-5BDA-4BA9-83E6-7288DD5C872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chemical experiments, back t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ll Br from K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2S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ll ether from ethanol and H2SO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on fruit 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lic sodium from 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ncotton, flash paper, etc.  (No nitroglycer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books were more informative than new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D4174-1061-4AB5-8003-CB1D28F1CA8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14:38:07Z</dcterms:created>
  <dc:creator>Bill Cheswick</dc:creator>
  <dc:description/>
  <dc:language>en-US</dc:language>
  <cp:lastModifiedBy>ches</cp:lastModifiedBy>
  <cp:lastPrinted>2000-09-12T21:06:26Z</cp:lastPrinted>
  <dcterms:modified xsi:type="dcterms:W3CDTF">2002-01-31T20:56:47Z</dcterms:modified>
  <cp:revision>40</cp:revision>
  <dc:subject/>
  <dc:title>Mapping the Internet and Intranets</dc:title>
</cp:coreProperties>
</file>