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C36E70-201B-47C6-9060-CE1B14D5D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ghly increasing order of risk/time/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ly debatable and changeable, but order of magnitude is abou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 Microsoft spelling checker suggested ‘cyaniding’ as the correct spelling for ‘sysadmi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12760" y="806400"/>
            <a:ext cx="5857920" cy="2858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88280" y="533520"/>
            <a:ext cx="2370240" cy="644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>
            <a:off x="533520" y="647712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Attacks: The Gory Details</a:t>
            </a:r>
            <a:br>
              <a:rPr sz="1800"/>
            </a:b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cs.bell-labs.com/~ch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Lucent/AT&amp;T at the spli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&gt;6 firewalls, 300,000 hosts, 200 extran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149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150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57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58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65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76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83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84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91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202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9852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35780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mote Attacks are 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s can be laundered through many host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anonym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verage defender is clu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ceback can be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ueless 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gnorant law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aties with foreig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not be against the loc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acker may cease attack before traceback i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nocultu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all set of targe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ke planting Kansas with a single strain of wheat, or vineyards with a single root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ers develop attack software for the res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Unsafe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oorly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oor 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ound in most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afer services and protocols are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endors sell flaw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Users don’t fix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security is usually br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curity requires discipline: not found in market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me Typical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checked user input submitted to the shell or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dcard and escape characters take over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GI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 string length is not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ing buffer overrun corrupts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er supplies assembly code, and jumps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ger (Morris worm), early Netscape, statd (la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 options, commands, or back d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UG and others in send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vileged programs are much too la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mail is tens of thousands of lines of complex code, running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scape browser/communicator i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s are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s are never retired, only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ort, simple program is hard to ge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afe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words transmitted in the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llenge/response is better, though subject to dictionary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KE can hid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hine generated passwords are better, but require devices or print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OK in controlled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NS and routing attacks can fool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eakest Link Compromi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ny tar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 (via snif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net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5880" y="1905120"/>
            <a:ext cx="238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828800"/>
            <a:ext cx="2590920" cy="2514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42244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65760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20760" y="259092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43120" y="320040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28680" y="373392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38680" y="1828800"/>
            <a:ext cx="2590920" cy="2514600"/>
            <a:chOff x="5638680" y="1828800"/>
            <a:chExt cx="2590920" cy="2514600"/>
          </a:xfrm>
        </p:grpSpPr>
        <p:sp>
          <p:nvSpPr>
            <p:cNvPr id="97" name=""/>
            <p:cNvSpPr txBox="1"/>
            <p:nvPr/>
          </p:nvSpPr>
          <p:spPr>
            <a:xfrm>
              <a:off x="5738760" y="1905120"/>
              <a:ext cx="2387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1828800"/>
              <a:ext cx="2590920" cy="2514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42244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8680" y="365760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6173640" y="2590920"/>
              <a:ext cx="1522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696000" y="320040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6181560" y="373392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8006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662280" y="495288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267080" y="3733920"/>
            <a:ext cx="1676520" cy="16002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fault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GI work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re default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angerou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are they insec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gs i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handle gives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foo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ographically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are they insec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login, rsh, r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ed-bas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text leaks sec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l can be taken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al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che wrong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ack address-bas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ten bug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to set up saf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I scripts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 They Find Dangerous Por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 sc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lf-open (SYN-only) scanners often don’t show up in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er to scan for UDP services, but not by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afer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Kerberiz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uthentic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get/c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age/un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mmercial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et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pe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ustom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rtabl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angerous servic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rtable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X^H^H^H^H^H^H^HCO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lks to a host with som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P supplies a reliable connection to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one can invent a new protocol between two h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11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re do Programs Ru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83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re do Programs Ru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90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2459160" y="5532480"/>
            <a:ext cx="4248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c90e0a"/>
                </a:solidFill>
                <a:latin typeface="Arial"/>
                <a:ea typeface="Arial"/>
              </a:rPr>
              <a:t>This model is 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320" y="7632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ets run in an incompletely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fined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2590920"/>
            <a:ext cx="213372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1752480"/>
            <a:ext cx="388620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790800" y="1935000"/>
            <a:ext cx="156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606840" y="3306600"/>
            <a:ext cx="193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ava’s “sandbox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incomplete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different for each v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ten optimized for speed, not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“native methods”, which can break the secur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Java, but no sandbox 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“eavesdropping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7080" y="2973240"/>
            <a:ext cx="0" cy="236088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thernet and 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 never secure from eavesdr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niffing” tools a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b host name, user name,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 any hack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dit card numbers are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1,000,000 captur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It doesn’t matter how good your password is if it can be sniff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 - even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ardware tokens are one solution to sniffed 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95400" y="5257800"/>
            <a:ext cx="38671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cur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im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ware or printou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n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usually proprietary serve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One-time 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581120" y="1881360"/>
            <a:ext cx="649620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usted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s up “circuit” between client and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eaks a stream of data into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sembles packets into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s 1 - 655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1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at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address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e. rlogin, rsh, tcp wrap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tools available to the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don’t have to be TCP/IP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as used to crack Tsutomu Shimomura’s machines in “Take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ert Morris Jr. wrote a paper on this in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ve Bellovin republished it in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known use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Normal TCP connection,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nitial SYN pac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esponse to Open, connection is “half ope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lient completes handshake, TCP connection is now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etermine Likel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SEQ</a:t>
            </a:r>
            <a:r>
              <a:rPr b="1" lang="en-US" sz="26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724280" y="327672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029200" y="358128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ppress the Truste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43828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22720" y="3351240"/>
            <a:ext cx="30052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ppress the Truste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86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ttacker opens connection “from” truste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96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Open seems to come from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rusted cli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08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erver responds to dead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21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D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onless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error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itable for some network services that don’t have to be reliable, like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s are numb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poof final ope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34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19400" y="446580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“Open” is 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48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Open Server to outsid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462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4191120"/>
            <a:ext cx="1752840" cy="1143360"/>
          </a:xfrm>
          <a:custGeom>
            <a:avLst/>
            <a:gdLst/>
            <a:ahLst/>
            <a:rect l="0" t="0" r="r" b="b"/>
            <a:pathLst>
              <a:path fill="none" w="4869" h="3176">
                <a:moveTo>
                  <a:pt x="4869" y="0"/>
                </a:moveTo>
                <a:lnTo>
                  <a:pt x="4869" y="0"/>
                </a:lnTo>
                <a:cubicBezTo>
                  <a:pt x="4014" y="0"/>
                  <a:pt x="3175" y="147"/>
                  <a:pt x="2434" y="426"/>
                </a:cubicBezTo>
                <a:cubicBezTo>
                  <a:pt x="1694" y="704"/>
                  <a:pt x="1080" y="1105"/>
                  <a:pt x="652" y="1588"/>
                </a:cubicBezTo>
                <a:cubicBezTo>
                  <a:pt x="22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146560" y="477036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venting IP spoo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ofing can be stopped at the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internal addresses accepted from the outsi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s to have a coherent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irewall can prevent acces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-based authentication is a BA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ttacker is watching an existing connection,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erhaps through the strong authentication s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Kill the client connect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43828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25360" y="4494240"/>
            <a:ext cx="2598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…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nd continue the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2743200"/>
            <a:ext cx="2667240" cy="2591280"/>
          </a:xfrm>
          <a:custGeom>
            <a:avLst/>
            <a:gdLst/>
            <a:ahLst/>
            <a:rect l="0" t="0" r="r" b="b"/>
            <a:pathLst>
              <a:path fill="none" w="7409" h="7198">
                <a:moveTo>
                  <a:pt x="7409" y="0"/>
                </a:moveTo>
                <a:lnTo>
                  <a:pt x="7409" y="0"/>
                </a:lnTo>
                <a:cubicBezTo>
                  <a:pt x="6108" y="0"/>
                  <a:pt x="4831" y="333"/>
                  <a:pt x="3704" y="964"/>
                </a:cubicBezTo>
                <a:cubicBezTo>
                  <a:pt x="2578" y="1596"/>
                  <a:pt x="1643" y="2505"/>
                  <a:pt x="993" y="3599"/>
                </a:cubicBezTo>
                <a:cubicBezTo>
                  <a:pt x="342" y="4693"/>
                  <a:pt x="0" y="5934"/>
                  <a:pt x="0" y="7198"/>
                </a:cubicBezTo>
              </a:path>
            </a:pathLst>
          </a:cu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36232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custDash>
              <a:ds d="198592" sp="198592"/>
              <a:ds d="100000" sp="198592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057400" y="2438280"/>
            <a:ext cx="685800" cy="685800"/>
            <a:chOff x="2057400" y="2438280"/>
            <a:chExt cx="685800" cy="685800"/>
          </a:xfrm>
        </p:grpSpPr>
        <p:sp>
          <p:nvSpPr>
            <p:cNvPr id="503" name=""/>
            <p:cNvSpPr/>
            <p:nvPr/>
          </p:nvSpPr>
          <p:spPr>
            <a:xfrm>
              <a:off x="2057400" y="2438280"/>
              <a:ext cx="685800" cy="6858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s over an existing, authenticated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access to the packe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tools are available to the hackers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graphic signatures of packets can defeat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ets have limited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be dropped in transit if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arrive out of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ing by IP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2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CP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2971800"/>
            <a:ext cx="3124440" cy="0"/>
          </a:xfrm>
          <a:prstGeom prst="line">
            <a:avLst/>
          </a:prstGeom>
          <a:ln w="255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267080" y="3048120"/>
            <a:ext cx="23623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495680" y="3048120"/>
            <a:ext cx="21337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724280" y="3048120"/>
            <a:ext cx="19051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952880" y="3048120"/>
            <a:ext cx="16765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181480" y="2971800"/>
            <a:ext cx="1447920" cy="23623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410080" y="3048120"/>
            <a:ext cx="121932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962520" y="3048120"/>
            <a:ext cx="2666880" cy="22860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ers can exploit poor local software 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’s network with incom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hese attacks are </a:t>
            </a:r>
            <a:r>
              <a:rPr b="1" i="1" lang="en-US" sz="24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always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 possible on a public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 packe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Normal TCP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Normal TCP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781680" y="2765520"/>
            <a:ext cx="22096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ff"/>
            </a:solidFill>
            <a:custDash>
              <a:ds d="402857" sp="4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N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seen at Panix.com in fall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lf-open processing was implemented poo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dratic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n’t much call for improv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’ve been expect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thing we left out of our firewall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ed at the last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knew of no goo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re sorry we left i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one has appeared in fal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N with same source and destination address kills some TCP/IP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re will be more attacks on TCP/I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lots of code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hard to test code in a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ng flood (smu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dentify ping genera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igger packets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oofed return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3733920"/>
            <a:ext cx="1981440" cy="1448280"/>
          </a:xfrm>
          <a:custGeom>
            <a:avLst/>
            <a:gdLst/>
            <a:ahLst/>
            <a:rect l="0" t="0" r="r" b="b"/>
            <a:pathLst>
              <a:path fill="none" w="5504" h="4023">
                <a:moveTo>
                  <a:pt x="5504" y="4023"/>
                </a:moveTo>
                <a:lnTo>
                  <a:pt x="5504" y="4023"/>
                </a:lnTo>
                <a:lnTo>
                  <a:pt x="5504" y="4023"/>
                </a:lnTo>
                <a:cubicBezTo>
                  <a:pt x="5504" y="3317"/>
                  <a:pt x="5250" y="2623"/>
                  <a:pt x="4767" y="2011"/>
                </a:cubicBezTo>
                <a:cubicBezTo>
                  <a:pt x="4284" y="1400"/>
                  <a:pt x="3589" y="892"/>
                  <a:pt x="2752" y="539"/>
                </a:cubicBezTo>
                <a:cubicBezTo>
                  <a:pt x="1915" y="186"/>
                  <a:pt x="966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42840" y="3886200"/>
            <a:ext cx="3811320" cy="1328760"/>
          </a:xfrm>
          <a:custGeom>
            <a:avLst/>
            <a:gdLst/>
            <a:ahLst/>
            <a:rect l="0" t="0" r="r" b="b"/>
            <a:pathLst>
              <a:path fill="none" w="10587" h="3691">
                <a:moveTo>
                  <a:pt x="10587" y="3691"/>
                </a:moveTo>
                <a:lnTo>
                  <a:pt x="10587" y="3691"/>
                </a:lnTo>
                <a:cubicBezTo>
                  <a:pt x="10515" y="3099"/>
                  <a:pt x="10254" y="2526"/>
                  <a:pt x="9821" y="2012"/>
                </a:cubicBezTo>
                <a:cubicBezTo>
                  <a:pt x="9306" y="1400"/>
                  <a:pt x="8565" y="893"/>
                  <a:pt x="7673" y="539"/>
                </a:cubicBezTo>
                <a:cubicBezTo>
                  <a:pt x="6781" y="186"/>
                  <a:pt x="5770" y="0"/>
                  <a:pt x="4740" y="0"/>
                </a:cubicBezTo>
                <a:cubicBezTo>
                  <a:pt x="3710" y="0"/>
                  <a:pt x="2698" y="186"/>
                  <a:pt x="1806" y="539"/>
                </a:cubicBezTo>
                <a:cubicBezTo>
                  <a:pt x="1097" y="820"/>
                  <a:pt x="482" y="1199"/>
                  <a:pt x="0" y="1652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43200" y="3505320"/>
            <a:ext cx="3734280" cy="1752840"/>
          </a:xfrm>
          <a:custGeom>
            <a:avLst/>
            <a:gdLst/>
            <a:ahLst/>
            <a:rect l="0" t="0" r="r" b="b"/>
            <a:pathLst>
              <a:path fill="none" w="10373" h="4869">
                <a:moveTo>
                  <a:pt x="10373" y="4869"/>
                </a:moveTo>
                <a:lnTo>
                  <a:pt x="10373" y="4869"/>
                </a:lnTo>
                <a:lnTo>
                  <a:pt x="10373" y="4869"/>
                </a:lnTo>
                <a:cubicBezTo>
                  <a:pt x="10373" y="4014"/>
                  <a:pt x="9894" y="3175"/>
                  <a:pt x="8983" y="2434"/>
                </a:cubicBezTo>
                <a:cubicBezTo>
                  <a:pt x="8073" y="1694"/>
                  <a:pt x="6763" y="1080"/>
                  <a:pt x="5186" y="652"/>
                </a:cubicBezTo>
                <a:cubicBezTo>
                  <a:pt x="3610" y="225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71800" y="2133720"/>
            <a:ext cx="3734280" cy="3200760"/>
          </a:xfrm>
          <a:custGeom>
            <a:avLst/>
            <a:gdLst/>
            <a:ahLst/>
            <a:rect l="0" t="0" r="r" b="b"/>
            <a:pathLst>
              <a:path fill="none" w="10373" h="8891">
                <a:moveTo>
                  <a:pt x="10373" y="8891"/>
                </a:moveTo>
                <a:lnTo>
                  <a:pt x="10373" y="8891"/>
                </a:lnTo>
                <a:lnTo>
                  <a:pt x="10373" y="8891"/>
                </a:lnTo>
                <a:cubicBezTo>
                  <a:pt x="10373" y="7330"/>
                  <a:pt x="9894" y="5797"/>
                  <a:pt x="8983" y="4445"/>
                </a:cubicBezTo>
                <a:cubicBezTo>
                  <a:pt x="8073" y="3094"/>
                  <a:pt x="6763" y="1972"/>
                  <a:pt x="5186" y="1191"/>
                </a:cubicBezTo>
                <a:cubicBezTo>
                  <a:pt x="3610" y="411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47920" y="1828800"/>
            <a:ext cx="5258160" cy="3505680"/>
          </a:xfrm>
          <a:custGeom>
            <a:avLst/>
            <a:gdLst/>
            <a:ahLst/>
            <a:rect l="0" t="0" r="r" b="b"/>
            <a:pathLst>
              <a:path fill="none" w="14606" h="9738">
                <a:moveTo>
                  <a:pt x="14606" y="9738"/>
                </a:moveTo>
                <a:lnTo>
                  <a:pt x="14606" y="9738"/>
                </a:lnTo>
                <a:lnTo>
                  <a:pt x="14606" y="9738"/>
                </a:lnTo>
                <a:cubicBezTo>
                  <a:pt x="14606" y="8029"/>
                  <a:pt x="13931" y="6349"/>
                  <a:pt x="12649" y="4869"/>
                </a:cubicBezTo>
                <a:cubicBezTo>
                  <a:pt x="11367" y="3389"/>
                  <a:pt x="9523" y="2159"/>
                  <a:pt x="7303" y="1305"/>
                </a:cubicBezTo>
                <a:cubicBezTo>
                  <a:pt x="5083" y="450"/>
                  <a:pt x="2564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3581280"/>
            <a:ext cx="5639040" cy="1752840"/>
          </a:xfrm>
          <a:custGeom>
            <a:avLst/>
            <a:gdLst/>
            <a:ahLst/>
            <a:rect l="0" t="0" r="r" b="b"/>
            <a:pathLst>
              <a:path fill="none" w="15664" h="4869">
                <a:moveTo>
                  <a:pt x="15664" y="4869"/>
                </a:moveTo>
                <a:lnTo>
                  <a:pt x="15664" y="4869"/>
                </a:lnTo>
                <a:lnTo>
                  <a:pt x="15664" y="4869"/>
                </a:lnTo>
                <a:cubicBezTo>
                  <a:pt x="15664" y="4014"/>
                  <a:pt x="14940" y="3175"/>
                  <a:pt x="13565" y="2434"/>
                </a:cubicBezTo>
                <a:cubicBezTo>
                  <a:pt x="12191" y="1694"/>
                  <a:pt x="10213" y="1080"/>
                  <a:pt x="7832" y="652"/>
                </a:cubicBezTo>
                <a:cubicBezTo>
                  <a:pt x="5451" y="225"/>
                  <a:pt x="2750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nerators flood the targ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ith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676520" y="1828800"/>
            <a:ext cx="5258160" cy="1600560"/>
          </a:xfrm>
          <a:custGeom>
            <a:avLst/>
            <a:gdLst/>
            <a:ahLst/>
            <a:rect l="0" t="0" r="r" b="b"/>
            <a:pathLst>
              <a:path fill="none" w="14606" h="4446">
                <a:moveTo>
                  <a:pt x="0" y="0"/>
                </a:moveTo>
                <a:lnTo>
                  <a:pt x="1905" y="1481"/>
                </a:lnTo>
                <a:lnTo>
                  <a:pt x="4233" y="2964"/>
                </a:lnTo>
                <a:lnTo>
                  <a:pt x="7196" y="3387"/>
                </a:lnTo>
                <a:lnTo>
                  <a:pt x="7293" y="3519"/>
                </a:lnTo>
                <a:lnTo>
                  <a:pt x="12066" y="4446"/>
                </a:lnTo>
                <a:lnTo>
                  <a:pt x="14606" y="4446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24080" y="2057400"/>
            <a:ext cx="4038840" cy="1600560"/>
          </a:xfrm>
          <a:custGeom>
            <a:avLst/>
            <a:gdLst/>
            <a:ahLst/>
            <a:rect l="0" t="0" r="r" b="b"/>
            <a:pathLst>
              <a:path fill="none" w="11219" h="4446">
                <a:moveTo>
                  <a:pt x="0" y="0"/>
                </a:moveTo>
                <a:lnTo>
                  <a:pt x="3598" y="1693"/>
                </a:lnTo>
                <a:lnTo>
                  <a:pt x="6139" y="2752"/>
                </a:lnTo>
                <a:lnTo>
                  <a:pt x="8467" y="4446"/>
                </a:lnTo>
                <a:lnTo>
                  <a:pt x="11219" y="423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2971800"/>
            <a:ext cx="6096240" cy="686160"/>
          </a:xfrm>
          <a:custGeom>
            <a:avLst/>
            <a:gdLst/>
            <a:ahLst/>
            <a:rect l="0" t="0" r="r" b="b"/>
            <a:pathLst>
              <a:path fill="none" w="16934" h="1906">
                <a:moveTo>
                  <a:pt x="0" y="1694"/>
                </a:moveTo>
                <a:lnTo>
                  <a:pt x="3386" y="1059"/>
                </a:lnTo>
                <a:lnTo>
                  <a:pt x="5926" y="0"/>
                </a:lnTo>
                <a:lnTo>
                  <a:pt x="9314" y="635"/>
                </a:lnTo>
                <a:lnTo>
                  <a:pt x="14394" y="1906"/>
                </a:lnTo>
                <a:lnTo>
                  <a:pt x="16934" y="169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43200" y="3124080"/>
            <a:ext cx="4496040" cy="762480"/>
          </a:xfrm>
          <a:custGeom>
            <a:avLst/>
            <a:gdLst/>
            <a:ahLst/>
            <a:rect l="0" t="0" r="r" b="b"/>
            <a:pathLst>
              <a:path fill="none" w="12489" h="2118">
                <a:moveTo>
                  <a:pt x="0" y="1482"/>
                </a:moveTo>
                <a:lnTo>
                  <a:pt x="1905" y="2118"/>
                </a:lnTo>
                <a:lnTo>
                  <a:pt x="2037" y="2083"/>
                </a:lnTo>
                <a:lnTo>
                  <a:pt x="4868" y="1695"/>
                </a:lnTo>
                <a:lnTo>
                  <a:pt x="4859" y="1598"/>
                </a:lnTo>
                <a:lnTo>
                  <a:pt x="7409" y="0"/>
                </a:lnTo>
                <a:lnTo>
                  <a:pt x="9314" y="1482"/>
                </a:lnTo>
                <a:lnTo>
                  <a:pt x="12489" y="1059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3048120"/>
            <a:ext cx="4267440" cy="1448280"/>
          </a:xfrm>
          <a:custGeom>
            <a:avLst/>
            <a:gdLst/>
            <a:ahLst/>
            <a:rect l="0" t="0" r="r" b="b"/>
            <a:pathLst>
              <a:path fill="none" w="11854" h="4023">
                <a:moveTo>
                  <a:pt x="0" y="4023"/>
                </a:moveTo>
                <a:lnTo>
                  <a:pt x="1693" y="2329"/>
                </a:lnTo>
                <a:lnTo>
                  <a:pt x="4444" y="1905"/>
                </a:lnTo>
                <a:lnTo>
                  <a:pt x="7197" y="0"/>
                </a:lnTo>
                <a:lnTo>
                  <a:pt x="9314" y="1694"/>
                </a:lnTo>
                <a:lnTo>
                  <a:pt x="11854" y="1482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3200400"/>
            <a:ext cx="2743560" cy="578160"/>
          </a:xfrm>
          <a:custGeom>
            <a:avLst/>
            <a:gdLst/>
            <a:ahLst/>
            <a:rect l="0" t="0" r="r" b="b"/>
            <a:pathLst>
              <a:path fill="none" w="7621" h="1606">
                <a:moveTo>
                  <a:pt x="0" y="1482"/>
                </a:moveTo>
                <a:lnTo>
                  <a:pt x="2751" y="0"/>
                </a:lnTo>
                <a:lnTo>
                  <a:pt x="4869" y="1482"/>
                </a:lnTo>
                <a:lnTo>
                  <a:pt x="4878" y="1606"/>
                </a:lnTo>
                <a:lnTo>
                  <a:pt x="7621" y="1271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ardwar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iffable if on sam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attacks that fiddle at this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9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ce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arget cannot tell where the trigger is coming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ing hosts may not know that they ar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storms can generate mor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S, routing, and infrastructur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acket Diversion and man-in-the-middl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438280" y="2819520"/>
            <a:ext cx="4190760" cy="12240"/>
          </a:xfrm>
          <a:custGeom>
            <a:avLst/>
            <a:gdLst/>
            <a:ahLst/>
            <a:rect l="0" t="0" r="r" b="b"/>
            <a:pathLst>
              <a:path fill="none" w="11641" h="34">
                <a:moveTo>
                  <a:pt x="11641" y="34"/>
                </a:moveTo>
                <a:lnTo>
                  <a:pt x="11641" y="34"/>
                </a:lnTo>
                <a:cubicBezTo>
                  <a:pt x="10457" y="24"/>
                  <a:pt x="8855" y="16"/>
                  <a:pt x="6967" y="10"/>
                </a:cubicBezTo>
                <a:cubicBezTo>
                  <a:pt x="4876" y="3"/>
                  <a:pt x="2504" y="0"/>
                  <a:pt x="90" y="0"/>
                </a:cubicBezTo>
                <a:cubicBezTo>
                  <a:pt x="60" y="0"/>
                  <a:pt x="30" y="0"/>
                  <a:pt x="0" y="0"/>
                </a:cubicBezTo>
              </a:path>
            </a:pathLst>
          </a:custGeom>
          <a:ln w="38160">
            <a:solidFill>
              <a:srgbClr val="009900"/>
            </a:solidFill>
            <a:round/>
            <a:tailEnd len="med" type="triangle" w="med"/>
          </a:ln>
        </p:spPr>
        <p:txBody>
          <a:bodyPr lIns="109080" rIns="109080" tIns="-51840" bIns="-51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acket Diversion and man-in-the-middl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2819520"/>
            <a:ext cx="4190760" cy="12240"/>
          </a:xfrm>
          <a:custGeom>
            <a:avLst/>
            <a:gdLst/>
            <a:ahLst/>
            <a:rect l="0" t="0" r="r" b="b"/>
            <a:pathLst>
              <a:path fill="none" w="11641" h="34">
                <a:moveTo>
                  <a:pt x="11641" y="34"/>
                </a:moveTo>
                <a:lnTo>
                  <a:pt x="11641" y="34"/>
                </a:lnTo>
                <a:cubicBezTo>
                  <a:pt x="10457" y="24"/>
                  <a:pt x="8855" y="16"/>
                  <a:pt x="6967" y="10"/>
                </a:cubicBezTo>
                <a:cubicBezTo>
                  <a:pt x="4876" y="3"/>
                  <a:pt x="2504" y="0"/>
                  <a:pt x="90" y="0"/>
                </a:cubicBezTo>
                <a:cubicBezTo>
                  <a:pt x="60" y="0"/>
                  <a:pt x="30" y="0"/>
                  <a:pt x="0" y="0"/>
                </a:cubicBezTo>
              </a:path>
            </a:pathLst>
          </a:custGeom>
          <a:ln w="38160">
            <a:solidFill>
              <a:srgbClr val="009900"/>
            </a:solidFill>
            <a:round/>
            <a:tailEnd len="med" type="triangle" w="med"/>
          </a:ln>
        </p:spPr>
        <p:txBody>
          <a:bodyPr lIns="109080" rIns="109080" tIns="-51840" bIns="-51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267080" y="2819520"/>
            <a:ext cx="0" cy="2514600"/>
          </a:xfrm>
          <a:prstGeom prst="line">
            <a:avLst/>
          </a:prstGeom>
          <a:ln w="25560">
            <a:solidFill>
              <a:srgbClr val="ff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602160" y="227016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acket Diversion and man-in-the-middl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819520"/>
            <a:ext cx="1448280" cy="2514960"/>
          </a:xfrm>
          <a:custGeom>
            <a:avLst/>
            <a:gdLst/>
            <a:ahLst/>
            <a:rect l="0" t="0" r="r" b="b"/>
            <a:pathLst>
              <a:path fill="none" w="4023" h="6986">
                <a:moveTo>
                  <a:pt x="4023" y="6986"/>
                </a:moveTo>
                <a:lnTo>
                  <a:pt x="4023" y="6986"/>
                </a:lnTo>
                <a:cubicBezTo>
                  <a:pt x="4023" y="5760"/>
                  <a:pt x="3837" y="4555"/>
                  <a:pt x="3484" y="3494"/>
                </a:cubicBezTo>
                <a:cubicBezTo>
                  <a:pt x="3131" y="2431"/>
                  <a:pt x="2623" y="1549"/>
                  <a:pt x="2012" y="936"/>
                </a:cubicBezTo>
                <a:cubicBezTo>
                  <a:pt x="1400" y="323"/>
                  <a:pt x="706" y="0"/>
                  <a:pt x="0" y="0"/>
                </a:cubicBezTo>
                <a:lnTo>
                  <a:pt x="0" y="0"/>
                </a:lnTo>
              </a:path>
            </a:pathLst>
          </a:custGeom>
          <a:ln w="38160">
            <a:solidFill>
              <a:srgbClr val="0099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0600" y="2743200"/>
            <a:ext cx="1829160" cy="2591280"/>
          </a:xfrm>
          <a:custGeom>
            <a:avLst/>
            <a:gdLst/>
            <a:ahLst/>
            <a:rect l="0" t="0" r="r" b="b"/>
            <a:pathLst>
              <a:path fill="none" w="5081" h="7198">
                <a:moveTo>
                  <a:pt x="5081" y="0"/>
                </a:moveTo>
                <a:lnTo>
                  <a:pt x="5081" y="0"/>
                </a:lnTo>
                <a:cubicBezTo>
                  <a:pt x="4189" y="0"/>
                  <a:pt x="3313" y="333"/>
                  <a:pt x="2540" y="964"/>
                </a:cubicBezTo>
                <a:cubicBezTo>
                  <a:pt x="1768" y="1596"/>
                  <a:pt x="1127" y="2505"/>
                  <a:pt x="681" y="3599"/>
                </a:cubicBezTo>
                <a:cubicBezTo>
                  <a:pt x="235" y="4693"/>
                  <a:pt x="0" y="5934"/>
                  <a:pt x="0" y="7198"/>
                </a:cubicBezTo>
              </a:path>
            </a:pathLst>
          </a:custGeom>
          <a:ln w="38160">
            <a:solidFill>
              <a:srgbClr val="009900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3602160" y="227016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NS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an extra “glue” record on a DNS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 cache time-out hides the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est bind program checks for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ture DNS server and return incorrect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SSEC can fix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ing through final comments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r tools are still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ed BGP4 is 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ep up with the latest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 to secure router implementations, when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 what will you do if the entire Internet is down fo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2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 (con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48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nother problem with strange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akn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ocial 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afer 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 encryption, but at the wro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P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re “Clue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ert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and repair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ger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to actively check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tility infielder” - a gener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” (experts) are expensive and hard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533520" y="171360"/>
            <a:ext cx="8107200" cy="60768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 txBox="1"/>
          <p:nvPr/>
        </p:nvSpPr>
        <p:spPr>
          <a:xfrm>
            <a:off x="2752560" y="112680"/>
            <a:ext cx="34909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t a panac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munity of insecure hosts can be protected from an external attack on thes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irewall enforces a network access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not a perfec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648320" y="130824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Firewall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mmercial firewalls are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o Stages These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o Uses These Attack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ng people with too much time and no girl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gruntled (ex-)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fessional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acker’s Risk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Exploit Send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Guess default pw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FTP - holes &amp; sn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elnet - sn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Crack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NFS confi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portmapper/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DNS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IP spoof r* c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k in Manhat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break secure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collection of TCP/IP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real centr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central knowledge of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er-packet billing, in mos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e equipment too busy to help law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perimeters are impossible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gher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5412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break exportable cry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dict. attack on chal/resp. based on 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mpster 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 into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y off sys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649760" y="130824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nap sys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nap 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 good crypto (DES crac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feder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 superb cry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formation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ewalls 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greatcirc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pman and Zw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word search in altavista.digita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484200" y="63360"/>
            <a:ext cx="85024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M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54120" y="130824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ttp://www.cs.bell-labs.com/~ch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21"/>
              </a:spcBef>
              <a:buClr>
                <a:srgbClr val="d60122"/>
              </a:buClr>
              <a:buSzPct val="45000"/>
              <a:buFont typeface="Symbol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Yes, I’d love to sign your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Do not eat yellow snow.</dc:description>
  <dc:language>en-US</dc:language>
  <cp:lastModifiedBy>Bill Cheswick</cp:lastModifiedBy>
  <cp:revision>0</cp:revision>
  <dc:subject>Encryption Software for the Internet</dc:subject>
  <dc:title>Commercial Munitions on the Internet</dc:title>
</cp:coreProperties>
</file>