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129A-0DCB-4B2E-B9F5-028C7D44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3760" y="390096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6CAE-4411-40AD-A47C-EE000D50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2804-A34F-42DF-A3A5-99F77398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408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4040" y="130788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376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408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4040" y="3900960"/>
            <a:ext cx="252360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2F3-857C-4A7F-A435-49D957DF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119-294D-4C8F-95F9-E1C01C91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45A-3F1E-4447-9B28-BD7B69E6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31A1-0630-40FD-B878-62AA20F7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926-EDE4-4D07-B0FF-80C68FB3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4200" y="63000"/>
            <a:ext cx="850248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260-6B83-47E4-8F29-F47A9933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5CC-C342-42C5-9158-0D998919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90096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4CF9-D058-4AC8-A628-85A0F103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307880"/>
            <a:ext cx="382464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3760" y="3900960"/>
            <a:ext cx="7837560" cy="236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F8D9-86CA-4627-89C0-4E28CDD5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12760" y="806400"/>
            <a:ext cx="5857920" cy="285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488280" y="533520"/>
            <a:ext cx="2369880" cy="644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533520" y="6477120"/>
            <a:ext cx="815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9786-F091-4382-968D-5EBE4753FE01}" type="datetime3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8786-83C5-4DAE-AED3-AA43DA318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 Attacks: The Gory Details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ill Cheswic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 Labs, Lucent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s@bell-labs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cs.bell-labs.com/~che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1EA-CCDB-44DC-8C7B-2F7C50A5A4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6BC22-C51F-49FE-8A71-89D8C8ECF8E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rdwar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niffable if on same 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attacks that fiddle at this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74" name=""/>
            <p:cNvSpPr/>
            <p:nvPr/>
          </p:nvSpPr>
          <p:spPr>
            <a:xfrm>
              <a:off x="46368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Ethernet, AT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21F-9007-46EF-BFBC-411FD37B2F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DBAB8-03B0-44C8-9E40-E9B797919CB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BBA-2483-4969-93BE-00650B6B4C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175E8-B613-477F-A110-17D08010377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 hoc collection of TCP/IP inter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real central autho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entral knowledge of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be flows, but not y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per-packet billing, in most pl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equipment too busy to help law enfor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 perimeters are impossible to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92C-4013-412C-B210-A10E9AAF963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772B7-C279-45A3-B926-C12EED12F82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ucent/AT&amp;T at the split (1996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6400" y="3363840"/>
            <a:ext cx="4354560" cy="101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427120" y="4427640"/>
            <a:ext cx="765360" cy="785880"/>
            <a:chOff x="2427120" y="4427640"/>
            <a:chExt cx="765360" cy="785880"/>
          </a:xfrm>
        </p:grpSpPr>
        <p:grpSp>
          <p:nvGrpSpPr>
            <p:cNvPr id="185" name=""/>
            <p:cNvGrpSpPr/>
            <p:nvPr/>
          </p:nvGrpSpPr>
          <p:grpSpPr>
            <a:xfrm>
              <a:off x="2427120" y="4660920"/>
              <a:ext cx="765360" cy="318960"/>
              <a:chOff x="2427120" y="4660920"/>
              <a:chExt cx="765360" cy="318960"/>
            </a:xfrm>
          </p:grpSpPr>
          <p:sp>
            <p:nvSpPr>
              <p:cNvPr id="186" name=""/>
              <p:cNvSpPr/>
              <p:nvPr/>
            </p:nvSpPr>
            <p:spPr>
              <a:xfrm>
                <a:off x="2511360" y="4660920"/>
                <a:ext cx="5637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94080" y="4664160"/>
                <a:ext cx="314280" cy="277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811240" y="4664160"/>
                <a:ext cx="314280" cy="277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427120" y="497988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808360" y="44276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25640" y="5029200"/>
              <a:ext cx="0" cy="18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63880" y="4403880"/>
            <a:ext cx="766800" cy="828360"/>
            <a:chOff x="3863880" y="4403880"/>
            <a:chExt cx="766800" cy="828360"/>
          </a:xfrm>
        </p:grpSpPr>
        <p:grpSp>
          <p:nvGrpSpPr>
            <p:cNvPr id="193" name=""/>
            <p:cNvGrpSpPr/>
            <p:nvPr/>
          </p:nvGrpSpPr>
          <p:grpSpPr>
            <a:xfrm>
              <a:off x="3863880" y="4648320"/>
              <a:ext cx="766800" cy="336600"/>
              <a:chOff x="3863880" y="4648320"/>
              <a:chExt cx="766800" cy="336600"/>
            </a:xfrm>
          </p:grpSpPr>
          <p:sp>
            <p:nvSpPr>
              <p:cNvPr id="194" name=""/>
              <p:cNvSpPr/>
              <p:nvPr/>
            </p:nvSpPr>
            <p:spPr>
              <a:xfrm>
                <a:off x="3948120" y="4648320"/>
                <a:ext cx="5652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32280" y="4651200"/>
                <a:ext cx="314280" cy="295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4249440" y="4651200"/>
                <a:ext cx="314280" cy="295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63880" y="4984920"/>
                <a:ext cx="7668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246560" y="4403880"/>
              <a:ext cx="0" cy="195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2400" y="5037120"/>
              <a:ext cx="0" cy="195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419800" y="4427640"/>
            <a:ext cx="765000" cy="785880"/>
            <a:chOff x="5419800" y="4427640"/>
            <a:chExt cx="765000" cy="785880"/>
          </a:xfrm>
        </p:grpSpPr>
        <p:grpSp>
          <p:nvGrpSpPr>
            <p:cNvPr id="201" name=""/>
            <p:cNvGrpSpPr/>
            <p:nvPr/>
          </p:nvGrpSpPr>
          <p:grpSpPr>
            <a:xfrm>
              <a:off x="5419800" y="4660920"/>
              <a:ext cx="765000" cy="318960"/>
              <a:chOff x="5419800" y="4660920"/>
              <a:chExt cx="765000" cy="318960"/>
            </a:xfrm>
          </p:grpSpPr>
          <p:sp>
            <p:nvSpPr>
              <p:cNvPr id="202" name=""/>
              <p:cNvSpPr/>
              <p:nvPr/>
            </p:nvSpPr>
            <p:spPr>
              <a:xfrm>
                <a:off x="5502240" y="4660920"/>
                <a:ext cx="56664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84960" y="4664160"/>
                <a:ext cx="314280" cy="277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802120" y="4664160"/>
                <a:ext cx="317160" cy="2775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19800" y="4979880"/>
                <a:ext cx="765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799240" y="44276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16520" y="5029200"/>
              <a:ext cx="0" cy="184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589040" y="5243400"/>
            <a:ext cx="2508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11360" y="5243400"/>
            <a:ext cx="17719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C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33800" y="5243400"/>
            <a:ext cx="1905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dy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402160" y="2798640"/>
            <a:ext cx="765360" cy="320760"/>
            <a:chOff x="5402160" y="2798640"/>
            <a:chExt cx="765360" cy="320760"/>
          </a:xfrm>
        </p:grpSpPr>
        <p:sp>
          <p:nvSpPr>
            <p:cNvPr id="212" name=""/>
            <p:cNvSpPr/>
            <p:nvPr/>
          </p:nvSpPr>
          <p:spPr>
            <a:xfrm flipH="1">
              <a:off x="5519520" y="3119400"/>
              <a:ext cx="56484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5786280" y="2838600"/>
              <a:ext cx="314640" cy="27936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468760" y="2838600"/>
              <a:ext cx="314640" cy="27936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402160" y="2798640"/>
              <a:ext cx="765360" cy="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 flipV="1">
            <a:off x="5816520" y="3166920"/>
            <a:ext cx="0" cy="185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799240" y="2565360"/>
            <a:ext cx="0" cy="185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965400" y="2546280"/>
            <a:ext cx="765360" cy="787320"/>
            <a:chOff x="3965400" y="2546280"/>
            <a:chExt cx="765360" cy="787320"/>
          </a:xfrm>
        </p:grpSpPr>
        <p:grpSp>
          <p:nvGrpSpPr>
            <p:cNvPr id="219" name=""/>
            <p:cNvGrpSpPr/>
            <p:nvPr/>
          </p:nvGrpSpPr>
          <p:grpSpPr>
            <a:xfrm>
              <a:off x="3965400" y="2781360"/>
              <a:ext cx="765360" cy="318960"/>
              <a:chOff x="3965400" y="2781360"/>
              <a:chExt cx="765360" cy="318960"/>
            </a:xfrm>
          </p:grpSpPr>
          <p:sp>
            <p:nvSpPr>
              <p:cNvPr id="220" name=""/>
              <p:cNvSpPr/>
              <p:nvPr/>
            </p:nvSpPr>
            <p:spPr>
              <a:xfrm flipH="1">
                <a:off x="40809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43462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40291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39654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 flipV="1">
              <a:off x="43797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3624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409840" y="2565360"/>
            <a:ext cx="766800" cy="787320"/>
            <a:chOff x="2409840" y="2565360"/>
            <a:chExt cx="766800" cy="787320"/>
          </a:xfrm>
        </p:grpSpPr>
        <p:grpSp>
          <p:nvGrpSpPr>
            <p:cNvPr id="227" name=""/>
            <p:cNvGrpSpPr/>
            <p:nvPr/>
          </p:nvGrpSpPr>
          <p:grpSpPr>
            <a:xfrm>
              <a:off x="2409840" y="2798640"/>
              <a:ext cx="766800" cy="320760"/>
              <a:chOff x="2409840" y="2798640"/>
              <a:chExt cx="766800" cy="320760"/>
            </a:xfrm>
          </p:grpSpPr>
          <p:sp>
            <p:nvSpPr>
              <p:cNvPr id="228" name=""/>
              <p:cNvSpPr/>
              <p:nvPr/>
            </p:nvSpPr>
            <p:spPr>
              <a:xfrm flipH="1">
                <a:off x="2528640" y="3119400"/>
                <a:ext cx="5634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279360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247644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09840" y="2798640"/>
                <a:ext cx="7668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V="1">
              <a:off x="2825640" y="316692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808360" y="256536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732200" y="1954080"/>
            <a:ext cx="21243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11480" y="2152800"/>
            <a:ext cx="2440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226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6404040" y="3579840"/>
            <a:ext cx="333360" cy="506520"/>
            <a:chOff x="6404040" y="3579840"/>
            <a:chExt cx="333360" cy="506520"/>
          </a:xfrm>
        </p:grpSpPr>
        <p:sp>
          <p:nvSpPr>
            <p:cNvPr id="238" name=""/>
            <p:cNvSpPr/>
            <p:nvPr/>
          </p:nvSpPr>
          <p:spPr>
            <a:xfrm flipH="1">
              <a:off x="6404040" y="357984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404040" y="366408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404040" y="374796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404040" y="383220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404040" y="391788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404040" y="400212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404040" y="4086360"/>
              <a:ext cx="333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6324480" y="3363840"/>
            <a:ext cx="22100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199240" y="3368520"/>
            <a:ext cx="165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2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&amp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358520" y="3368520"/>
            <a:ext cx="1650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65560" y="3375000"/>
            <a:ext cx="0" cy="968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79720" y="5805360"/>
            <a:ext cx="6922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6 fw, 300,000 hosts, 200 extran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27C1-8095-4473-A9E6-A496BDDF32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DF2F7-8BA0-401B-8766-E45574D4656A}" type="datetime3">
              <a:rPr lang="en-US"/>
              <a:t>July 28, 20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ucent now (sort o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76400" y="3363840"/>
            <a:ext cx="4310280" cy="1170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55720" y="2271600"/>
            <a:ext cx="25084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ent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593800" y="2546280"/>
            <a:ext cx="765360" cy="787320"/>
            <a:chOff x="2593800" y="2546280"/>
            <a:chExt cx="765360" cy="787320"/>
          </a:xfrm>
        </p:grpSpPr>
        <p:grpSp>
          <p:nvGrpSpPr>
            <p:cNvPr id="254" name=""/>
            <p:cNvGrpSpPr/>
            <p:nvPr/>
          </p:nvGrpSpPr>
          <p:grpSpPr>
            <a:xfrm>
              <a:off x="2593800" y="2781360"/>
              <a:ext cx="765360" cy="318960"/>
              <a:chOff x="2593800" y="2781360"/>
              <a:chExt cx="765360" cy="318960"/>
            </a:xfrm>
          </p:grpSpPr>
          <p:sp>
            <p:nvSpPr>
              <p:cNvPr id="255" name=""/>
              <p:cNvSpPr/>
              <p:nvPr/>
            </p:nvSpPr>
            <p:spPr>
              <a:xfrm flipH="1">
                <a:off x="27093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flipV="1">
                <a:off x="29746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26575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25938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flipV="1">
              <a:off x="30081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9908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724040" y="2565360"/>
            <a:ext cx="766800" cy="787320"/>
            <a:chOff x="1724040" y="2565360"/>
            <a:chExt cx="766800" cy="787320"/>
          </a:xfrm>
        </p:grpSpPr>
        <p:grpSp>
          <p:nvGrpSpPr>
            <p:cNvPr id="262" name=""/>
            <p:cNvGrpSpPr/>
            <p:nvPr/>
          </p:nvGrpSpPr>
          <p:grpSpPr>
            <a:xfrm>
              <a:off x="1724040" y="2798640"/>
              <a:ext cx="766800" cy="320760"/>
              <a:chOff x="1724040" y="2798640"/>
              <a:chExt cx="766800" cy="320760"/>
            </a:xfrm>
          </p:grpSpPr>
          <p:sp>
            <p:nvSpPr>
              <p:cNvPr id="263" name=""/>
              <p:cNvSpPr/>
              <p:nvPr/>
            </p:nvSpPr>
            <p:spPr>
              <a:xfrm flipH="1">
                <a:off x="1842840" y="3119400"/>
                <a:ext cx="5634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flipV="1">
                <a:off x="210780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1790640" y="283860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724040" y="2798640"/>
                <a:ext cx="7668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V="1">
              <a:off x="2139840" y="316692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122560" y="256536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817800" y="1878120"/>
            <a:ext cx="21243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39880" y="1847880"/>
            <a:ext cx="2440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um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36800" y="2152800"/>
            <a:ext cx="2092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lm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327720" y="3579840"/>
            <a:ext cx="409680" cy="506520"/>
            <a:chOff x="6327720" y="3579840"/>
            <a:chExt cx="409680" cy="506520"/>
          </a:xfrm>
        </p:grpSpPr>
        <p:sp>
          <p:nvSpPr>
            <p:cNvPr id="273" name=""/>
            <p:cNvSpPr/>
            <p:nvPr/>
          </p:nvSpPr>
          <p:spPr>
            <a:xfrm flipH="1">
              <a:off x="6327720" y="357984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327720" y="366408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327720" y="374796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327720" y="383220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327720" y="391788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7720" y="400212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7720" y="4086360"/>
              <a:ext cx="4096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324480" y="3363840"/>
            <a:ext cx="22100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05120" y="3444840"/>
            <a:ext cx="4419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cent - 130,000, 266K addrs, 3000 nets an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08200" y="2546280"/>
            <a:ext cx="765360" cy="787320"/>
            <a:chOff x="3508200" y="2546280"/>
            <a:chExt cx="765360" cy="787320"/>
          </a:xfrm>
        </p:grpSpPr>
        <p:grpSp>
          <p:nvGrpSpPr>
            <p:cNvPr id="283" name=""/>
            <p:cNvGrpSpPr/>
            <p:nvPr/>
          </p:nvGrpSpPr>
          <p:grpSpPr>
            <a:xfrm>
              <a:off x="3508200" y="2781360"/>
              <a:ext cx="765360" cy="318960"/>
              <a:chOff x="3508200" y="2781360"/>
              <a:chExt cx="765360" cy="318960"/>
            </a:xfrm>
          </p:grpSpPr>
          <p:sp>
            <p:nvSpPr>
              <p:cNvPr id="284" name=""/>
              <p:cNvSpPr/>
              <p:nvPr/>
            </p:nvSpPr>
            <p:spPr>
              <a:xfrm flipH="1">
                <a:off x="36237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38890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35719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35082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 flipV="1">
              <a:off x="39225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9052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422600" y="2546280"/>
            <a:ext cx="765360" cy="787320"/>
            <a:chOff x="4422600" y="2546280"/>
            <a:chExt cx="765360" cy="787320"/>
          </a:xfrm>
        </p:grpSpPr>
        <p:grpSp>
          <p:nvGrpSpPr>
            <p:cNvPr id="291" name=""/>
            <p:cNvGrpSpPr/>
            <p:nvPr/>
          </p:nvGrpSpPr>
          <p:grpSpPr>
            <a:xfrm>
              <a:off x="4422600" y="2781360"/>
              <a:ext cx="765360" cy="318960"/>
              <a:chOff x="4422600" y="2781360"/>
              <a:chExt cx="765360" cy="31896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45381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 flipV="1">
                <a:off x="48034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44863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44226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flipV="1">
              <a:off x="48369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8196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337000" y="2546280"/>
            <a:ext cx="765360" cy="787320"/>
            <a:chOff x="5337000" y="2546280"/>
            <a:chExt cx="765360" cy="787320"/>
          </a:xfrm>
        </p:grpSpPr>
        <p:grpSp>
          <p:nvGrpSpPr>
            <p:cNvPr id="299" name=""/>
            <p:cNvGrpSpPr/>
            <p:nvPr/>
          </p:nvGrpSpPr>
          <p:grpSpPr>
            <a:xfrm>
              <a:off x="5337000" y="2781360"/>
              <a:ext cx="765360" cy="318960"/>
              <a:chOff x="5337000" y="2781360"/>
              <a:chExt cx="765360" cy="318960"/>
            </a:xfrm>
          </p:grpSpPr>
          <p:sp>
            <p:nvSpPr>
              <p:cNvPr id="300" name=""/>
              <p:cNvSpPr/>
              <p:nvPr/>
            </p:nvSpPr>
            <p:spPr>
              <a:xfrm flipH="1">
                <a:off x="5452560" y="3100320"/>
                <a:ext cx="56700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571788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5400720" y="2819520"/>
                <a:ext cx="314280" cy="27936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5337000" y="2781360"/>
                <a:ext cx="76536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751360" y="314784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734080" y="2546280"/>
              <a:ext cx="0" cy="185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4656240" y="1878120"/>
            <a:ext cx="2124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636640" y="1265400"/>
            <a:ext cx="2510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87240" y="5227560"/>
            <a:ext cx="471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~200 business part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35200" y="4998960"/>
            <a:ext cx="3074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ousand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elecommu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593800" y="4575240"/>
            <a:ext cx="301680" cy="4539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61040" y="4575240"/>
            <a:ext cx="1139760" cy="68256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B0A-779A-400F-AAAB-213A695FAF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0D986-9CEC-4BDB-BB55-9D55D2AA0C37}" type="datetime3">
              <a:rPr lang="en-US"/>
              <a:t>July 28, 20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mote Attacks are Eas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acks can be laundered through many hosts around the wor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anonym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eas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verage defender is cluel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eback can be very h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ueless IS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gnorant law enfor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aties with foreign count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not be against the local la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acker may cease attack before traceback is comple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381-A271-4EB9-882B-5C32413E049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4B016-5D84-445A-8E1E-B1BC28C228D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oculture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set of target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planting Kansas with a single strain of wheat, or vineyards with a single root st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ers develop attack software for the rest of 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A183-C08D-4B2A-AD2A-AB74D0D8597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DF531-5202-47EA-BE5F-A1029084A23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orly writ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or aud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nd in most h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r services and protocols are r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ndors sell flawed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s don’t fix h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st-ba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curity is usually bro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requires discipline: not found in market lead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D5B4-480A-43B5-B6CE-ED8C5D5A838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75E53-38E4-48CA-A27D-5D68B30835B4}" type="datetime3">
              <a:rPr lang="en-US"/>
              <a:t>July 28, 20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Typical Erro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hecked user input submitted to the shell or Per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dcard and escape characters take over th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GI scrip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string length is not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buffer overrun corrupts st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cpy, gets, sprint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r supplies assembly code, and jumps to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ger (Morris worm), early Netscape, statd (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 options, commands, or back do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BUG and others in sendmai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957-219B-4551-A8DD-481E45BBBF7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8744FD-4844-4F54-BCA6-87E0B456913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vileged programs are much too lar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mail is tens of thousands of lines of complex code, running a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o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cape browser/communicator is hu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s are hu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are never retired, only ad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hort, simple program is hard to ge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2187-26C8-42EC-94C6-CB9BB96900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FE466-2C0A-4F2C-A7DE-692C3BB4920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8400" y="190512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1360" y="1854360"/>
            <a:ext cx="253980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1360" y="2448000"/>
            <a:ext cx="253980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1360" y="3683160"/>
            <a:ext cx="2539800" cy="634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21840" y="259092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42400" y="32004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28680" y="373392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664240" y="1854360"/>
            <a:ext cx="2539800" cy="2463480"/>
            <a:chOff x="5664240" y="1854360"/>
            <a:chExt cx="2539800" cy="2463480"/>
          </a:xfrm>
        </p:grpSpPr>
        <p:sp>
          <p:nvSpPr>
            <p:cNvPr id="55" name=""/>
            <p:cNvSpPr/>
            <p:nvPr/>
          </p:nvSpPr>
          <p:spPr>
            <a:xfrm>
              <a:off x="5741280" y="190512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64240" y="185436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664240" y="244800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64240" y="368316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4720" y="259092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695280" y="320040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81560" y="373392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30520" y="48261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61200" y="49528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54120" y="12193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42120" y="12952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C38-FD49-4DD8-9DD1-3FC21EBB7A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3BD2A-4631-40FA-A708-9B856370CAB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safe Protocol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words transmitted in the 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/response is better, though subject to dictionary atta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KE can hide 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ne generated passwords are better, but require devices or printou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-based 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OK in controlled environ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 and routing attacks can fool the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B900-47D4-44BE-A655-181393FD7DB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28C1C-F33A-47CE-981E-1B3C79582F8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akest Link Compromis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targ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nerabilities are common in network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break-in compromi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t of the ho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st’s net (via sniffe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sting h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vital” targets may be v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D246-87E5-4F0D-9A93-CB54100A522A}" type="slidenum">
              <a:t>2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2FB1B-2160-4816-AD23-9E9A2EB5290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safe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28C-14CE-44DD-864E-7D9EDA7EF8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EBEBA-F7EC-476C-A1C0-4C9B11058F8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113-84F1-4EE0-973E-A7DE195CAC3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E46D2-8F9A-46F0-8901-B8F5B8D3FDE5}" type="datetime3">
              <a:rPr lang="en-US"/>
              <a:t>July 28, 20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31240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943600" y="32767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3600" y="342900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943600" y="358128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3733920"/>
            <a:ext cx="685800" cy="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267080" y="3733560"/>
            <a:ext cx="1676520" cy="16002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6E1-C75E-42F1-9332-5B6A86F6A56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229B0-75C9-40FB-ACC6-CFC89ACA7031}" type="datetime3">
              <a:rPr lang="en-US"/>
              <a:t>July 28, 20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467000" y="1741320"/>
            <a:ext cx="65340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tp     stream  tcp     nowait  root    /v/gate/ft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telnet  stream  tcp     nowait  root    /usr/etc/telne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hell   stream  tcp     nowait  root    /usr/etc/rsh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login   stream  tcp     nowait  root    /usr/etc/rlogi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xec    stream  tcp     nowait  root    /usr/etc/rexec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finger  stream  tcp     nowait  guest   /usr/etc/fing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bootp   dgram   udp     wait    root    /usr/etc/boot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tftp    dgram   udp     wait    guest   /usr/etc/tft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talk   dgram   udp     wait    root    /usr/etc/talk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stream  tcp     nowait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echo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discard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chargen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daytime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ime    dgram   udp     wait    root    in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-dgl stream  tcp     nowait  root/rcv dg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uucp   stream  tcp      nowait  root    /usr/lib/uucp/uuc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ault service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GI works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5E9-2230-409B-A281-767D528F34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A80AC-B854-4884-B83F-759DB166735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re default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9920" y="1909800"/>
            <a:ext cx="754596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stream 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mountd/1    dgram 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stream rpc/tc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mountd/1 dgram  rpc/udp wait/lc    root    rpc.moun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statd/1-3  dgram   rpc/udp wait       root    rpc.rstat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walld/1     dgram   rpc/udp wait       root    rpc.rwal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usersd/1   dgram   rpc/udp wait       root    rpc.ruser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rquotad/1   dgram   rpc/udp wait       root    rpc.rquot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prayd/1    dgram   rpc/udp wait       root    rpc.spray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bootparam/1 dgram   rpc/udp wait       root    rpc.bootpara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videod/1 stream rpc/tcp wait       root    ?video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fam/1   stream  rpc/tcp wait       root    ?fam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snoopd/1 stream rpc/tcp wait       root    ?rpc.snoop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csd/1  dgram   rpc/udp wait       root    ?cvpcs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sgi_pod/1   stream  rpc/tcp wait       root    ?podd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scanner stream tcp nowait   root    ?scan/net/scanne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tcpmux/sgi_printer stream tcp nowait   root    ?print/printe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urier New"/>
              </a:rPr>
              <a:t>9fs         stream  tcp     nowait     root    /v/bin/u9fs u9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Courier New"/>
              </a:rPr>
              <a:t>webproxy    stream  tcp     nowait     root    /usr/local/etc/webse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B2CB-8F19-4B29-B21F-B0A11D11F91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0E9A0-13C0-4619-BE45-1C657A6DFEC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ngerous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” R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login/rsh/rc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web serve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C9A-0F6E-426B-A95B-2C5B2D9A6BD5}" type="slidenum">
              <a:t>2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61EAD-261A-4BB6-862D-282971A783A7}" type="datetime3">
              <a:rPr lang="en-US"/>
              <a:t>July 28, 20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ln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leaks pass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to hija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leaks passwo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to hija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s in ser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handle gives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R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-ba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fool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e R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ographically w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2DD-E6E9-40E8-9096-2613BFF4CBBA}" type="slidenum">
              <a:t>2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51939-E66D-45A1-9703-94624F6DD46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y are they insecur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login, rsh, rc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ed-based 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ject to hijac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text leaks secr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l can be taken 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al keystrok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 wrong answ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ack address-based 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 ser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ten bug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set up saf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GI scripts danger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9ED-C3DC-4FF1-A7A6-EE8BDF49FDAB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671AA-4007-44F1-8886-44F96796B16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8400" y="1905120"/>
            <a:ext cx="238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1360" y="1854360"/>
            <a:ext cx="2539800" cy="24634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1360" y="2448000"/>
            <a:ext cx="2539800" cy="635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1360" y="3683160"/>
            <a:ext cx="2539800" cy="6346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21840" y="2590920"/>
            <a:ext cx="151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/U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42400" y="320040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28680" y="3733920"/>
            <a:ext cx="150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664240" y="1854360"/>
            <a:ext cx="2539800" cy="2463480"/>
            <a:chOff x="5664240" y="1854360"/>
            <a:chExt cx="2539800" cy="2463480"/>
          </a:xfrm>
        </p:grpSpPr>
        <p:sp>
          <p:nvSpPr>
            <p:cNvPr id="77" name=""/>
            <p:cNvSpPr/>
            <p:nvPr/>
          </p:nvSpPr>
          <p:spPr>
            <a:xfrm>
              <a:off x="5741280" y="1905120"/>
              <a:ext cx="238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4240" y="1854360"/>
              <a:ext cx="2539800" cy="2463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64240" y="2448000"/>
              <a:ext cx="2539800" cy="6350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64240" y="3683160"/>
              <a:ext cx="2539800" cy="6346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74720" y="2590920"/>
              <a:ext cx="1519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95280" y="3200400"/>
              <a:ext cx="473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81560" y="3733920"/>
              <a:ext cx="150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2057400" y="4343400"/>
            <a:ext cx="144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029200" y="4343400"/>
            <a:ext cx="1371600" cy="83808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30520" y="4826160"/>
            <a:ext cx="1473120" cy="6346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61200" y="4952880"/>
            <a:ext cx="1219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54120" y="1219320"/>
            <a:ext cx="962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42120" y="1295280"/>
            <a:ext cx="108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1040" y="2446200"/>
            <a:ext cx="5369040" cy="2702160"/>
          </a:xfrm>
          <a:custGeom>
            <a:avLst/>
            <a:gdLst/>
            <a:ahLst/>
            <a:rect l="l" t="t" r="r" b="b"/>
            <a:pathLst>
              <a:path w="3382" h="1702">
                <a:moveTo>
                  <a:pt x="128" y="0"/>
                </a:moveTo>
                <a:cubicBezTo>
                  <a:pt x="149" y="236"/>
                  <a:pt x="0" y="1142"/>
                  <a:pt x="252" y="1417"/>
                </a:cubicBezTo>
                <a:cubicBezTo>
                  <a:pt x="504" y="1692"/>
                  <a:pt x="1164" y="1649"/>
                  <a:pt x="1641" y="1651"/>
                </a:cubicBezTo>
                <a:cubicBezTo>
                  <a:pt x="2118" y="1653"/>
                  <a:pt x="2852" y="1702"/>
                  <a:pt x="3117" y="1427"/>
                </a:cubicBezTo>
                <a:cubicBezTo>
                  <a:pt x="3382" y="1152"/>
                  <a:pt x="3207" y="297"/>
                  <a:pt x="3231" y="0"/>
                </a:cubicBezTo>
              </a:path>
            </a:pathLst>
          </a:custGeom>
          <a:noFill/>
          <a:ln w="88920">
            <a:solidFill>
              <a:srgbClr val="0000ff"/>
            </a:solidFill>
            <a:round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672-DE18-4B7D-8B2E-53D7CFF1D2E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7EE332-D97B-478D-8CE9-E59774E069B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w Do They Find Dangerous Port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 scan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wr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lf-open (SYN-only) scanners often don’t show up in lo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er to scan for UDP services, but not by mu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22F-258C-4D6A-A938-16270736DE7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57FFC-9738-4A76-80DD-610CA73E9A4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afer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rberized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enticated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get/cp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/unst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ser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sc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Mar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3C9-B6F8-42F8-BC44-5F79FEA9A8E0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A9E96-4041-4CC7-96B8-DFCF8CDFBF61}" type="datetime3">
              <a:rPr lang="en-US"/>
              <a:t>July 28, 20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Stack Smashing Attack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BAD-B1ED-4406-840E-BA5F6DD700B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E2A2CD-67E5-4CD9-8DDA-28CF51BC019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s don’t check their inpu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es lik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rcp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rintf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are inherently danger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input length is too long, it can overwrite memory in C, overwriting variables and subroutine return addre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piece of external data must be checked before it is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doesn’t hurt to check internal stuff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ert.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PU time is che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F39-63DD-4D8F-A1E3-A7C948FC1B6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87DED-749C-4A6C-B07A-622E1FD1D8F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133720" y="1600200"/>
            <a:ext cx="1981080" cy="1600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20640" y="205740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before a procedure cal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7BF-8550-407B-8A48-566339055EC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7975F-8044-400F-A92A-CABFD23FB33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84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36680" y="3240000"/>
            <a:ext cx="30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o go aft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 is fin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4190760" y="342900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897-2F83-481A-AD30-80482C147B2D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CDCB1-8BF3-44B8-8898-BCF8C0A4F92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397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956840" y="449568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line goes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206600" y="4684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270-5743-4714-8CF1-25D6412EA9E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4326D-4C15-4EB0-9A35-A5626774DF7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410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tack: while a procedure is runn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956840" y="449568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line goes in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206600" y="4684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4648320"/>
            <a:ext cx="1981080" cy="3808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75A-DDF4-4D8E-AC98-B2D351DCEE6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867FC-F3AE-4A57-808D-5E8EB76D804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424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ck smashing” at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33720" y="1905120"/>
            <a:ext cx="1981080" cy="31240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5760" y="3352680"/>
            <a:ext cx="382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return address,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206600" y="354168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03F-8EA8-4223-A5FA-10C17218F6E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AEE06-2352-4566-9641-E44F78671D2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2133720" y="1600200"/>
            <a:ext cx="1981080" cy="4191120"/>
            <a:chOff x="2133720" y="1600200"/>
            <a:chExt cx="1981080" cy="4191120"/>
          </a:xfrm>
        </p:grpSpPr>
        <p:sp>
          <p:nvSpPr>
            <p:cNvPr id="438" name=""/>
            <p:cNvSpPr/>
            <p:nvPr/>
          </p:nvSpPr>
          <p:spPr>
            <a:xfrm>
              <a:off x="2133720" y="1600200"/>
              <a:ext cx="1981080" cy="160020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33720" y="3200400"/>
              <a:ext cx="1981080" cy="60948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133720" y="3809880"/>
              <a:ext cx="1981080" cy="1981440"/>
            </a:xfrm>
            <a:prstGeom prst="rect">
              <a:avLst/>
            </a:prstGeom>
            <a:noFill/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36320" y="324000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turn add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33720" y="4419720"/>
              <a:ext cx="198108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11120" y="4459320"/>
              <a:ext cx="184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ng buff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02560" y="384984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44320" y="51451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v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67960" y="2057400"/>
              <a:ext cx="944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ck smashing” att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33720" y="1905120"/>
            <a:ext cx="1981080" cy="312408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4320" y="2133720"/>
            <a:ext cx="355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de load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pace on the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206600" y="2322360"/>
            <a:ext cx="609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03480" y="3581280"/>
            <a:ext cx="35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runs with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ileges of the atta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usuall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190-B4D3-4342-A4BF-7CA60B39424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C30A2-9E67-479F-9DB9-7E7F6BB8373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Internet Basic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net communic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5800" y="1219320"/>
            <a:ext cx="1571760" cy="1448640"/>
            <a:chOff x="685800" y="1219320"/>
            <a:chExt cx="1571760" cy="1448640"/>
          </a:xfrm>
        </p:grpSpPr>
        <p:sp>
          <p:nvSpPr>
            <p:cNvPr id="93" name=""/>
            <p:cNvSpPr/>
            <p:nvPr/>
          </p:nvSpPr>
          <p:spPr>
            <a:xfrm>
              <a:off x="833040" y="152388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5800" y="1515960"/>
              <a:ext cx="157176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" y="1793880"/>
              <a:ext cx="157176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5800" y="2370240"/>
              <a:ext cx="157176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000" y="182880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9456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8892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86200" y="1219320"/>
              <a:ext cx="64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24280" y="1752480"/>
            <a:ext cx="1571400" cy="915480"/>
            <a:chOff x="4724280" y="1752480"/>
            <a:chExt cx="1571400" cy="915480"/>
          </a:xfrm>
        </p:grpSpPr>
        <p:sp>
          <p:nvSpPr>
            <p:cNvPr id="102" name=""/>
            <p:cNvSpPr/>
            <p:nvPr/>
          </p:nvSpPr>
          <p:spPr>
            <a:xfrm>
              <a:off x="472428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2428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304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2704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7932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743200" y="1752480"/>
            <a:ext cx="1571400" cy="915480"/>
            <a:chOff x="2743200" y="1752480"/>
            <a:chExt cx="1571400" cy="915480"/>
          </a:xfrm>
        </p:grpSpPr>
        <p:sp>
          <p:nvSpPr>
            <p:cNvPr id="108" name=""/>
            <p:cNvSpPr/>
            <p:nvPr/>
          </p:nvSpPr>
          <p:spPr>
            <a:xfrm>
              <a:off x="274320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320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5196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596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9824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1752480"/>
            <a:ext cx="1571400" cy="915480"/>
            <a:chOff x="6553080" y="1752480"/>
            <a:chExt cx="1571400" cy="915480"/>
          </a:xfrm>
        </p:grpSpPr>
        <p:sp>
          <p:nvSpPr>
            <p:cNvPr id="114" name=""/>
            <p:cNvSpPr/>
            <p:nvPr/>
          </p:nvSpPr>
          <p:spPr>
            <a:xfrm>
              <a:off x="6553080" y="205740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237024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61840" y="205740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55840" y="236232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8120" y="175248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800600" y="3657600"/>
            <a:ext cx="1571400" cy="915480"/>
            <a:chOff x="4800600" y="3657600"/>
            <a:chExt cx="1571400" cy="915480"/>
          </a:xfrm>
        </p:grpSpPr>
        <p:sp>
          <p:nvSpPr>
            <p:cNvPr id="120" name=""/>
            <p:cNvSpPr/>
            <p:nvPr/>
          </p:nvSpPr>
          <p:spPr>
            <a:xfrm>
              <a:off x="4800600" y="396252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0600" y="427536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09360" y="396252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03360" y="426744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5640" y="365760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971800" y="3657600"/>
            <a:ext cx="1571400" cy="915480"/>
            <a:chOff x="2971800" y="3657600"/>
            <a:chExt cx="1571400" cy="915480"/>
          </a:xfrm>
        </p:grpSpPr>
        <p:sp>
          <p:nvSpPr>
            <p:cNvPr id="126" name=""/>
            <p:cNvSpPr/>
            <p:nvPr/>
          </p:nvSpPr>
          <p:spPr>
            <a:xfrm>
              <a:off x="2971800" y="3962520"/>
              <a:ext cx="1571400" cy="60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427536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0560" y="396252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74560" y="426744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26840" y="3657600"/>
              <a:ext cx="720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705720" y="3124080"/>
            <a:ext cx="1571400" cy="1448640"/>
            <a:chOff x="6705720" y="3124080"/>
            <a:chExt cx="1571400" cy="1448640"/>
          </a:xfrm>
        </p:grpSpPr>
        <p:sp>
          <p:nvSpPr>
            <p:cNvPr id="132" name=""/>
            <p:cNvSpPr/>
            <p:nvPr/>
          </p:nvSpPr>
          <p:spPr>
            <a:xfrm>
              <a:off x="6852600" y="3428640"/>
              <a:ext cx="1289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05720" y="3420720"/>
              <a:ext cx="1571400" cy="11509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05720" y="3698640"/>
              <a:ext cx="1571400" cy="297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705720" y="4275000"/>
              <a:ext cx="1571400" cy="2966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9560" y="3733560"/>
              <a:ext cx="853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13760" y="3962160"/>
              <a:ext cx="3542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8480" y="4267080"/>
              <a:ext cx="95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71200" y="3124080"/>
              <a:ext cx="711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371600" y="1752480"/>
            <a:ext cx="7007400" cy="3149640"/>
          </a:xfrm>
          <a:custGeom>
            <a:avLst/>
            <a:gdLst/>
            <a:ahLst/>
            <a:rect l="l" t="t" r="r" b="b"/>
            <a:pathLst>
              <a:path w="4414" h="1984">
                <a:moveTo>
                  <a:pt x="0" y="0"/>
                </a:moveTo>
                <a:cubicBezTo>
                  <a:pt x="66" y="109"/>
                  <a:pt x="235" y="545"/>
                  <a:pt x="398" y="654"/>
                </a:cubicBezTo>
                <a:cubicBezTo>
                  <a:pt x="561" y="763"/>
                  <a:pt x="820" y="716"/>
                  <a:pt x="977" y="654"/>
                </a:cubicBezTo>
                <a:cubicBezTo>
                  <a:pt x="1134" y="592"/>
                  <a:pt x="1213" y="282"/>
                  <a:pt x="1339" y="282"/>
                </a:cubicBezTo>
                <a:cubicBezTo>
                  <a:pt x="1465" y="282"/>
                  <a:pt x="1584" y="592"/>
                  <a:pt x="1732" y="654"/>
                </a:cubicBezTo>
                <a:cubicBezTo>
                  <a:pt x="1880" y="716"/>
                  <a:pt x="2086" y="715"/>
                  <a:pt x="2229" y="654"/>
                </a:cubicBezTo>
                <a:cubicBezTo>
                  <a:pt x="2372" y="593"/>
                  <a:pt x="2468" y="290"/>
                  <a:pt x="2592" y="288"/>
                </a:cubicBezTo>
                <a:cubicBezTo>
                  <a:pt x="2716" y="286"/>
                  <a:pt x="2845" y="585"/>
                  <a:pt x="2974" y="644"/>
                </a:cubicBezTo>
                <a:cubicBezTo>
                  <a:pt x="3103" y="703"/>
                  <a:pt x="3239" y="703"/>
                  <a:pt x="3367" y="644"/>
                </a:cubicBezTo>
                <a:cubicBezTo>
                  <a:pt x="3495" y="585"/>
                  <a:pt x="3646" y="276"/>
                  <a:pt x="3744" y="288"/>
                </a:cubicBezTo>
                <a:cubicBezTo>
                  <a:pt x="3842" y="300"/>
                  <a:pt x="4414" y="567"/>
                  <a:pt x="3956" y="716"/>
                </a:cubicBezTo>
                <a:cubicBezTo>
                  <a:pt x="3498" y="865"/>
                  <a:pt x="1487" y="987"/>
                  <a:pt x="998" y="1182"/>
                </a:cubicBezTo>
                <a:cubicBezTo>
                  <a:pt x="509" y="1377"/>
                  <a:pt x="937" y="1834"/>
                  <a:pt x="1019" y="1885"/>
                </a:cubicBezTo>
                <a:cubicBezTo>
                  <a:pt x="1101" y="1936"/>
                  <a:pt x="1347" y="1493"/>
                  <a:pt x="1488" y="1488"/>
                </a:cubicBezTo>
                <a:cubicBezTo>
                  <a:pt x="1629" y="1483"/>
                  <a:pt x="1735" y="1793"/>
                  <a:pt x="1867" y="1854"/>
                </a:cubicBezTo>
                <a:cubicBezTo>
                  <a:pt x="1999" y="1915"/>
                  <a:pt x="2152" y="1923"/>
                  <a:pt x="2281" y="1854"/>
                </a:cubicBezTo>
                <a:cubicBezTo>
                  <a:pt x="2410" y="1785"/>
                  <a:pt x="2513" y="1440"/>
                  <a:pt x="2640" y="1440"/>
                </a:cubicBezTo>
                <a:cubicBezTo>
                  <a:pt x="2767" y="1440"/>
                  <a:pt x="2914" y="1782"/>
                  <a:pt x="3046" y="1854"/>
                </a:cubicBezTo>
                <a:cubicBezTo>
                  <a:pt x="3178" y="1926"/>
                  <a:pt x="3305" y="1984"/>
                  <a:pt x="3429" y="1875"/>
                </a:cubicBezTo>
                <a:cubicBezTo>
                  <a:pt x="3553" y="1766"/>
                  <a:pt x="3717" y="1341"/>
                  <a:pt x="3792" y="12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395-FF40-43FC-A6DB-A2493B92DE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1FB65-508B-4727-934D-284CAEFFD32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former victims of stack-smashing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gerd (Morris wor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log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tat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Netscape brow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ly: file names in attachments to 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hd scare of two weeks a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6A7-9AB3-4F96-8E04-E68BC9D0DD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9AD271-351D-4BFE-96E4-1A3DFE4D5E4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table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897-2B66-4220-857F-74AB22A779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D0B16-7F8A-484C-86BD-2E19C2902D6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ngerous service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rtable pro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X^H^H^H^H^H^H^HCOM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162-DB7A-4253-8510-B8362BE84CC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A0285-3362-4FA8-BC7A-5AD2B311F26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re do Programs Run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616120" y="1778040"/>
            <a:ext cx="3835440" cy="3682800"/>
            <a:chOff x="2616120" y="1778040"/>
            <a:chExt cx="3835440" cy="3682800"/>
          </a:xfrm>
        </p:grpSpPr>
        <p:sp>
          <p:nvSpPr>
            <p:cNvPr id="460" name=""/>
            <p:cNvSpPr/>
            <p:nvPr/>
          </p:nvSpPr>
          <p:spPr>
            <a:xfrm>
              <a:off x="3530520" y="2616120"/>
              <a:ext cx="2082960" cy="20066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16120" y="1778040"/>
              <a:ext cx="3835440" cy="36828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3230640"/>
              <a:ext cx="1567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30160" y="1935000"/>
              <a:ext cx="1934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E69-7335-4A0B-B462-058BB2AB32E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43668-3B7D-415B-B34E-08417A41D1F5}" type="datetime3">
              <a:rPr lang="en-US"/>
              <a:t>July 28, 20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re do Programs Run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616120" y="1778040"/>
            <a:ext cx="3835440" cy="3682800"/>
            <a:chOff x="2616120" y="1778040"/>
            <a:chExt cx="3835440" cy="3682800"/>
          </a:xfrm>
        </p:grpSpPr>
        <p:sp>
          <p:nvSpPr>
            <p:cNvPr id="467" name=""/>
            <p:cNvSpPr/>
            <p:nvPr/>
          </p:nvSpPr>
          <p:spPr>
            <a:xfrm>
              <a:off x="3530520" y="2616120"/>
              <a:ext cx="2082960" cy="200664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16120" y="1778040"/>
              <a:ext cx="3835440" cy="368280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03880" y="1965240"/>
              <a:ext cx="1233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90800" y="3230640"/>
              <a:ext cx="15674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Kernel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30160" y="1935000"/>
              <a:ext cx="193464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Progra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458440" y="5532480"/>
            <a:ext cx="4249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90e0a"/>
                </a:solidFill>
                <a:latin typeface="Arial"/>
              </a:rPr>
              <a:t>This model is wro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34B2-4E23-418E-A6C7-4284CE569C2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DB7BE-C3A2-45B5-BB69-6912FB63D1DE}" type="datetime3">
              <a:rPr lang="en-US"/>
              <a:t>July 28, 20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ets run in an incompletely-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fined environ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355760" y="1812960"/>
            <a:ext cx="12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30520" y="2616120"/>
            <a:ext cx="2082960" cy="20066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616120" y="1778040"/>
            <a:ext cx="3835440" cy="36828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03880" y="1965240"/>
            <a:ext cx="12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790800" y="1935000"/>
            <a:ext cx="1567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06480" y="3306600"/>
            <a:ext cx="193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CA6C-41A0-4D32-B298-E863FDE2B9A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70968-40BA-4C80-86C7-BFDBAAD8D0A1}" type="datetime3">
              <a:rPr lang="en-US"/>
              <a:t>July 28, 20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ava’s “sandbox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incompletely d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different for each vend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ten optimized for speed, not secu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“native methods”, which can break the security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 Java, but no sandbox at al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4CA-830E-473E-934A-5D8ED242547C}" type="slidenum">
              <a:t>4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B3540F-33E0-4810-A96C-65D2834CF2F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niffing atta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“eavesdropping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949-822D-4857-A68C-BAF58EB816B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A0707-DBD2-4333-B4C2-A41D1EF59D6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267080" y="2973240"/>
            <a:ext cx="0" cy="236088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CAF-8CE5-421E-95CF-DEDC6C55C596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A412E-C428-4B58-BEC3-82B3C2DBF4FB}" type="datetime3">
              <a:rPr lang="en-US"/>
              <a:t>July 28, 20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thernet and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s never secure from eavesdro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niffing” tools are comm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b host name, user name, and passwo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 any hacker coll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card numbers are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 1,000,000 captured in 199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t doesn’t matter how good your password is if it can be sniffed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 in wide use - even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AFD-170C-47E2-8D12-A4495563CF09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3B5AE-C949-4029-86D5-0C80F8A8518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ks to a host with some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TP, POP3, IMAP (mai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net, rlogin (log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 (web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S (name servi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P, BGP4, OSPF (rou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S, SMB (network file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one can invent a new protocol between two hos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44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EC8-C5AF-4953-9640-C4EA288F95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08EF3-0B21-4344-A72F-65729BAE8C0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rdware tokens are one solution to sniffed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965160" y="1336680"/>
            <a:ext cx="2165400" cy="36226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95400" y="5257800"/>
            <a:ext cx="3867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gital Pathway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NK-00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-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/K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or printout 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ot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proprietary server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F3C-7A2D-491F-A468-2BC09830FA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55916-E4E9-4B6F-ACE8-39066D5F161B}" type="datetime3">
              <a:rPr lang="en-US"/>
              <a:t>July 28, 20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e-time Password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81120" y="1881360"/>
            <a:ext cx="6496200" cy="39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/os (in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ation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response code for 70202: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4432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?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725-7B51-4E88-B735-CFA53FBA3CFD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3E5A5-5E34-4C76-9A36-6819D78078BF}" type="datetime3">
              <a:rPr lang="en-US"/>
              <a:t>July 28, 20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Spoof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usted ho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686-DDFD-458A-8B5D-5164B9458B8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40B8C-D7C6-4D80-8D2B-08EB8D69F92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eats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ddress-based authent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.e. rlogin, rsh, tcp 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tools available to the hack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don’t have to be TCP/IP expe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s used to crack Tsutomu Shimomura’s machines in “Takedown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ert Morris Jr. wrote a paper on this in 198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ve Bellovin republished it in 198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known use in 199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2DF-0183-4A38-8C55-88609DB5B04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B2E2D-14F2-4BCE-A677-1897CBFD377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connection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itial SYN packe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166-632D-403A-BB3C-5F250F002B9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F87A6-3B42-415C-B779-1360848C448C}" type="datetime3">
              <a:rPr lang="en-US"/>
              <a:t>July 28, 20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e to Open, connection is “half open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48F8-4F20-4B95-A631-9541F0026913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5043B-54BC-48EF-AF1D-412B965E1EA8}" type="datetime3">
              <a:rPr lang="en-US"/>
              <a:t>July 28, 20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ent completes handshake, TCP connection is now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513520" y="364176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2F8-2E15-422A-BFC6-4E7E5480565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B5E5E-4ABC-43CD-AA42-F79ABF64C7C8}" type="datetime3">
              <a:rPr lang="en-US"/>
              <a:t>July 28, 20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termine Likely </a:t>
            </a:r>
            <a:r>
              <a:rPr b="1" lang="en-US" sz="2600" spc="-1" strike="noStrike">
                <a:solidFill>
                  <a:srgbClr val="3333ff"/>
                </a:solidFill>
                <a:latin typeface="Arial"/>
              </a:rPr>
              <a:t>SEQ</a:t>
            </a:r>
            <a:r>
              <a:rPr b="1" lang="en-US" sz="26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419720" y="2971800"/>
            <a:ext cx="2209680" cy="23623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724280" y="3276360"/>
            <a:ext cx="1905120" cy="20574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029200" y="3580920"/>
            <a:ext cx="1600200" cy="175284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334120" y="3886200"/>
            <a:ext cx="1295280" cy="14479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562720" y="4191120"/>
            <a:ext cx="1066680" cy="121896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DF75-6037-4CA7-B97A-C8074101C5F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0AEFC-B6F1-48E3-A037-8D46FD1ED9D0}" type="datetime3">
              <a:rPr lang="en-US"/>
              <a:t>July 28, 2026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ress the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37920" y="3429000"/>
            <a:ext cx="1600200" cy="190512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22720" y="3351240"/>
            <a:ext cx="3004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or SYN atta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57A-B65B-421D-BE0C-FD3A8BA9876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00B14-6F9E-4A84-9E2A-357DDCA4C417}" type="datetime3">
              <a:rPr lang="en-US"/>
              <a:t>July 28, 2026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ress the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63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AE19-21F9-464E-A5D0-B447D46A4D5C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05659-4044-4C81-8C67-F02853E8879C}" type="datetime3">
              <a:rPr lang="en-US"/>
              <a:t>July 28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P supplies a reliable connection to the other 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s up “circuit” between client and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ks a stream of data into 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sembles packets into a str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s 1 - 6553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51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TCP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E0C-72FF-4881-8214-E0B6CFA948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B2EB7-DCB2-4C4C-A635-9FE7BC59C82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opens connection “from” truste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73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390320" y="472428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49560" y="2592360"/>
            <a:ext cx="716220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47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477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BED-D4AF-4D2C-9BF6-82A3E757BF0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57052-6CFD-4193-A01C-DA31F25C4C89}" type="datetime3">
              <a:rPr lang="en-US"/>
              <a:t>July 28, 2026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seems to come fro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usted client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85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390320" y="472428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560" y="2592360"/>
            <a:ext cx="716220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477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477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EE11-E2DC-4DAE-8D8B-6A797FB5D129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574AB-F369-434D-8271-8C689A85AE85}" type="datetime3">
              <a:rPr lang="en-US"/>
              <a:t>July 28, 2026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 responds to dead cli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598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697-0137-4423-96F3-139861878EA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E6A04-AC34-4628-AFC2-39F79AB2F9D0}" type="datetime3">
              <a:rPr lang="en-US"/>
              <a:t>July 28, 2026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oof final open mess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611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033080" y="446580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506760" y="4192560"/>
            <a:ext cx="609588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20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209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EF3A-795C-4E25-814D-E66568910DE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77533-2A23-465B-BDD2-1317FF6A46E8}" type="datetime3">
              <a:rPr lang="en-US"/>
              <a:t>July 28, 2026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Open” is comple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625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506760" y="4192560"/>
            <a:ext cx="609588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20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209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26D-7242-4089-A008-3DA33EE37B31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95BD4-7957-484E-B149-36C94FDEAD30}" type="datetime3">
              <a:rPr lang="en-US"/>
              <a:t>July 28, 2026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 Spoof of a Trusted Clien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Server to outside acc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965160" y="2108160"/>
            <a:ext cx="812880" cy="812880"/>
            <a:chOff x="965160" y="2108160"/>
            <a:chExt cx="812880" cy="812880"/>
          </a:xfrm>
        </p:grpSpPr>
        <p:sp>
          <p:nvSpPr>
            <p:cNvPr id="639" name=""/>
            <p:cNvSpPr/>
            <p:nvPr/>
          </p:nvSpPr>
          <p:spPr>
            <a:xfrm>
              <a:off x="965160" y="2108160"/>
              <a:ext cx="812880" cy="8128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43000" y="2209680"/>
              <a:ext cx="457200" cy="60984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02040" y="4192560"/>
            <a:ext cx="3505320" cy="228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688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6886"/>
              </a:path>
            </a:pathLst>
          </a:custGeom>
          <a:noFill/>
          <a:ln cap="rnd"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45840" y="4770360"/>
            <a:ext cx="3286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evil trusted comma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CFA-F66C-4F92-8DA7-E224874346F1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DFC9F-9D11-4FFA-8A67-462C31276541}" type="datetime3">
              <a:rPr lang="en-US"/>
              <a:t>July 28, 2026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venting IP spoof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ofing can be stopped at the perime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ternal addresses accepted from the outsid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s to have a coherent address 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irewall can prevent access al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-based authentication is a BAD IDE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AAF-1A45-4FBE-A9FF-37AFF187236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2F7B4-4F83-430C-8FB9-66899B8727D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P hijack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0855-B3A9-41CF-AE55-81B0CF3D798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36858-1F84-4F69-AC90-DD36015D2E1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ttacker is watching an existing connection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haps through the strong authentication st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B33-7D47-428C-8DBF-6FAD955F1417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776D5-4434-48DA-89C1-61F5F8B147B5}" type="datetime3">
              <a:rPr lang="en-US"/>
              <a:t>July 28, 2026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ill the client connection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438280" y="2971800"/>
            <a:ext cx="4191120" cy="0"/>
          </a:xfrm>
          <a:prstGeom prst="line">
            <a:avLst/>
          </a:prstGeom>
          <a:ln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114800" y="2971800"/>
            <a:ext cx="0" cy="2362320"/>
          </a:xfrm>
          <a:prstGeom prst="line">
            <a:avLst/>
          </a:prstGeom>
          <a:ln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2437920" y="2971800"/>
            <a:ext cx="1600200" cy="236232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4640" y="4494240"/>
            <a:ext cx="260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killer pa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D88-48BB-467C-A8A5-A4C9A0596B3E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D7C4F-BAC4-4C3F-B8AB-0B7FA6A60BA9}" type="datetime3">
              <a:rPr lang="en-US"/>
              <a:t>July 28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onless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rror corr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low contr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itable for some network services that don’t have to be reliable, like v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s are number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6553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rule, its connectionless-nature makes it dangero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58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</a:t>
              </a: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035-DC4C-49AB-A9F2-FEBC8F2E04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AB333-0EC5-4A08-83C8-5BF58637959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d continue the connec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63960" y="2744640"/>
            <a:ext cx="533340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954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954"/>
              </a:path>
            </a:pathLst>
          </a:custGeom>
          <a:noFill/>
          <a:ln cap="rnd" w="50760">
            <a:solidFill>
              <a:srgbClr val="0099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361960" y="2743200"/>
            <a:ext cx="4190760" cy="0"/>
          </a:xfrm>
          <a:prstGeom prst="line">
            <a:avLst/>
          </a:prstGeom>
          <a:ln w="25560">
            <a:solidFill>
              <a:srgbClr val="0099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108160" y="2489040"/>
            <a:ext cx="584280" cy="584280"/>
            <a:chOff x="2108160" y="2489040"/>
            <a:chExt cx="584280" cy="584280"/>
          </a:xfrm>
        </p:grpSpPr>
        <p:sp>
          <p:nvSpPr>
            <p:cNvPr id="680" name=""/>
            <p:cNvSpPr/>
            <p:nvPr/>
          </p:nvSpPr>
          <p:spPr>
            <a:xfrm>
              <a:off x="2108160" y="2489040"/>
              <a:ext cx="584280" cy="584280"/>
            </a:xfrm>
            <a:prstGeom prst="ellipse">
              <a:avLst/>
            </a:prstGeom>
            <a:noFill/>
            <a:ln w="1015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28760" y="2552760"/>
              <a:ext cx="343080" cy="4572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25D0-82E5-4F2F-9961-7243BA24555D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6CBCD-F6DF-4679-B74D-12BBE60B2551}" type="datetime3">
              <a:rPr lang="en-US"/>
              <a:t>July 28, 2026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hijac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s over an existing, authenticated conn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access to the packet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tools are available to the hackers n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ographic signatures of packets can defeat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413-D8C7-4F77-B650-25CE0CD6BE5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D04D9-7255-43F9-A379-4949333BC97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4A3-A357-41AE-B856-3F7AA2DBED1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542A3-56ED-46D1-A897-76295BBD405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38280" y="2971800"/>
            <a:ext cx="3124440" cy="0"/>
          </a:xfrm>
          <a:prstGeom prst="line">
            <a:avLst/>
          </a:prstGeom>
          <a:ln w="255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4267080" y="3048120"/>
            <a:ext cx="23623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495320" y="3048120"/>
            <a:ext cx="21337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724280" y="3048120"/>
            <a:ext cx="19051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952520" y="3048120"/>
            <a:ext cx="16765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181480" y="2971800"/>
            <a:ext cx="1447920" cy="236232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5409720" y="3048120"/>
            <a:ext cx="121932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3962520" y="3048120"/>
            <a:ext cx="2666880" cy="2286000"/>
          </a:xfrm>
          <a:prstGeom prst="line">
            <a:avLst/>
          </a:prstGeom>
          <a:ln w="255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5061-F064-4C85-B32F-A6144127E998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1FE8C-6133-4B81-BDE2-7BE2111E1202}" type="datetime3">
              <a:rPr lang="en-US"/>
              <a:t>July 28, 2026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ial-of-servic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your face - not subtle like traditional hacking att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packets are very hard to tr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go on for wee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ackers can exploit poor local software or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y flood the site’s network with incoming pa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These attacks are </a:t>
            </a:r>
            <a:r>
              <a:rPr b="1" i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always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possible on a public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A007-13DA-4037-A35D-C603859840C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9D46B-BBCF-494C-926A-E4EBB5D080F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 packet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85A2-A5DB-44A6-AF45-5D3A71EF1AA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D28EE-4C27-4282-9368-53A4F3B9BEA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457000" y="2270160"/>
            <a:ext cx="1637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YN,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14040" y="2879640"/>
            <a:ext cx="21020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YN,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513520" y="3641760"/>
            <a:ext cx="244944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AC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Q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+1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,SEQ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533-DE48-4648-B9BC-8501C543C3C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56316-89AA-4584-8E1E-7B3E559EA7A2}" type="datetime3">
              <a:rPr lang="en-US"/>
              <a:t>July 28, 202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rmal TCP op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781680" y="2765520"/>
            <a:ext cx="2210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half-o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&lt;300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38280" y="2133720"/>
            <a:ext cx="4191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2438280" y="2666880"/>
            <a:ext cx="419112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38280" y="3429000"/>
            <a:ext cx="419112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934320" y="26668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EB4-A95D-4F1B-B1F9-A3740217DAEE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7570E-36D2-455C-9290-E503883A95A5}" type="datetime3">
              <a:rPr lang="en-US"/>
              <a:t>July 28, 2026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YN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3841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seen at Panix.com in fall 199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-open processing was implemented poor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ehavi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n’t much call for improving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been expecting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nly thing we left out of our firewalls boo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d at the last min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knew of no good 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sorry we left it 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48320" y="1307880"/>
            <a:ext cx="38433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ew one appeared in fall 199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 with same source and destination address kills some TCP/IP implem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There will be more attacks on TCP/IP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lots of code invol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hard to test code in a kern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5EB-BB1F-4B43-9AEE-1AF15E649248}" type="slidenum">
              <a:t>7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8D2AA-8783-4689-9B8A-C3B130432AE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g flood (smurf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3BB-3FC3-450C-9002-88015C0EECF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91710-1563-4647-A6E0-F2F8A26AF2B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9760" y="1307880"/>
            <a:ext cx="384192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s have limited siz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be dropped in transit if conges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arrive out of or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be dupli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ing by IP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 using IP Version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37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6 is dubio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/SEC gives authentication and/or encry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be tunne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6440" y="1854360"/>
            <a:ext cx="3606840" cy="4140000"/>
            <a:chOff x="406440" y="1854360"/>
            <a:chExt cx="3606840" cy="4140000"/>
          </a:xfrm>
        </p:grpSpPr>
        <p:sp>
          <p:nvSpPr>
            <p:cNvPr id="165" name=""/>
            <p:cNvSpPr/>
            <p:nvPr/>
          </p:nvSpPr>
          <p:spPr>
            <a:xfrm>
              <a:off x="464760" y="1979640"/>
              <a:ext cx="3492000" cy="39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pplication leve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TCP or UD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9900"/>
                  </a:solidFill>
                  <a:latin typeface="Arial"/>
                </a:rPr>
                <a:t>I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Ethernet, etc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6440" y="1854360"/>
              <a:ext cx="3606840" cy="4140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6440" y="28447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6440" y="4902120"/>
              <a:ext cx="3606840" cy="109224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5D6-24FA-42C3-829E-EDC670CF3E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45F10-851B-436A-866C-9716C96546C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y ping genera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2BE8-C6F9-4413-9212-B10F9DB4CB0C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5207C-8F44-4566-B4B5-B951E32F5DD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igger packets with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oofed return addr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163560" y="5234040"/>
            <a:ext cx="931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92360" y="3735360"/>
            <a:ext cx="396216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1" y="0"/>
                </a:moveTo>
                <a:arcTo wR="10800" hR="10800" stAng="-5402755" swAng="5402755"/>
                <a:lnTo>
                  <a:pt x="10800" y="10800"/>
                </a:lnTo>
                <a:close/>
              </a:path>
              <a:path fill="none" w="21600" h="21600">
                <a:moveTo>
                  <a:pt x="10791" y="0"/>
                </a:moveTo>
                <a:arcTo wR="10800" hR="10800" stAng="-5402755" swAng="5402755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337480" y="3887640"/>
            <a:ext cx="42242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5" y="4435"/>
                </a:moveTo>
                <a:arcTo wR="10800" hR="10800" stAng="-8633488" swAng="8346488"/>
                <a:lnTo>
                  <a:pt x="10800" y="10800"/>
                </a:lnTo>
                <a:close/>
              </a:path>
              <a:path fill="none" w="21600" h="21600">
                <a:moveTo>
                  <a:pt x="2075" y="4435"/>
                </a:moveTo>
                <a:arcTo wR="10800" hR="10800" stAng="-8633488" swAng="834648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-988920" y="3506760"/>
            <a:ext cx="746712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-760320" y="2135160"/>
            <a:ext cx="746712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5" y="0"/>
                </a:moveTo>
                <a:arcTo wR="10800" hR="10800" stAng="-5401461" swAng="5401461"/>
                <a:lnTo>
                  <a:pt x="10800" y="10800"/>
                </a:lnTo>
                <a:close/>
              </a:path>
              <a:path fill="none" w="21600" h="21600">
                <a:moveTo>
                  <a:pt x="10795" y="0"/>
                </a:moveTo>
                <a:arcTo wR="10800" hR="10800" stAng="-5401461" swAng="5401461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3810240" y="1830240"/>
            <a:ext cx="10515600" cy="701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038" swAng="540103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038" swAng="540103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4570560" y="3583080"/>
            <a:ext cx="1127736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0968" swAng="540096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0968" swAng="5400968"/>
              </a:path>
            </a:pathLst>
          </a:custGeom>
          <a:noFill/>
          <a:ln cap="rnd" w="25560">
            <a:solidFill>
              <a:srgbClr val="ff0033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383-FE52-4504-BF9D-34FA5D0CBE7C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34D61-F47A-4DC5-8377-1E89400AC6E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rators flood the targ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ith pack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956200" y="3517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946920" y="34416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41800" y="4889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194440" y="29844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280040" y="2603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80040" y="30607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80040" y="3594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08640" y="549900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46609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84400" y="29084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146320" y="24512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070000" y="313704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289320" y="3746520"/>
            <a:ext cx="279360" cy="279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6248160" y="35812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 flipV="1">
            <a:off x="5486400" y="3200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5257440" y="3733920"/>
            <a:ext cx="76212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4648320" y="4876560"/>
            <a:ext cx="3808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4723920" y="518148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4571640" y="32004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H="1">
            <a:off x="4571640" y="3124080"/>
            <a:ext cx="6094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4571640" y="281916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4114440" y="1828440"/>
            <a:ext cx="22860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 flipV="1">
            <a:off x="3048120" y="2209680"/>
            <a:ext cx="121896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3276360" y="30477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 flipV="1">
            <a:off x="2438280" y="266652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2361960" y="3124080"/>
            <a:ext cx="6094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3580920" y="37339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523880" y="182844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1371240" y="2666880"/>
            <a:ext cx="7621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1143000" y="3352680"/>
            <a:ext cx="9907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 flipV="1">
            <a:off x="2666880" y="358092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2971800" y="39625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 flipV="1">
            <a:off x="3962520" y="449532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962520" y="4800600"/>
            <a:ext cx="380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3886200" y="495288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 flipV="1">
            <a:off x="3809520" y="556236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4191120" y="5715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226640" y="3154320"/>
            <a:ext cx="835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163560" y="5234040"/>
            <a:ext cx="931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32600" y="43275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3803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0120" y="34131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237320" y="15843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685240" y="19652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09120" y="35654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956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2860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3429000" y="2895480"/>
            <a:ext cx="91440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95680" y="3276720"/>
            <a:ext cx="14479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676520" y="1828800"/>
            <a:ext cx="5259240" cy="1601640"/>
          </a:xfrm>
          <a:custGeom>
            <a:avLst/>
            <a:gdLst/>
            <a:ahLst/>
            <a:rect l="l" t="t" r="r" b="b"/>
            <a:pathLst>
              <a:path w="3313" h="1009">
                <a:moveTo>
                  <a:pt x="0" y="0"/>
                </a:moveTo>
                <a:lnTo>
                  <a:pt x="432" y="336"/>
                </a:lnTo>
                <a:lnTo>
                  <a:pt x="960" y="672"/>
                </a:lnTo>
                <a:lnTo>
                  <a:pt x="1632" y="768"/>
                </a:lnTo>
                <a:lnTo>
                  <a:pt x="1654" y="798"/>
                </a:lnTo>
                <a:lnTo>
                  <a:pt x="2736" y="1008"/>
                </a:lnTo>
                <a:lnTo>
                  <a:pt x="3312" y="1008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124080" y="2057400"/>
            <a:ext cx="4040280" cy="1601640"/>
          </a:xfrm>
          <a:custGeom>
            <a:avLst/>
            <a:gdLst/>
            <a:ahLst/>
            <a:rect l="l" t="t" r="r" b="b"/>
            <a:pathLst>
              <a:path w="2545" h="1009">
                <a:moveTo>
                  <a:pt x="0" y="0"/>
                </a:moveTo>
                <a:lnTo>
                  <a:pt x="816" y="384"/>
                </a:lnTo>
                <a:lnTo>
                  <a:pt x="1392" y="624"/>
                </a:lnTo>
                <a:lnTo>
                  <a:pt x="1920" y="1008"/>
                </a:lnTo>
                <a:lnTo>
                  <a:pt x="2544" y="96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066680" y="2971800"/>
            <a:ext cx="6097680" cy="687240"/>
          </a:xfrm>
          <a:custGeom>
            <a:avLst/>
            <a:gdLst/>
            <a:ahLst/>
            <a:rect l="l" t="t" r="r" b="b"/>
            <a:pathLst>
              <a:path w="3841" h="433">
                <a:moveTo>
                  <a:pt x="0" y="384"/>
                </a:moveTo>
                <a:lnTo>
                  <a:pt x="768" y="240"/>
                </a:lnTo>
                <a:lnTo>
                  <a:pt x="1344" y="0"/>
                </a:lnTo>
                <a:lnTo>
                  <a:pt x="2112" y="144"/>
                </a:lnTo>
                <a:lnTo>
                  <a:pt x="3264" y="432"/>
                </a:lnTo>
                <a:lnTo>
                  <a:pt x="3840" y="384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743200" y="3124080"/>
            <a:ext cx="4497480" cy="763560"/>
          </a:xfrm>
          <a:custGeom>
            <a:avLst/>
            <a:gdLst/>
            <a:ahLst/>
            <a:rect l="l" t="t" r="r" b="b"/>
            <a:pathLst>
              <a:path w="2833" h="481">
                <a:moveTo>
                  <a:pt x="0" y="336"/>
                </a:moveTo>
                <a:lnTo>
                  <a:pt x="432" y="480"/>
                </a:lnTo>
                <a:lnTo>
                  <a:pt x="462" y="472"/>
                </a:lnTo>
                <a:lnTo>
                  <a:pt x="1104" y="384"/>
                </a:lnTo>
                <a:lnTo>
                  <a:pt x="1102" y="362"/>
                </a:lnTo>
                <a:lnTo>
                  <a:pt x="1680" y="0"/>
                </a:lnTo>
                <a:lnTo>
                  <a:pt x="2112" y="336"/>
                </a:lnTo>
                <a:lnTo>
                  <a:pt x="2832" y="24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819520" y="3048120"/>
            <a:ext cx="4268520" cy="1449360"/>
          </a:xfrm>
          <a:custGeom>
            <a:avLst/>
            <a:gdLst/>
            <a:ahLst/>
            <a:rect l="l" t="t" r="r" b="b"/>
            <a:pathLst>
              <a:path w="2689" h="913">
                <a:moveTo>
                  <a:pt x="0" y="912"/>
                </a:moveTo>
                <a:lnTo>
                  <a:pt x="384" y="528"/>
                </a:lnTo>
                <a:lnTo>
                  <a:pt x="1008" y="432"/>
                </a:lnTo>
                <a:lnTo>
                  <a:pt x="1632" y="0"/>
                </a:lnTo>
                <a:lnTo>
                  <a:pt x="2112" y="384"/>
                </a:lnTo>
                <a:lnTo>
                  <a:pt x="2688" y="336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419720" y="3200400"/>
            <a:ext cx="2744640" cy="579600"/>
          </a:xfrm>
          <a:custGeom>
            <a:avLst/>
            <a:gdLst/>
            <a:ahLst/>
            <a:rect l="l" t="t" r="r" b="b"/>
            <a:pathLst>
              <a:path w="1729" h="365">
                <a:moveTo>
                  <a:pt x="0" y="336"/>
                </a:moveTo>
                <a:lnTo>
                  <a:pt x="624" y="0"/>
                </a:lnTo>
                <a:lnTo>
                  <a:pt x="1104" y="336"/>
                </a:lnTo>
                <a:lnTo>
                  <a:pt x="1106" y="364"/>
                </a:lnTo>
                <a:lnTo>
                  <a:pt x="1728" y="288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892-7698-4CCB-8187-BF49467FFF94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F4846-013A-4B2D-BC1A-868D5E93B92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ebac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rget cannot tell where the trigger is coming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acking hosts may not know that they are being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storms can generate more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BF9-84ED-4B6F-BF11-AD7FCD0B7AC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1B003-AA0B-40E8-8359-F9FD482B7CC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S, routing, and infrastructure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AFA-5DAF-4D6F-AD34-690FFF2D69D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C589F-63B5-4F77-9EF7-FA309BBEBEA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-2511720" y="2820960"/>
            <a:ext cx="9900360" cy="5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102" swAng="338411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102" swAng="3384118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4A9-FFCE-4C4D-A706-C548A252C896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12E7A-80C9-49E3-8AB4-EE70DFFEF5BE}" type="datetime3">
              <a:rPr lang="en-US"/>
              <a:t>July 28, 2026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-2511720" y="2820960"/>
            <a:ext cx="9900360" cy="5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0"/>
                </a:moveTo>
                <a:arcTo wR="10800" hR="10800" stAng="-5401102" swAng="3384118"/>
                <a:lnTo>
                  <a:pt x="10800" y="10800"/>
                </a:lnTo>
                <a:close/>
              </a:path>
              <a:path fill="none" w="21600" h="21600">
                <a:moveTo>
                  <a:pt x="10797" y="0"/>
                </a:moveTo>
                <a:arcTo wR="10800" hR="10800" stAng="-5401102" swAng="3384118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4267080" y="2819160"/>
            <a:ext cx="0" cy="251460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600360" y="227016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798-4BA0-4320-905E-D8F43D9F545E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70245-DC9E-4207-8763-64A1D930E042}" type="datetime3">
              <a:rPr lang="en-US"/>
              <a:t>July 28, 202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g attack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cket Diversion and man-in-the-middl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2544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80880" y="2155680"/>
            <a:ext cx="1990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Cl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649920" y="2000160"/>
            <a:ext cx="2075040" cy="2305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705720" y="2155680"/>
            <a:ext cx="1990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Ser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857680" y="5372280"/>
            <a:ext cx="2666880" cy="6858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71800" y="5430960"/>
            <a:ext cx="25146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Attack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990720" y="2820960"/>
            <a:ext cx="28951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769" swAng="5403769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769" swAng="5403769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802040" y="2744640"/>
            <a:ext cx="365724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7016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7016"/>
              </a:path>
            </a:pathLst>
          </a:custGeom>
          <a:noFill/>
          <a:ln cap="rnd" w="50760">
            <a:solidFill>
              <a:srgbClr val="0099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00360" y="2270160"/>
            <a:ext cx="118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ou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4E3-6805-4EA3-B95C-2BB7E1D92184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97103-92FC-4056-A89B-EB90A88072B6}" type="datetime3">
              <a:rPr lang="en-US"/>
              <a:t>July 28, 2026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NS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an extra “glue” record on a DNS qu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cache time-out hides the evi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est bind program checks for th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S cache poisoning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ture DNS server and return incorrect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SSEC can fix th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ing through final comments n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4D9-3733-4147-ADC1-4732AE810C2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3EE7A-046D-40CC-BD23-D9DBE644740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rastructure attac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tools are still wea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henticated BGP4 is co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 up with the latest nam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o secure router implementations, when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what will you do if the entire Internet is down for a wee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73D-50D9-4EF1-B64B-77A23F85F90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3B7ED-AF3C-4046-9977-2120EA9284D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CP/IP stack is hard to d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,000 lines of code is typi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Cs don’t give all the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takes practice and experience to get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arning curve is still evident in Linux and Microsof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kernel-level code: debugging is tedio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 to debug error states in a protoco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D01-5CD0-435D-97FF-876EF2CB5E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54143-4486-47B1-AD53-C21A320D598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ttac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cial Enginee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C01-5271-4A0F-89AD-E3D26CAF8A5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B34B3-97C3-4A65-AFEB-7F2583072A5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cial Engineering (cont.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26920" y="3510000"/>
            <a:ext cx="5421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infect your compu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ECDB-C194-470F-9229-0E6AD430B788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DB71D-F9D6-4BAF-BD7F-93EA4FED433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297000" y="1946160"/>
            <a:ext cx="8636040" cy="384516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/>
          <p:nvPr/>
        </p:nvSpPr>
        <p:spPr>
          <a:xfrm>
            <a:off x="484200" y="63360"/>
            <a:ext cx="8502480" cy="8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nother problem with strange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75C-5187-4D10-B4BC-9462BEE4368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09702-F9F1-40FB-87EF-63B727734E0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cial Engineer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502280" y="1987560"/>
            <a:ext cx="51854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``Hello, this is Dennis Ritchie c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’m in Israel now and I have forg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y password.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``Hello, &lt;admin-name&gt;, I’ve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rted work here.  &lt;Boss-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id I should have an account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target-host&gt;‘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2AF-7685-4F33-A677-816EB06D363A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A6ECF-A4B5-4F1F-BD8D-FDA7BBAE6109}" type="datetime3">
              <a:rPr lang="en-US"/>
              <a:t>July 28, 2026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dangerous out there, especially at the server 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s should be programmed carefully and defensiv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s should avoid Java and Javascript, and run a virus check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C176-530A-4478-AF96-1A654E9AF9FA}" type="slidenum">
              <a:t>9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11D16-09E1-492B-8578-C977601AA88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Gory Enough For You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traq mailing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walls and Internet Secu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man and Zwick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word search in search engines for hack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tkit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F9B-AA5B-4301-8959-71D2F11F47A3}" type="slidenum">
              <a:t>9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22E81-F3CC-4569-8210-63638811CC4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84200" y="63000"/>
            <a:ext cx="8502480" cy="8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y Inform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53760" y="1307880"/>
            <a:ext cx="7837560" cy="496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www.cs.bell-labs.com/~ches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“cheswick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@bell-labs.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25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rewalls and Internet Security: Repelling the Wily Hac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swick and Bellov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buClr>
                <a:srgbClr val="d6012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BN 0-201-63357-4, Addison Wesley, 1994. Also in German, Japanese, and Fren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d60122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, I’d love to sign your b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sec 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E0E-7B87-4ABE-8B05-A512C63BA98B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2D215-8D61-47C1-AFD7-B68DA5AE332D}" type="datetime3">
              <a:rPr lang="en-US"/>
              <a:t>July 28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17T13:26:38Z</dcterms:created>
  <dc:creator>Bill Cheswick</dc:creator>
  <dc:description>Do not eat yellow snow.</dc:description>
  <cp:keywords>encryption Internet security tools</cp:keywords>
  <dc:language>en-US</dc:language>
  <cp:lastModifiedBy>Bill Cheswick</cp:lastModifiedBy>
  <dcterms:modified xsi:type="dcterms:W3CDTF">1998-11-12T14:54:20Z</dcterms:modified>
  <cp:revision>52</cp:revision>
  <dc:subject>Encryption Software for the Internet</dc:subject>
  <dc:title>Commercial Munitions on the Internet</dc:title>
</cp:coreProperties>
</file>